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C3F6-FF4B-49F9-BAAB-A3C09968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8E8-AC0D-4E2E-9990-7C240545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5FB-D242-4AEF-909D-474A538A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8DB6-DFD8-4150-BB1B-F600C406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E65B-B047-47C7-A040-5231FC39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6961-BA43-423B-896F-B8BC5429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C3B6-9714-44FE-8414-5AA3A118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1101-EBA8-41CD-AAED-5470E2BC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498-DD8C-4F74-8967-4635B129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E59-AE2A-4EA6-85E2-ABAFFD7E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80A4-F256-4A38-84D1-315DB338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3A2-53CA-42A5-9B90-29B56058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9E50-987B-4D53-B537-4ADD3493C7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free_graph_downloads/handygraph1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free_graph_downloads/handygraph1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905120" y="1371600"/>
            <a:ext cx="55623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Home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Chec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Any vector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= &lt;a, b&gt; can be written in terms of unit vectors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and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65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1" lang="en-US" sz="65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6500" spc="-1" strike="noStrike">
                <a:solidFill>
                  <a:srgbClr val="ffffff"/>
                </a:solidFill>
                <a:latin typeface="Arial"/>
              </a:rPr>
              <a:t>+ b</a:t>
            </a:r>
            <a:r>
              <a:rPr b="1" lang="en-US" sz="6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nent For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ctor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3,5&gt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i+5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-2,-7&gt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2i-7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Ink 4"/>
          <p:cNvSpPr/>
          <p:nvPr/>
        </p:nvSpPr>
        <p:spPr>
          <a:xfrm>
            <a:off x="669960" y="3483000"/>
            <a:ext cx="1135080" cy="419040"/>
          </a:xfrm>
          <a:custGeom>
            <a:avLst/>
            <a:gdLst/>
            <a:ahLst/>
            <a:rect l="l" t="t" r="r" b="b"/>
            <a:pathLst>
              <a:path w="3152" h="1167">
                <a:moveTo>
                  <a:pt x="2257" y="9748"/>
                </a:moveTo>
                <a:cubicBezTo>
                  <a:pt x="2235" y="9764"/>
                  <a:pt x="2162" y="9816"/>
                  <a:pt x="2133" y="9847"/>
                </a:cubicBezTo>
                <a:cubicBezTo>
                  <a:pt x="2092" y="9890"/>
                  <a:pt x="2054" y="9935"/>
                  <a:pt x="2009" y="9971"/>
                </a:cubicBezTo>
                <a:cubicBezTo>
                  <a:pt x="1977" y="9996"/>
                  <a:pt x="1931" y="10041"/>
                  <a:pt x="1910" y="10071"/>
                </a:cubicBezTo>
                <a:cubicBezTo>
                  <a:pt x="1856" y="10147"/>
                  <a:pt x="1872" y="10091"/>
                  <a:pt x="1860" y="10195"/>
                </a:cubicBezTo>
                <a:cubicBezTo>
                  <a:pt x="1932" y="10205"/>
                  <a:pt x="1945" y="10229"/>
                  <a:pt x="1984" y="10294"/>
                </a:cubicBezTo>
                <a:cubicBezTo>
                  <a:pt x="2013" y="10344"/>
                  <a:pt x="2077" y="10381"/>
                  <a:pt x="2108" y="10418"/>
                </a:cubicBezTo>
                <a:cubicBezTo>
                  <a:pt x="2161" y="10481"/>
                  <a:pt x="2232" y="10534"/>
                  <a:pt x="2282" y="10592"/>
                </a:cubicBezTo>
                <a:cubicBezTo>
                  <a:pt x="2313" y="10628"/>
                  <a:pt x="2336" y="10691"/>
                  <a:pt x="2381" y="10716"/>
                </a:cubicBezTo>
                <a:cubicBezTo>
                  <a:pt x="2389" y="10716"/>
                  <a:pt x="2398" y="10716"/>
                  <a:pt x="2406" y="10716"/>
                </a:cubicBezTo>
              </a:path>
              <a:path w="3152" h="1167">
                <a:moveTo>
                  <a:pt x="2505" y="9847"/>
                </a:moveTo>
                <a:cubicBezTo>
                  <a:pt x="2581" y="9869"/>
                  <a:pt x="2585" y="9897"/>
                  <a:pt x="2679" y="9897"/>
                </a:cubicBezTo>
                <a:cubicBezTo>
                  <a:pt x="2770" y="9897"/>
                  <a:pt x="2861" y="9897"/>
                  <a:pt x="2952" y="9897"/>
                </a:cubicBezTo>
                <a:cubicBezTo>
                  <a:pt x="2941" y="9950"/>
                  <a:pt x="2943" y="10021"/>
                  <a:pt x="2927" y="10071"/>
                </a:cubicBezTo>
                <a:cubicBezTo>
                  <a:pt x="2906" y="10136"/>
                  <a:pt x="2922" y="10206"/>
                  <a:pt x="2902" y="10269"/>
                </a:cubicBezTo>
                <a:cubicBezTo>
                  <a:pt x="2881" y="10336"/>
                  <a:pt x="2897" y="10420"/>
                  <a:pt x="2877" y="10492"/>
                </a:cubicBezTo>
                <a:cubicBezTo>
                  <a:pt x="2849" y="10521"/>
                  <a:pt x="2841" y="10534"/>
                  <a:pt x="2853" y="10567"/>
                </a:cubicBezTo>
              </a:path>
              <a:path w="3152" h="1167">
                <a:moveTo>
                  <a:pt x="3175" y="10492"/>
                </a:moveTo>
                <a:cubicBezTo>
                  <a:pt x="3163" y="10575"/>
                  <a:pt x="3158" y="10735"/>
                  <a:pt x="3125" y="10815"/>
                </a:cubicBezTo>
                <a:cubicBezTo>
                  <a:pt x="3117" y="10823"/>
                  <a:pt x="3109" y="10832"/>
                  <a:pt x="3101" y="10840"/>
                </a:cubicBezTo>
              </a:path>
              <a:path w="3152" h="1167">
                <a:moveTo>
                  <a:pt x="3448" y="10120"/>
                </a:moveTo>
                <a:cubicBezTo>
                  <a:pt x="3524" y="10149"/>
                  <a:pt x="3588" y="10145"/>
                  <a:pt x="3671" y="10145"/>
                </a:cubicBezTo>
                <a:cubicBezTo>
                  <a:pt x="3696" y="10145"/>
                  <a:pt x="3721" y="10145"/>
                  <a:pt x="3746" y="10145"/>
                </a:cubicBezTo>
              </a:path>
              <a:path w="3152" h="1167">
                <a:moveTo>
                  <a:pt x="3845" y="9897"/>
                </a:moveTo>
                <a:cubicBezTo>
                  <a:pt x="3877" y="9858"/>
                  <a:pt x="3951" y="9810"/>
                  <a:pt x="4018" y="9847"/>
                </a:cubicBezTo>
                <a:cubicBezTo>
                  <a:pt x="4117" y="9903"/>
                  <a:pt x="4138" y="9922"/>
                  <a:pt x="4142" y="10046"/>
                </a:cubicBezTo>
                <a:cubicBezTo>
                  <a:pt x="4144" y="10111"/>
                  <a:pt x="4139" y="10217"/>
                  <a:pt x="4093" y="10269"/>
                </a:cubicBezTo>
                <a:cubicBezTo>
                  <a:pt x="4055" y="10312"/>
                  <a:pt x="3989" y="10379"/>
                  <a:pt x="3969" y="10418"/>
                </a:cubicBezTo>
                <a:cubicBezTo>
                  <a:pt x="3931" y="10493"/>
                  <a:pt x="3911" y="10492"/>
                  <a:pt x="3870" y="10567"/>
                </a:cubicBezTo>
                <a:cubicBezTo>
                  <a:pt x="3910" y="10588"/>
                  <a:pt x="3932" y="10567"/>
                  <a:pt x="3994" y="10567"/>
                </a:cubicBezTo>
                <a:cubicBezTo>
                  <a:pt x="4067" y="10567"/>
                  <a:pt x="4156" y="10562"/>
                  <a:pt x="4217" y="10592"/>
                </a:cubicBezTo>
                <a:cubicBezTo>
                  <a:pt x="4294" y="10630"/>
                  <a:pt x="4359" y="10682"/>
                  <a:pt x="4440" y="10691"/>
                </a:cubicBezTo>
                <a:cubicBezTo>
                  <a:pt x="4481" y="10691"/>
                  <a:pt x="4489" y="10691"/>
                  <a:pt x="4514" y="10691"/>
                </a:cubicBezTo>
              </a:path>
              <a:path w="3152" h="1167">
                <a:moveTo>
                  <a:pt x="4366" y="9674"/>
                </a:moveTo>
                <a:cubicBezTo>
                  <a:pt x="4418" y="9727"/>
                  <a:pt x="4478" y="9783"/>
                  <a:pt x="4539" y="9823"/>
                </a:cubicBezTo>
                <a:cubicBezTo>
                  <a:pt x="4608" y="9869"/>
                  <a:pt x="4669" y="9925"/>
                  <a:pt x="4738" y="9971"/>
                </a:cubicBezTo>
                <a:cubicBezTo>
                  <a:pt x="4795" y="10009"/>
                  <a:pt x="4893" y="10028"/>
                  <a:pt x="4936" y="10071"/>
                </a:cubicBezTo>
                <a:cubicBezTo>
                  <a:pt x="4975" y="10109"/>
                  <a:pt x="4975" y="10109"/>
                  <a:pt x="5011" y="10145"/>
                </a:cubicBezTo>
                <a:cubicBezTo>
                  <a:pt x="4973" y="10231"/>
                  <a:pt x="4943" y="10272"/>
                  <a:pt x="4887" y="10344"/>
                </a:cubicBezTo>
                <a:cubicBezTo>
                  <a:pt x="4824" y="10425"/>
                  <a:pt x="4767" y="10520"/>
                  <a:pt x="4713" y="10592"/>
                </a:cubicBezTo>
                <a:cubicBezTo>
                  <a:pt x="4674" y="10644"/>
                  <a:pt x="4670" y="10704"/>
                  <a:pt x="4663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5"/>
          <p:cNvSpPr/>
          <p:nvPr/>
        </p:nvSpPr>
        <p:spPr>
          <a:xfrm>
            <a:off x="731880" y="4027320"/>
            <a:ext cx="1019160" cy="428760"/>
          </a:xfrm>
          <a:custGeom>
            <a:avLst/>
            <a:gdLst/>
            <a:ahLst/>
            <a:rect l="l" t="t" r="r" b="b"/>
            <a:pathLst>
              <a:path w="2829" h="1192">
                <a:moveTo>
                  <a:pt x="2456" y="11187"/>
                </a:moveTo>
                <a:cubicBezTo>
                  <a:pt x="2446" y="11263"/>
                  <a:pt x="2424" y="11313"/>
                  <a:pt x="2356" y="11361"/>
                </a:cubicBezTo>
                <a:cubicBezTo>
                  <a:pt x="2295" y="11404"/>
                  <a:pt x="2248" y="11440"/>
                  <a:pt x="2183" y="11485"/>
                </a:cubicBezTo>
                <a:cubicBezTo>
                  <a:pt x="2138" y="11516"/>
                  <a:pt x="2098" y="11545"/>
                  <a:pt x="2059" y="11584"/>
                </a:cubicBezTo>
                <a:cubicBezTo>
                  <a:pt x="2051" y="11592"/>
                  <a:pt x="2042" y="11601"/>
                  <a:pt x="2034" y="11609"/>
                </a:cubicBezTo>
                <a:cubicBezTo>
                  <a:pt x="2077" y="11643"/>
                  <a:pt x="2119" y="11669"/>
                  <a:pt x="2158" y="11708"/>
                </a:cubicBezTo>
                <a:cubicBezTo>
                  <a:pt x="2238" y="11788"/>
                  <a:pt x="2313" y="11866"/>
                  <a:pt x="2406" y="11931"/>
                </a:cubicBezTo>
                <a:cubicBezTo>
                  <a:pt x="2487" y="11988"/>
                  <a:pt x="2577" y="12045"/>
                  <a:pt x="2654" y="12105"/>
                </a:cubicBezTo>
                <a:cubicBezTo>
                  <a:pt x="2726" y="12161"/>
                  <a:pt x="2701" y="12140"/>
                  <a:pt x="2778" y="12154"/>
                </a:cubicBezTo>
              </a:path>
              <a:path w="2829" h="1192">
                <a:moveTo>
                  <a:pt x="2927" y="11361"/>
                </a:moveTo>
                <a:cubicBezTo>
                  <a:pt x="2916" y="11439"/>
                  <a:pt x="2876" y="11526"/>
                  <a:pt x="2853" y="11609"/>
                </a:cubicBezTo>
                <a:cubicBezTo>
                  <a:pt x="2830" y="11693"/>
                  <a:pt x="2793" y="11778"/>
                  <a:pt x="2828" y="11857"/>
                </a:cubicBezTo>
                <a:cubicBezTo>
                  <a:pt x="2886" y="11989"/>
                  <a:pt x="2934" y="12053"/>
                  <a:pt x="3076" y="12080"/>
                </a:cubicBezTo>
                <a:cubicBezTo>
                  <a:pt x="3144" y="12093"/>
                  <a:pt x="3189" y="12044"/>
                  <a:pt x="3225" y="12005"/>
                </a:cubicBezTo>
                <a:cubicBezTo>
                  <a:pt x="3253" y="11974"/>
                  <a:pt x="3275" y="11863"/>
                  <a:pt x="3225" y="11832"/>
                </a:cubicBezTo>
                <a:cubicBezTo>
                  <a:pt x="3169" y="11798"/>
                  <a:pt x="3071" y="11847"/>
                  <a:pt x="3026" y="11881"/>
                </a:cubicBezTo>
                <a:cubicBezTo>
                  <a:pt x="2986" y="11911"/>
                  <a:pt x="2985" y="12035"/>
                  <a:pt x="3001" y="12080"/>
                </a:cubicBezTo>
                <a:cubicBezTo>
                  <a:pt x="3009" y="12088"/>
                  <a:pt x="3018" y="12097"/>
                  <a:pt x="3026" y="12105"/>
                </a:cubicBezTo>
              </a:path>
              <a:path w="2829" h="1192">
                <a:moveTo>
                  <a:pt x="3448" y="12005"/>
                </a:moveTo>
                <a:cubicBezTo>
                  <a:pt x="3435" y="12102"/>
                  <a:pt x="3429" y="12235"/>
                  <a:pt x="3398" y="12328"/>
                </a:cubicBezTo>
                <a:cubicBezTo>
                  <a:pt x="3378" y="12369"/>
                  <a:pt x="3369" y="12396"/>
                  <a:pt x="3373" y="12353"/>
                </a:cubicBezTo>
              </a:path>
              <a:path w="2829" h="1192">
                <a:moveTo>
                  <a:pt x="3770" y="11435"/>
                </a:moveTo>
                <a:cubicBezTo>
                  <a:pt x="3744" y="11482"/>
                  <a:pt x="3684" y="11531"/>
                  <a:pt x="3671" y="11584"/>
                </a:cubicBezTo>
                <a:cubicBezTo>
                  <a:pt x="3654" y="11656"/>
                  <a:pt x="3715" y="11680"/>
                  <a:pt x="3770" y="11683"/>
                </a:cubicBezTo>
                <a:cubicBezTo>
                  <a:pt x="3843" y="11686"/>
                  <a:pt x="3911" y="11693"/>
                  <a:pt x="3969" y="11658"/>
                </a:cubicBezTo>
              </a:path>
              <a:path w="2829" h="1192">
                <a:moveTo>
                  <a:pt x="4043" y="11187"/>
                </a:moveTo>
                <a:cubicBezTo>
                  <a:pt x="4001" y="11356"/>
                  <a:pt x="3974" y="11486"/>
                  <a:pt x="3969" y="11658"/>
                </a:cubicBezTo>
                <a:cubicBezTo>
                  <a:pt x="3966" y="11762"/>
                  <a:pt x="4007" y="11855"/>
                  <a:pt x="4018" y="11956"/>
                </a:cubicBezTo>
                <a:cubicBezTo>
                  <a:pt x="4020" y="11976"/>
                  <a:pt x="4018" y="12146"/>
                  <a:pt x="4043" y="12154"/>
                </a:cubicBezTo>
                <a:cubicBezTo>
                  <a:pt x="4051" y="12146"/>
                  <a:pt x="4060" y="12137"/>
                  <a:pt x="4068" y="12129"/>
                </a:cubicBezTo>
              </a:path>
              <a:path w="2829" h="1192">
                <a:moveTo>
                  <a:pt x="4217" y="11187"/>
                </a:moveTo>
                <a:cubicBezTo>
                  <a:pt x="4266" y="11237"/>
                  <a:pt x="4317" y="11319"/>
                  <a:pt x="4366" y="11361"/>
                </a:cubicBezTo>
                <a:cubicBezTo>
                  <a:pt x="4437" y="11423"/>
                  <a:pt x="4541" y="11457"/>
                  <a:pt x="4614" y="11509"/>
                </a:cubicBezTo>
                <a:cubicBezTo>
                  <a:pt x="4678" y="11555"/>
                  <a:pt x="4747" y="11588"/>
                  <a:pt x="4812" y="11633"/>
                </a:cubicBezTo>
                <a:cubicBezTo>
                  <a:pt x="4884" y="11683"/>
                  <a:pt x="4845" y="11716"/>
                  <a:pt x="4812" y="11782"/>
                </a:cubicBezTo>
                <a:cubicBezTo>
                  <a:pt x="4769" y="11867"/>
                  <a:pt x="4694" y="11930"/>
                  <a:pt x="4638" y="12005"/>
                </a:cubicBezTo>
                <a:cubicBezTo>
                  <a:pt x="4582" y="12081"/>
                  <a:pt x="4532" y="12145"/>
                  <a:pt x="4490" y="12229"/>
                </a:cubicBezTo>
                <a:cubicBezTo>
                  <a:pt x="4482" y="12245"/>
                  <a:pt x="4473" y="12262"/>
                  <a:pt x="4465" y="122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Ink 6"/>
          <p:cNvSpPr/>
          <p:nvPr/>
        </p:nvSpPr>
        <p:spPr>
          <a:xfrm>
            <a:off x="812880" y="4616280"/>
            <a:ext cx="1054080" cy="536760"/>
          </a:xfrm>
          <a:custGeom>
            <a:avLst/>
            <a:gdLst/>
            <a:ahLst/>
            <a:rect l="l" t="t" r="r" b="b"/>
            <a:pathLst>
              <a:path w="2928" h="1489">
                <a:moveTo>
                  <a:pt x="2828" y="12824"/>
                </a:moveTo>
                <a:cubicBezTo>
                  <a:pt x="2812" y="12901"/>
                  <a:pt x="2779" y="12965"/>
                  <a:pt x="2704" y="13022"/>
                </a:cubicBezTo>
                <a:cubicBezTo>
                  <a:pt x="2636" y="13074"/>
                  <a:pt x="2575" y="13145"/>
                  <a:pt x="2505" y="13196"/>
                </a:cubicBezTo>
                <a:cubicBezTo>
                  <a:pt x="2440" y="13244"/>
                  <a:pt x="2367" y="13291"/>
                  <a:pt x="2307" y="13345"/>
                </a:cubicBezTo>
                <a:cubicBezTo>
                  <a:pt x="2282" y="13370"/>
                  <a:pt x="2274" y="13378"/>
                  <a:pt x="2257" y="13395"/>
                </a:cubicBezTo>
                <a:cubicBezTo>
                  <a:pt x="2320" y="13404"/>
                  <a:pt x="2365" y="13444"/>
                  <a:pt x="2406" y="13494"/>
                </a:cubicBezTo>
                <a:cubicBezTo>
                  <a:pt x="2474" y="13578"/>
                  <a:pt x="2540" y="13656"/>
                  <a:pt x="2604" y="13742"/>
                </a:cubicBezTo>
                <a:cubicBezTo>
                  <a:pt x="2697" y="13866"/>
                  <a:pt x="2780" y="13953"/>
                  <a:pt x="2877" y="14064"/>
                </a:cubicBezTo>
              </a:path>
              <a:path w="2928" h="1489">
                <a:moveTo>
                  <a:pt x="3101" y="13047"/>
                </a:moveTo>
                <a:cubicBezTo>
                  <a:pt x="3148" y="13028"/>
                  <a:pt x="3216" y="13039"/>
                  <a:pt x="3274" y="13072"/>
                </a:cubicBezTo>
                <a:cubicBezTo>
                  <a:pt x="3307" y="13091"/>
                  <a:pt x="3426" y="13164"/>
                  <a:pt x="3423" y="13221"/>
                </a:cubicBezTo>
                <a:cubicBezTo>
                  <a:pt x="3418" y="13334"/>
                  <a:pt x="3339" y="13337"/>
                  <a:pt x="3274" y="13370"/>
                </a:cubicBezTo>
                <a:cubicBezTo>
                  <a:pt x="3227" y="13394"/>
                  <a:pt x="3209" y="13395"/>
                  <a:pt x="3150" y="13395"/>
                </a:cubicBezTo>
                <a:cubicBezTo>
                  <a:pt x="3216" y="13446"/>
                  <a:pt x="3299" y="13471"/>
                  <a:pt x="3349" y="13543"/>
                </a:cubicBezTo>
                <a:cubicBezTo>
                  <a:pt x="3397" y="13612"/>
                  <a:pt x="3419" y="13686"/>
                  <a:pt x="3423" y="13767"/>
                </a:cubicBezTo>
                <a:cubicBezTo>
                  <a:pt x="3427" y="13854"/>
                  <a:pt x="3427" y="13894"/>
                  <a:pt x="3349" y="13940"/>
                </a:cubicBezTo>
                <a:cubicBezTo>
                  <a:pt x="3263" y="13991"/>
                  <a:pt x="3159" y="13961"/>
                  <a:pt x="3076" y="13915"/>
                </a:cubicBezTo>
                <a:cubicBezTo>
                  <a:pt x="2998" y="13872"/>
                  <a:pt x="3032" y="13810"/>
                  <a:pt x="3051" y="13742"/>
                </a:cubicBezTo>
              </a:path>
              <a:path w="2928" h="1489">
                <a:moveTo>
                  <a:pt x="3770" y="13841"/>
                </a:moveTo>
                <a:cubicBezTo>
                  <a:pt x="3736" y="13961"/>
                  <a:pt x="3720" y="14074"/>
                  <a:pt x="3671" y="14188"/>
                </a:cubicBezTo>
                <a:cubicBezTo>
                  <a:pt x="3655" y="14226"/>
                  <a:pt x="3646" y="14336"/>
                  <a:pt x="3621" y="14288"/>
                </a:cubicBezTo>
              </a:path>
              <a:path w="2928" h="1489">
                <a:moveTo>
                  <a:pt x="4068" y="13246"/>
                </a:moveTo>
                <a:cubicBezTo>
                  <a:pt x="4008" y="13305"/>
                  <a:pt x="3958" y="13355"/>
                  <a:pt x="3944" y="13444"/>
                </a:cubicBezTo>
                <a:cubicBezTo>
                  <a:pt x="3931" y="13530"/>
                  <a:pt x="3940" y="13637"/>
                  <a:pt x="3969" y="13717"/>
                </a:cubicBezTo>
                <a:cubicBezTo>
                  <a:pt x="4002" y="13806"/>
                  <a:pt x="4061" y="13870"/>
                  <a:pt x="4142" y="13915"/>
                </a:cubicBezTo>
                <a:cubicBezTo>
                  <a:pt x="4225" y="13961"/>
                  <a:pt x="4258" y="13971"/>
                  <a:pt x="4341" y="13915"/>
                </a:cubicBezTo>
                <a:cubicBezTo>
                  <a:pt x="4407" y="13870"/>
                  <a:pt x="4434" y="13677"/>
                  <a:pt x="4440" y="13618"/>
                </a:cubicBezTo>
                <a:cubicBezTo>
                  <a:pt x="4451" y="13505"/>
                  <a:pt x="4404" y="13421"/>
                  <a:pt x="4366" y="13320"/>
                </a:cubicBezTo>
                <a:cubicBezTo>
                  <a:pt x="4337" y="13243"/>
                  <a:pt x="4289" y="13170"/>
                  <a:pt x="4217" y="13122"/>
                </a:cubicBezTo>
                <a:cubicBezTo>
                  <a:pt x="4184" y="13100"/>
                  <a:pt x="4152" y="13081"/>
                  <a:pt x="4118" y="13072"/>
                </a:cubicBezTo>
              </a:path>
              <a:path w="2928" h="1489">
                <a:moveTo>
                  <a:pt x="4564" y="13022"/>
                </a:moveTo>
                <a:cubicBezTo>
                  <a:pt x="4660" y="13118"/>
                  <a:pt x="4763" y="13233"/>
                  <a:pt x="4862" y="13320"/>
                </a:cubicBezTo>
                <a:cubicBezTo>
                  <a:pt x="4940" y="13389"/>
                  <a:pt x="5109" y="13490"/>
                  <a:pt x="5159" y="13568"/>
                </a:cubicBezTo>
                <a:cubicBezTo>
                  <a:pt x="5187" y="13613"/>
                  <a:pt x="5183" y="13683"/>
                  <a:pt x="5135" y="13717"/>
                </a:cubicBezTo>
                <a:cubicBezTo>
                  <a:pt x="5050" y="13778"/>
                  <a:pt x="5004" y="13835"/>
                  <a:pt x="4936" y="13915"/>
                </a:cubicBezTo>
                <a:cubicBezTo>
                  <a:pt x="4878" y="13983"/>
                  <a:pt x="4793" y="14057"/>
                  <a:pt x="4762" y="14139"/>
                </a:cubicBezTo>
                <a:cubicBezTo>
                  <a:pt x="4744" y="14186"/>
                  <a:pt x="4746" y="14205"/>
                  <a:pt x="4762" y="142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Ink 7"/>
          <p:cNvSpPr/>
          <p:nvPr/>
        </p:nvSpPr>
        <p:spPr>
          <a:xfrm>
            <a:off x="4964040" y="3510000"/>
            <a:ext cx="1054080" cy="544320"/>
          </a:xfrm>
          <a:custGeom>
            <a:avLst/>
            <a:gdLst/>
            <a:ahLst/>
            <a:rect l="l" t="t" r="r" b="b"/>
            <a:pathLst>
              <a:path w="2928" h="1514">
                <a:moveTo>
                  <a:pt x="13791" y="9748"/>
                </a:moveTo>
                <a:cubicBezTo>
                  <a:pt x="13928" y="9748"/>
                  <a:pt x="14055" y="9754"/>
                  <a:pt x="14188" y="9773"/>
                </a:cubicBezTo>
                <a:cubicBezTo>
                  <a:pt x="14294" y="9788"/>
                  <a:pt x="14363" y="9796"/>
                  <a:pt x="14461" y="9823"/>
                </a:cubicBezTo>
                <a:cubicBezTo>
                  <a:pt x="14502" y="9834"/>
                  <a:pt x="14567" y="9823"/>
                  <a:pt x="14610" y="9823"/>
                </a:cubicBezTo>
                <a:cubicBezTo>
                  <a:pt x="14528" y="9834"/>
                  <a:pt x="14551" y="9833"/>
                  <a:pt x="14511" y="9922"/>
                </a:cubicBezTo>
                <a:cubicBezTo>
                  <a:pt x="14483" y="9984"/>
                  <a:pt x="14464" y="10056"/>
                  <a:pt x="14461" y="10120"/>
                </a:cubicBezTo>
                <a:cubicBezTo>
                  <a:pt x="14457" y="10214"/>
                  <a:pt x="14453" y="10325"/>
                  <a:pt x="14436" y="10418"/>
                </a:cubicBezTo>
                <a:cubicBezTo>
                  <a:pt x="14421" y="10503"/>
                  <a:pt x="14434" y="10610"/>
                  <a:pt x="14412" y="10691"/>
                </a:cubicBezTo>
                <a:cubicBezTo>
                  <a:pt x="14403" y="10726"/>
                  <a:pt x="14353" y="10849"/>
                  <a:pt x="14387" y="10815"/>
                </a:cubicBezTo>
                <a:cubicBezTo>
                  <a:pt x="14395" y="10798"/>
                  <a:pt x="14404" y="10782"/>
                  <a:pt x="14412" y="10765"/>
                </a:cubicBezTo>
              </a:path>
              <a:path w="2928" h="1514">
                <a:moveTo>
                  <a:pt x="14883" y="10344"/>
                </a:moveTo>
                <a:cubicBezTo>
                  <a:pt x="14883" y="10437"/>
                  <a:pt x="14862" y="10487"/>
                  <a:pt x="14858" y="10567"/>
                </a:cubicBezTo>
                <a:cubicBezTo>
                  <a:pt x="14855" y="10642"/>
                  <a:pt x="14851" y="10705"/>
                  <a:pt x="14883" y="10765"/>
                </a:cubicBezTo>
                <a:cubicBezTo>
                  <a:pt x="14924" y="10841"/>
                  <a:pt x="14922" y="10889"/>
                  <a:pt x="15007" y="10840"/>
                </a:cubicBezTo>
              </a:path>
              <a:path w="2928" h="1514">
                <a:moveTo>
                  <a:pt x="14908" y="10046"/>
                </a:moveTo>
                <a:cubicBezTo>
                  <a:pt x="14883" y="10046"/>
                  <a:pt x="14875" y="10046"/>
                  <a:pt x="14908" y="10046"/>
                </a:cubicBezTo>
              </a:path>
              <a:path w="2928" h="1514">
                <a:moveTo>
                  <a:pt x="15230" y="10344"/>
                </a:moveTo>
                <a:cubicBezTo>
                  <a:pt x="15329" y="10344"/>
                  <a:pt x="15429" y="10344"/>
                  <a:pt x="15528" y="10344"/>
                </a:cubicBezTo>
              </a:path>
              <a:path w="2928" h="1514">
                <a:moveTo>
                  <a:pt x="15825" y="9996"/>
                </a:moveTo>
                <a:cubicBezTo>
                  <a:pt x="15890" y="9968"/>
                  <a:pt x="15977" y="9896"/>
                  <a:pt x="16049" y="9922"/>
                </a:cubicBezTo>
                <a:cubicBezTo>
                  <a:pt x="16113" y="9945"/>
                  <a:pt x="16186" y="10012"/>
                  <a:pt x="16222" y="10071"/>
                </a:cubicBezTo>
                <a:cubicBezTo>
                  <a:pt x="16274" y="10158"/>
                  <a:pt x="16254" y="10255"/>
                  <a:pt x="16247" y="10344"/>
                </a:cubicBezTo>
                <a:cubicBezTo>
                  <a:pt x="16238" y="10464"/>
                  <a:pt x="16211" y="10508"/>
                  <a:pt x="16148" y="10592"/>
                </a:cubicBezTo>
                <a:cubicBezTo>
                  <a:pt x="16111" y="10642"/>
                  <a:pt x="16093" y="10742"/>
                  <a:pt x="16024" y="10765"/>
                </a:cubicBezTo>
                <a:cubicBezTo>
                  <a:pt x="15940" y="10793"/>
                  <a:pt x="15888" y="10706"/>
                  <a:pt x="15875" y="10641"/>
                </a:cubicBezTo>
                <a:cubicBezTo>
                  <a:pt x="15858" y="10559"/>
                  <a:pt x="15875" y="10479"/>
                  <a:pt x="15974" y="10492"/>
                </a:cubicBezTo>
                <a:cubicBezTo>
                  <a:pt x="15987" y="10494"/>
                  <a:pt x="16140" y="10632"/>
                  <a:pt x="16148" y="10641"/>
                </a:cubicBezTo>
                <a:cubicBezTo>
                  <a:pt x="16188" y="10688"/>
                  <a:pt x="16201" y="10744"/>
                  <a:pt x="16247" y="10790"/>
                </a:cubicBezTo>
                <a:cubicBezTo>
                  <a:pt x="16290" y="10833"/>
                  <a:pt x="16303" y="10816"/>
                  <a:pt x="16346" y="10790"/>
                </a:cubicBezTo>
              </a:path>
              <a:path w="2928" h="1514">
                <a:moveTo>
                  <a:pt x="16619" y="10269"/>
                </a:moveTo>
                <a:cubicBezTo>
                  <a:pt x="16642" y="10292"/>
                  <a:pt x="16667" y="10364"/>
                  <a:pt x="16669" y="10418"/>
                </a:cubicBezTo>
                <a:cubicBezTo>
                  <a:pt x="16674" y="10521"/>
                  <a:pt x="16680" y="10637"/>
                  <a:pt x="16694" y="10740"/>
                </a:cubicBezTo>
                <a:cubicBezTo>
                  <a:pt x="16710" y="10859"/>
                  <a:pt x="16725" y="10968"/>
                  <a:pt x="16694" y="11088"/>
                </a:cubicBezTo>
                <a:cubicBezTo>
                  <a:pt x="16678" y="11147"/>
                  <a:pt x="16636" y="11195"/>
                  <a:pt x="16594" y="11237"/>
                </a:cubicBezTo>
                <a:cubicBezTo>
                  <a:pt x="16537" y="11294"/>
                  <a:pt x="16456" y="11212"/>
                  <a:pt x="16421" y="11162"/>
                </a:cubicBezTo>
                <a:cubicBezTo>
                  <a:pt x="16366" y="11083"/>
                  <a:pt x="16354" y="10980"/>
                  <a:pt x="16346" y="10889"/>
                </a:cubicBezTo>
              </a:path>
              <a:path w="2928" h="1514">
                <a:moveTo>
                  <a:pt x="16495" y="9773"/>
                </a:moveTo>
                <a:cubicBezTo>
                  <a:pt x="16520" y="9748"/>
                  <a:pt x="16528" y="9740"/>
                  <a:pt x="16495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Ink 8"/>
          <p:cNvSpPr/>
          <p:nvPr/>
        </p:nvSpPr>
        <p:spPr>
          <a:xfrm>
            <a:off x="5205240" y="4133880"/>
            <a:ext cx="930600" cy="465120"/>
          </a:xfrm>
          <a:custGeom>
            <a:avLst/>
            <a:gdLst/>
            <a:ahLst/>
            <a:rect l="l" t="t" r="r" b="b"/>
            <a:pathLst>
              <a:path w="2581" h="1290">
                <a:moveTo>
                  <a:pt x="14610" y="11485"/>
                </a:moveTo>
                <a:cubicBezTo>
                  <a:pt x="14600" y="11553"/>
                  <a:pt x="14588" y="11615"/>
                  <a:pt x="14560" y="11683"/>
                </a:cubicBezTo>
                <a:cubicBezTo>
                  <a:pt x="14531" y="11753"/>
                  <a:pt x="14510" y="11812"/>
                  <a:pt x="14486" y="11881"/>
                </a:cubicBezTo>
                <a:cubicBezTo>
                  <a:pt x="14465" y="11942"/>
                  <a:pt x="14442" y="12038"/>
                  <a:pt x="14461" y="12105"/>
                </a:cubicBezTo>
                <a:cubicBezTo>
                  <a:pt x="14481" y="12177"/>
                  <a:pt x="14484" y="12223"/>
                  <a:pt x="14560" y="12254"/>
                </a:cubicBezTo>
                <a:cubicBezTo>
                  <a:pt x="14668" y="12297"/>
                  <a:pt x="14724" y="12276"/>
                  <a:pt x="14808" y="12204"/>
                </a:cubicBezTo>
                <a:cubicBezTo>
                  <a:pt x="14871" y="12149"/>
                  <a:pt x="14863" y="12086"/>
                  <a:pt x="14858" y="12030"/>
                </a:cubicBezTo>
                <a:cubicBezTo>
                  <a:pt x="14850" y="11944"/>
                  <a:pt x="14862" y="11960"/>
                  <a:pt x="14808" y="11906"/>
                </a:cubicBezTo>
                <a:cubicBezTo>
                  <a:pt x="14766" y="11931"/>
                  <a:pt x="14712" y="11961"/>
                  <a:pt x="14684" y="12005"/>
                </a:cubicBezTo>
                <a:cubicBezTo>
                  <a:pt x="14638" y="12078"/>
                  <a:pt x="14655" y="12178"/>
                  <a:pt x="14684" y="12254"/>
                </a:cubicBezTo>
                <a:cubicBezTo>
                  <a:pt x="14708" y="12302"/>
                  <a:pt x="14715" y="12318"/>
                  <a:pt x="14759" y="12303"/>
                </a:cubicBezTo>
              </a:path>
              <a:path w="2581" h="1290">
                <a:moveTo>
                  <a:pt x="15156" y="11881"/>
                </a:moveTo>
                <a:cubicBezTo>
                  <a:pt x="15148" y="11953"/>
                  <a:pt x="15115" y="12031"/>
                  <a:pt x="15131" y="12105"/>
                </a:cubicBezTo>
                <a:cubicBezTo>
                  <a:pt x="15147" y="12178"/>
                  <a:pt x="15180" y="12205"/>
                  <a:pt x="15230" y="12254"/>
                </a:cubicBezTo>
                <a:cubicBezTo>
                  <a:pt x="15279" y="12302"/>
                  <a:pt x="15318" y="12270"/>
                  <a:pt x="15379" y="12254"/>
                </a:cubicBezTo>
              </a:path>
              <a:path w="2581" h="1290">
                <a:moveTo>
                  <a:pt x="15255" y="11509"/>
                </a:moveTo>
                <a:cubicBezTo>
                  <a:pt x="15204" y="11538"/>
                  <a:pt x="15193" y="11533"/>
                  <a:pt x="15180" y="11584"/>
                </a:cubicBezTo>
              </a:path>
              <a:path w="2581" h="1290">
                <a:moveTo>
                  <a:pt x="15577" y="11906"/>
                </a:moveTo>
                <a:cubicBezTo>
                  <a:pt x="15660" y="11906"/>
                  <a:pt x="15725" y="11918"/>
                  <a:pt x="15801" y="11931"/>
                </a:cubicBezTo>
                <a:cubicBezTo>
                  <a:pt x="15853" y="11940"/>
                  <a:pt x="15922" y="11931"/>
                  <a:pt x="15974" y="11931"/>
                </a:cubicBezTo>
              </a:path>
              <a:path w="2581" h="1290">
                <a:moveTo>
                  <a:pt x="15801" y="11683"/>
                </a:moveTo>
                <a:cubicBezTo>
                  <a:pt x="15764" y="11792"/>
                  <a:pt x="15759" y="11828"/>
                  <a:pt x="15776" y="11931"/>
                </a:cubicBezTo>
                <a:cubicBezTo>
                  <a:pt x="15792" y="12027"/>
                  <a:pt x="15765" y="12043"/>
                  <a:pt x="15850" y="12105"/>
                </a:cubicBezTo>
              </a:path>
              <a:path w="2581" h="1290">
                <a:moveTo>
                  <a:pt x="16272" y="11559"/>
                </a:moveTo>
                <a:cubicBezTo>
                  <a:pt x="16254" y="11620"/>
                  <a:pt x="16195" y="11738"/>
                  <a:pt x="16222" y="11807"/>
                </a:cubicBezTo>
                <a:cubicBezTo>
                  <a:pt x="16254" y="11889"/>
                  <a:pt x="16336" y="11919"/>
                  <a:pt x="16421" y="11906"/>
                </a:cubicBezTo>
                <a:cubicBezTo>
                  <a:pt x="16446" y="11898"/>
                  <a:pt x="16470" y="11889"/>
                  <a:pt x="16495" y="11881"/>
                </a:cubicBezTo>
              </a:path>
              <a:path w="2581" h="1290">
                <a:moveTo>
                  <a:pt x="16545" y="11509"/>
                </a:moveTo>
                <a:cubicBezTo>
                  <a:pt x="16508" y="11584"/>
                  <a:pt x="16495" y="11625"/>
                  <a:pt x="16495" y="11708"/>
                </a:cubicBezTo>
                <a:cubicBezTo>
                  <a:pt x="16495" y="11805"/>
                  <a:pt x="16455" y="12135"/>
                  <a:pt x="16520" y="12179"/>
                </a:cubicBezTo>
              </a:path>
              <a:path w="2581" h="1290">
                <a:moveTo>
                  <a:pt x="17016" y="11931"/>
                </a:moveTo>
                <a:cubicBezTo>
                  <a:pt x="17023" y="12034"/>
                  <a:pt x="17041" y="12125"/>
                  <a:pt x="17041" y="12229"/>
                </a:cubicBezTo>
                <a:cubicBezTo>
                  <a:pt x="17041" y="12341"/>
                  <a:pt x="17049" y="12444"/>
                  <a:pt x="17016" y="12551"/>
                </a:cubicBezTo>
                <a:cubicBezTo>
                  <a:pt x="17006" y="12583"/>
                  <a:pt x="16956" y="12780"/>
                  <a:pt x="16867" y="12774"/>
                </a:cubicBezTo>
                <a:cubicBezTo>
                  <a:pt x="16764" y="12768"/>
                  <a:pt x="16746" y="12681"/>
                  <a:pt x="16743" y="12601"/>
                </a:cubicBezTo>
                <a:cubicBezTo>
                  <a:pt x="16743" y="12576"/>
                  <a:pt x="16743" y="12551"/>
                  <a:pt x="16743" y="12526"/>
                </a:cubicBezTo>
              </a:path>
              <a:path w="2581" h="1290">
                <a:moveTo>
                  <a:pt x="16991" y="11633"/>
                </a:moveTo>
                <a:cubicBezTo>
                  <a:pt x="16999" y="11617"/>
                  <a:pt x="17008" y="11600"/>
                  <a:pt x="17016" y="115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Ink 9"/>
          <p:cNvSpPr/>
          <p:nvPr/>
        </p:nvSpPr>
        <p:spPr>
          <a:xfrm>
            <a:off x="5170320" y="4633920"/>
            <a:ext cx="401760" cy="376200"/>
          </a:xfrm>
          <a:custGeom>
            <a:avLst/>
            <a:gdLst/>
            <a:ahLst/>
            <a:rect l="l" t="t" r="r" b="b"/>
            <a:pathLst>
              <a:path w="1117" h="1042">
                <a:moveTo>
                  <a:pt x="14362" y="12948"/>
                </a:moveTo>
                <a:cubicBezTo>
                  <a:pt x="14428" y="12923"/>
                  <a:pt x="14495" y="12919"/>
                  <a:pt x="14560" y="12898"/>
                </a:cubicBezTo>
                <a:cubicBezTo>
                  <a:pt x="14649" y="12869"/>
                  <a:pt x="14673" y="12884"/>
                  <a:pt x="14759" y="12898"/>
                </a:cubicBezTo>
                <a:cubicBezTo>
                  <a:pt x="14800" y="12905"/>
                  <a:pt x="14914" y="12947"/>
                  <a:pt x="14932" y="12998"/>
                </a:cubicBezTo>
                <a:cubicBezTo>
                  <a:pt x="14949" y="13047"/>
                  <a:pt x="14865" y="13144"/>
                  <a:pt x="14833" y="13171"/>
                </a:cubicBezTo>
                <a:cubicBezTo>
                  <a:pt x="14782" y="13216"/>
                  <a:pt x="14710" y="13221"/>
                  <a:pt x="14660" y="13246"/>
                </a:cubicBezTo>
                <a:cubicBezTo>
                  <a:pt x="14652" y="13254"/>
                  <a:pt x="14643" y="13263"/>
                  <a:pt x="14635" y="13271"/>
                </a:cubicBezTo>
                <a:cubicBezTo>
                  <a:pt x="14715" y="13271"/>
                  <a:pt x="14769" y="13267"/>
                  <a:pt x="14833" y="13320"/>
                </a:cubicBezTo>
                <a:cubicBezTo>
                  <a:pt x="14903" y="13378"/>
                  <a:pt x="14984" y="13481"/>
                  <a:pt x="15007" y="13568"/>
                </a:cubicBezTo>
                <a:cubicBezTo>
                  <a:pt x="15029" y="13653"/>
                  <a:pt x="15004" y="13769"/>
                  <a:pt x="14957" y="13841"/>
                </a:cubicBezTo>
                <a:cubicBezTo>
                  <a:pt x="14929" y="13885"/>
                  <a:pt x="14805" y="13919"/>
                  <a:pt x="14759" y="13915"/>
                </a:cubicBezTo>
                <a:cubicBezTo>
                  <a:pt x="14684" y="13908"/>
                  <a:pt x="14597" y="13860"/>
                  <a:pt x="14536" y="13816"/>
                </a:cubicBezTo>
                <a:cubicBezTo>
                  <a:pt x="14481" y="13776"/>
                  <a:pt x="14469" y="13703"/>
                  <a:pt x="14461" y="13643"/>
                </a:cubicBezTo>
              </a:path>
              <a:path w="1117" h="1042">
                <a:moveTo>
                  <a:pt x="15329" y="13320"/>
                </a:moveTo>
                <a:cubicBezTo>
                  <a:pt x="15314" y="13390"/>
                  <a:pt x="15251" y="13540"/>
                  <a:pt x="15280" y="13618"/>
                </a:cubicBezTo>
                <a:cubicBezTo>
                  <a:pt x="15303" y="13680"/>
                  <a:pt x="15337" y="13729"/>
                  <a:pt x="15379" y="13767"/>
                </a:cubicBezTo>
                <a:cubicBezTo>
                  <a:pt x="15423" y="13806"/>
                  <a:pt x="15434" y="13792"/>
                  <a:pt x="15478" y="13767"/>
                </a:cubicBezTo>
              </a:path>
              <a:path w="1117" h="1042">
                <a:moveTo>
                  <a:pt x="15280" y="13022"/>
                </a:moveTo>
                <a:cubicBezTo>
                  <a:pt x="15255" y="12998"/>
                  <a:pt x="15247" y="12990"/>
                  <a:pt x="15230" y="13022"/>
                </a:cubicBezTo>
                <a:cubicBezTo>
                  <a:pt x="15286" y="13056"/>
                  <a:pt x="15322" y="13056"/>
                  <a:pt x="15379" y="13022"/>
                </a:cubicBezTo>
                <a:cubicBezTo>
                  <a:pt x="15342" y="13001"/>
                  <a:pt x="15251" y="12978"/>
                  <a:pt x="15304" y="13047"/>
                </a:cubicBezTo>
                <a:cubicBezTo>
                  <a:pt x="15329" y="13072"/>
                  <a:pt x="15337" y="13080"/>
                  <a:pt x="15354" y="130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V has an initial point of &lt;0, 4&gt; and a terminal point of &lt;-3, 5&gt;.  Write this in terms of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and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1" name="Ink 5"/>
          <p:cNvSpPr/>
          <p:nvPr/>
        </p:nvSpPr>
        <p:spPr>
          <a:xfrm>
            <a:off x="3187800" y="2411280"/>
            <a:ext cx="1724040" cy="750960"/>
          </a:xfrm>
          <a:custGeom>
            <a:avLst/>
            <a:gdLst/>
            <a:ahLst/>
            <a:rect l="l" t="t" r="r" b="b"/>
            <a:pathLst>
              <a:path w="4789" h="2085">
                <a:moveTo>
                  <a:pt x="9947" y="6722"/>
                </a:moveTo>
                <a:cubicBezTo>
                  <a:pt x="9894" y="6800"/>
                  <a:pt x="9873" y="6814"/>
                  <a:pt x="9798" y="6871"/>
                </a:cubicBezTo>
                <a:cubicBezTo>
                  <a:pt x="9692" y="6952"/>
                  <a:pt x="9585" y="7024"/>
                  <a:pt x="9475" y="7094"/>
                </a:cubicBezTo>
                <a:cubicBezTo>
                  <a:pt x="9384" y="7152"/>
                  <a:pt x="9296" y="7214"/>
                  <a:pt x="9203" y="7268"/>
                </a:cubicBezTo>
                <a:cubicBezTo>
                  <a:pt x="9113" y="7320"/>
                  <a:pt x="9019" y="7364"/>
                  <a:pt x="8930" y="7417"/>
                </a:cubicBezTo>
                <a:cubicBezTo>
                  <a:pt x="8900" y="7446"/>
                  <a:pt x="8885" y="7457"/>
                  <a:pt x="8855" y="7466"/>
                </a:cubicBezTo>
                <a:cubicBezTo>
                  <a:pt x="8911" y="7522"/>
                  <a:pt x="8970" y="7566"/>
                  <a:pt x="9029" y="7615"/>
                </a:cubicBezTo>
                <a:cubicBezTo>
                  <a:pt x="9104" y="7678"/>
                  <a:pt x="9190" y="7786"/>
                  <a:pt x="9252" y="7863"/>
                </a:cubicBezTo>
                <a:cubicBezTo>
                  <a:pt x="9331" y="7961"/>
                  <a:pt x="9417" y="8044"/>
                  <a:pt x="9500" y="8136"/>
                </a:cubicBezTo>
                <a:cubicBezTo>
                  <a:pt x="9581" y="8225"/>
                  <a:pt x="9674" y="8316"/>
                  <a:pt x="9748" y="8334"/>
                </a:cubicBezTo>
              </a:path>
              <a:path w="4789" h="2085">
                <a:moveTo>
                  <a:pt x="9599" y="7491"/>
                </a:moveTo>
                <a:cubicBezTo>
                  <a:pt x="9683" y="7491"/>
                  <a:pt x="9744" y="7512"/>
                  <a:pt x="9823" y="7516"/>
                </a:cubicBezTo>
                <a:cubicBezTo>
                  <a:pt x="9881" y="7516"/>
                  <a:pt x="9906" y="7516"/>
                  <a:pt x="9947" y="7516"/>
                </a:cubicBezTo>
              </a:path>
              <a:path w="4789" h="2085">
                <a:moveTo>
                  <a:pt x="10170" y="7144"/>
                </a:moveTo>
                <a:cubicBezTo>
                  <a:pt x="10275" y="7068"/>
                  <a:pt x="10297" y="7045"/>
                  <a:pt x="10418" y="7045"/>
                </a:cubicBezTo>
                <a:cubicBezTo>
                  <a:pt x="10476" y="7045"/>
                  <a:pt x="10556" y="7068"/>
                  <a:pt x="10592" y="7119"/>
                </a:cubicBezTo>
                <a:cubicBezTo>
                  <a:pt x="10633" y="7178"/>
                  <a:pt x="10583" y="7244"/>
                  <a:pt x="10542" y="7293"/>
                </a:cubicBezTo>
                <a:cubicBezTo>
                  <a:pt x="10487" y="7359"/>
                  <a:pt x="10412" y="7370"/>
                  <a:pt x="10344" y="7417"/>
                </a:cubicBezTo>
                <a:cubicBezTo>
                  <a:pt x="10310" y="7440"/>
                  <a:pt x="10277" y="7465"/>
                  <a:pt x="10244" y="7491"/>
                </a:cubicBezTo>
                <a:cubicBezTo>
                  <a:pt x="10306" y="7483"/>
                  <a:pt x="10377" y="7448"/>
                  <a:pt x="10443" y="7466"/>
                </a:cubicBezTo>
                <a:cubicBezTo>
                  <a:pt x="10527" y="7490"/>
                  <a:pt x="10534" y="7529"/>
                  <a:pt x="10567" y="7590"/>
                </a:cubicBezTo>
                <a:cubicBezTo>
                  <a:pt x="10603" y="7658"/>
                  <a:pt x="10618" y="7721"/>
                  <a:pt x="10641" y="7789"/>
                </a:cubicBezTo>
                <a:cubicBezTo>
                  <a:pt x="10665" y="7859"/>
                  <a:pt x="10649" y="7899"/>
                  <a:pt x="10616" y="7962"/>
                </a:cubicBezTo>
                <a:cubicBezTo>
                  <a:pt x="10582" y="8028"/>
                  <a:pt x="10452" y="8074"/>
                  <a:pt x="10368" y="8062"/>
                </a:cubicBezTo>
                <a:cubicBezTo>
                  <a:pt x="10341" y="8058"/>
                  <a:pt x="10170" y="8035"/>
                  <a:pt x="10170" y="7987"/>
                </a:cubicBezTo>
                <a:cubicBezTo>
                  <a:pt x="10178" y="7987"/>
                  <a:pt x="10187" y="7987"/>
                  <a:pt x="10195" y="7987"/>
                </a:cubicBezTo>
              </a:path>
              <a:path w="4789" h="2085">
                <a:moveTo>
                  <a:pt x="11137" y="8285"/>
                </a:moveTo>
                <a:cubicBezTo>
                  <a:pt x="11109" y="8398"/>
                  <a:pt x="11077" y="8542"/>
                  <a:pt x="10988" y="8632"/>
                </a:cubicBezTo>
                <a:cubicBezTo>
                  <a:pt x="10933" y="8687"/>
                  <a:pt x="10890" y="8712"/>
                  <a:pt x="10840" y="8781"/>
                </a:cubicBezTo>
              </a:path>
              <a:path w="4789" h="2085">
                <a:moveTo>
                  <a:pt x="11981" y="6846"/>
                </a:moveTo>
                <a:cubicBezTo>
                  <a:pt x="11972" y="6947"/>
                  <a:pt x="11940" y="7041"/>
                  <a:pt x="11931" y="7144"/>
                </a:cubicBezTo>
                <a:cubicBezTo>
                  <a:pt x="11914" y="7343"/>
                  <a:pt x="11936" y="7544"/>
                  <a:pt x="11956" y="7739"/>
                </a:cubicBezTo>
                <a:cubicBezTo>
                  <a:pt x="11966" y="7837"/>
                  <a:pt x="11909" y="8163"/>
                  <a:pt x="11981" y="8210"/>
                </a:cubicBezTo>
              </a:path>
              <a:path w="4789" h="2085">
                <a:moveTo>
                  <a:pt x="12477" y="6747"/>
                </a:moveTo>
                <a:cubicBezTo>
                  <a:pt x="12552" y="6764"/>
                  <a:pt x="12588" y="6788"/>
                  <a:pt x="12650" y="6846"/>
                </a:cubicBezTo>
                <a:cubicBezTo>
                  <a:pt x="12744" y="6935"/>
                  <a:pt x="12852" y="7008"/>
                  <a:pt x="12948" y="7094"/>
                </a:cubicBezTo>
                <a:cubicBezTo>
                  <a:pt x="13062" y="7196"/>
                  <a:pt x="13199" y="7227"/>
                  <a:pt x="13320" y="7317"/>
                </a:cubicBezTo>
                <a:cubicBezTo>
                  <a:pt x="13404" y="7379"/>
                  <a:pt x="13476" y="7440"/>
                  <a:pt x="13568" y="7491"/>
                </a:cubicBezTo>
                <a:cubicBezTo>
                  <a:pt x="13612" y="7513"/>
                  <a:pt x="13624" y="7516"/>
                  <a:pt x="13643" y="7541"/>
                </a:cubicBezTo>
                <a:cubicBezTo>
                  <a:pt x="13591" y="7612"/>
                  <a:pt x="13534" y="7610"/>
                  <a:pt x="13469" y="7665"/>
                </a:cubicBezTo>
                <a:cubicBezTo>
                  <a:pt x="13349" y="7767"/>
                  <a:pt x="13246" y="7881"/>
                  <a:pt x="13171" y="8012"/>
                </a:cubicBezTo>
                <a:cubicBezTo>
                  <a:pt x="13114" y="8111"/>
                  <a:pt x="13036" y="8193"/>
                  <a:pt x="12973" y="8285"/>
                </a:cubicBezTo>
                <a:cubicBezTo>
                  <a:pt x="12936" y="8339"/>
                  <a:pt x="12901" y="8363"/>
                  <a:pt x="12849" y="84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Ink 6"/>
          <p:cNvSpPr/>
          <p:nvPr/>
        </p:nvSpPr>
        <p:spPr>
          <a:xfrm>
            <a:off x="2911320" y="3321000"/>
            <a:ext cx="1500480" cy="849240"/>
          </a:xfrm>
          <a:custGeom>
            <a:avLst/>
            <a:gdLst/>
            <a:ahLst/>
            <a:rect l="l" t="t" r="r" b="b"/>
            <a:pathLst>
              <a:path w="4169" h="2358">
                <a:moveTo>
                  <a:pt x="8086" y="9773"/>
                </a:moveTo>
                <a:cubicBezTo>
                  <a:pt x="8185" y="9773"/>
                  <a:pt x="8238" y="9816"/>
                  <a:pt x="8334" y="9823"/>
                </a:cubicBezTo>
                <a:cubicBezTo>
                  <a:pt x="8432" y="9830"/>
                  <a:pt x="8534" y="9823"/>
                  <a:pt x="8632" y="9823"/>
                </a:cubicBezTo>
              </a:path>
              <a:path w="4169" h="2358">
                <a:moveTo>
                  <a:pt x="8806" y="9327"/>
                </a:moveTo>
                <a:cubicBezTo>
                  <a:pt x="8862" y="9255"/>
                  <a:pt x="8881" y="9232"/>
                  <a:pt x="8979" y="9227"/>
                </a:cubicBezTo>
                <a:cubicBezTo>
                  <a:pt x="9071" y="9222"/>
                  <a:pt x="9221" y="9203"/>
                  <a:pt x="9302" y="9252"/>
                </a:cubicBezTo>
                <a:cubicBezTo>
                  <a:pt x="9380" y="9299"/>
                  <a:pt x="9406" y="9320"/>
                  <a:pt x="9451" y="9401"/>
                </a:cubicBezTo>
                <a:cubicBezTo>
                  <a:pt x="9480" y="9454"/>
                  <a:pt x="9434" y="9562"/>
                  <a:pt x="9376" y="9599"/>
                </a:cubicBezTo>
                <a:cubicBezTo>
                  <a:pt x="9338" y="9624"/>
                  <a:pt x="9222" y="9669"/>
                  <a:pt x="9178" y="9674"/>
                </a:cubicBezTo>
                <a:cubicBezTo>
                  <a:pt x="9122" y="9680"/>
                  <a:pt x="9109" y="9691"/>
                  <a:pt x="9054" y="9699"/>
                </a:cubicBezTo>
                <a:cubicBezTo>
                  <a:pt x="9166" y="9643"/>
                  <a:pt x="9181" y="9713"/>
                  <a:pt x="9277" y="9748"/>
                </a:cubicBezTo>
                <a:cubicBezTo>
                  <a:pt x="9351" y="9775"/>
                  <a:pt x="9443" y="9827"/>
                  <a:pt x="9500" y="9897"/>
                </a:cubicBezTo>
                <a:cubicBezTo>
                  <a:pt x="9576" y="9990"/>
                  <a:pt x="9636" y="10151"/>
                  <a:pt x="9624" y="10269"/>
                </a:cubicBezTo>
                <a:cubicBezTo>
                  <a:pt x="9615" y="10358"/>
                  <a:pt x="9534" y="10427"/>
                  <a:pt x="9451" y="10443"/>
                </a:cubicBezTo>
                <a:cubicBezTo>
                  <a:pt x="9328" y="10467"/>
                  <a:pt x="9197" y="10431"/>
                  <a:pt x="9079" y="10418"/>
                </a:cubicBezTo>
                <a:cubicBezTo>
                  <a:pt x="9010" y="10410"/>
                  <a:pt x="8899" y="10380"/>
                  <a:pt x="8880" y="10294"/>
                </a:cubicBezTo>
                <a:cubicBezTo>
                  <a:pt x="8880" y="10269"/>
                  <a:pt x="8880" y="10245"/>
                  <a:pt x="8880" y="10220"/>
                </a:cubicBezTo>
              </a:path>
              <a:path w="4169" h="2358">
                <a:moveTo>
                  <a:pt x="10021" y="10046"/>
                </a:moveTo>
                <a:cubicBezTo>
                  <a:pt x="10012" y="10105"/>
                  <a:pt x="9970" y="10273"/>
                  <a:pt x="9996" y="10344"/>
                </a:cubicBezTo>
                <a:cubicBezTo>
                  <a:pt x="10006" y="10372"/>
                  <a:pt x="10100" y="10485"/>
                  <a:pt x="10120" y="10492"/>
                </a:cubicBezTo>
                <a:cubicBezTo>
                  <a:pt x="10203" y="10521"/>
                  <a:pt x="10275" y="10491"/>
                  <a:pt x="10319" y="10443"/>
                </a:cubicBezTo>
                <a:cubicBezTo>
                  <a:pt x="10327" y="10435"/>
                  <a:pt x="10336" y="10426"/>
                  <a:pt x="10344" y="10418"/>
                </a:cubicBezTo>
              </a:path>
              <a:path w="4169" h="2358">
                <a:moveTo>
                  <a:pt x="10021" y="9525"/>
                </a:moveTo>
                <a:cubicBezTo>
                  <a:pt x="9975" y="9663"/>
                  <a:pt x="9995" y="9647"/>
                  <a:pt x="10120" y="9599"/>
                </a:cubicBezTo>
                <a:cubicBezTo>
                  <a:pt x="10070" y="9599"/>
                  <a:pt x="10021" y="9599"/>
                  <a:pt x="9971" y="9599"/>
                </a:cubicBezTo>
              </a:path>
              <a:path w="4169" h="2358">
                <a:moveTo>
                  <a:pt x="11187" y="9599"/>
                </a:moveTo>
                <a:cubicBezTo>
                  <a:pt x="11187" y="9704"/>
                  <a:pt x="11174" y="9796"/>
                  <a:pt x="11162" y="9897"/>
                </a:cubicBezTo>
                <a:cubicBezTo>
                  <a:pt x="11145" y="10041"/>
                  <a:pt x="11162" y="10199"/>
                  <a:pt x="11162" y="10344"/>
                </a:cubicBezTo>
              </a:path>
              <a:path w="4169" h="2358">
                <a:moveTo>
                  <a:pt x="10939" y="9922"/>
                </a:moveTo>
                <a:cubicBezTo>
                  <a:pt x="11114" y="9971"/>
                  <a:pt x="11251" y="9971"/>
                  <a:pt x="11435" y="9971"/>
                </a:cubicBezTo>
              </a:path>
              <a:path w="4169" h="2358">
                <a:moveTo>
                  <a:pt x="12229" y="10046"/>
                </a:moveTo>
                <a:cubicBezTo>
                  <a:pt x="12229" y="10290"/>
                  <a:pt x="12263" y="10550"/>
                  <a:pt x="12254" y="10790"/>
                </a:cubicBezTo>
                <a:cubicBezTo>
                  <a:pt x="12249" y="10922"/>
                  <a:pt x="12241" y="11136"/>
                  <a:pt x="12204" y="11261"/>
                </a:cubicBezTo>
                <a:cubicBezTo>
                  <a:pt x="12165" y="11393"/>
                  <a:pt x="12122" y="11486"/>
                  <a:pt x="12005" y="11559"/>
                </a:cubicBezTo>
                <a:cubicBezTo>
                  <a:pt x="11918" y="11613"/>
                  <a:pt x="11872" y="11570"/>
                  <a:pt x="11807" y="11509"/>
                </a:cubicBezTo>
                <a:cubicBezTo>
                  <a:pt x="11734" y="11441"/>
                  <a:pt x="11694" y="11312"/>
                  <a:pt x="11683" y="11212"/>
                </a:cubicBezTo>
                <a:cubicBezTo>
                  <a:pt x="11683" y="11111"/>
                  <a:pt x="11683" y="11077"/>
                  <a:pt x="11708" y="11013"/>
                </a:cubicBezTo>
              </a:path>
              <a:path w="4169" h="2358">
                <a:moveTo>
                  <a:pt x="12105" y="9376"/>
                </a:moveTo>
                <a:cubicBezTo>
                  <a:pt x="12072" y="9450"/>
                  <a:pt x="12024" y="9488"/>
                  <a:pt x="12129" y="9500"/>
                </a:cubicBezTo>
                <a:cubicBezTo>
                  <a:pt x="12181" y="9500"/>
                  <a:pt x="12199" y="9499"/>
                  <a:pt x="12229" y="9475"/>
                </a:cubicBezTo>
                <a:cubicBezTo>
                  <a:pt x="12176" y="9445"/>
                  <a:pt x="12215" y="9451"/>
                  <a:pt x="12154" y="9451"/>
                </a:cubicBezTo>
                <a:cubicBezTo>
                  <a:pt x="12113" y="9451"/>
                  <a:pt x="12105" y="9451"/>
                  <a:pt x="12080" y="94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Vector operations also apply to </a:t>
            </a: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and </a:t>
            </a: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-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9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Find 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Ink 6"/>
          <p:cNvSpPr/>
          <p:nvPr/>
        </p:nvSpPr>
        <p:spPr>
          <a:xfrm>
            <a:off x="6966000" y="2847960"/>
            <a:ext cx="561960" cy="268200"/>
          </a:xfrm>
          <a:custGeom>
            <a:avLst/>
            <a:gdLst/>
            <a:ahLst/>
            <a:rect l="l" t="t" r="r" b="b"/>
            <a:pathLst>
              <a:path w="1563" h="745">
                <a:moveTo>
                  <a:pt x="19348" y="8260"/>
                </a:moveTo>
                <a:cubicBezTo>
                  <a:pt x="19348" y="8180"/>
                  <a:pt x="19379" y="8151"/>
                  <a:pt x="19397" y="8086"/>
                </a:cubicBezTo>
                <a:cubicBezTo>
                  <a:pt x="19410" y="8038"/>
                  <a:pt x="19447" y="7961"/>
                  <a:pt x="19496" y="7938"/>
                </a:cubicBezTo>
                <a:cubicBezTo>
                  <a:pt x="19560" y="7908"/>
                  <a:pt x="19656" y="7902"/>
                  <a:pt x="19720" y="7938"/>
                </a:cubicBezTo>
                <a:cubicBezTo>
                  <a:pt x="19796" y="7980"/>
                  <a:pt x="19815" y="8035"/>
                  <a:pt x="19819" y="8111"/>
                </a:cubicBezTo>
                <a:cubicBezTo>
                  <a:pt x="19825" y="8233"/>
                  <a:pt x="19786" y="8253"/>
                  <a:pt x="19720" y="8359"/>
                </a:cubicBezTo>
                <a:cubicBezTo>
                  <a:pt x="19682" y="8420"/>
                  <a:pt x="19636" y="8458"/>
                  <a:pt x="19596" y="8508"/>
                </a:cubicBezTo>
                <a:cubicBezTo>
                  <a:pt x="19541" y="8577"/>
                  <a:pt x="19557" y="8572"/>
                  <a:pt x="19472" y="8558"/>
                </a:cubicBezTo>
                <a:cubicBezTo>
                  <a:pt x="19388" y="8544"/>
                  <a:pt x="19477" y="8427"/>
                  <a:pt x="19496" y="8409"/>
                </a:cubicBezTo>
                <a:cubicBezTo>
                  <a:pt x="19569" y="8341"/>
                  <a:pt x="19570" y="8334"/>
                  <a:pt x="19670" y="8334"/>
                </a:cubicBezTo>
                <a:cubicBezTo>
                  <a:pt x="19744" y="8334"/>
                  <a:pt x="19805" y="8346"/>
                  <a:pt x="19819" y="8409"/>
                </a:cubicBezTo>
                <a:cubicBezTo>
                  <a:pt x="19839" y="8499"/>
                  <a:pt x="19803" y="8575"/>
                  <a:pt x="19844" y="8657"/>
                </a:cubicBezTo>
              </a:path>
              <a:path w="1563" h="745">
                <a:moveTo>
                  <a:pt x="20216" y="8186"/>
                </a:moveTo>
                <a:cubicBezTo>
                  <a:pt x="20235" y="8256"/>
                  <a:pt x="20220" y="8344"/>
                  <a:pt x="20241" y="8409"/>
                </a:cubicBezTo>
                <a:cubicBezTo>
                  <a:pt x="20257" y="8458"/>
                  <a:pt x="20307" y="8522"/>
                  <a:pt x="20365" y="8508"/>
                </a:cubicBezTo>
                <a:cubicBezTo>
                  <a:pt x="20501" y="8476"/>
                  <a:pt x="20449" y="8439"/>
                  <a:pt x="20538" y="8334"/>
                </a:cubicBezTo>
                <a:cubicBezTo>
                  <a:pt x="20561" y="8306"/>
                  <a:pt x="20605" y="8251"/>
                  <a:pt x="20638" y="8210"/>
                </a:cubicBezTo>
                <a:cubicBezTo>
                  <a:pt x="20686" y="8260"/>
                  <a:pt x="20685" y="8281"/>
                  <a:pt x="20712" y="8334"/>
                </a:cubicBezTo>
                <a:cubicBezTo>
                  <a:pt x="20737" y="8383"/>
                  <a:pt x="20777" y="8426"/>
                  <a:pt x="20836" y="8434"/>
                </a:cubicBezTo>
                <a:cubicBezTo>
                  <a:pt x="20861" y="8434"/>
                  <a:pt x="20885" y="8434"/>
                  <a:pt x="20910" y="84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7"/>
          <p:cNvSpPr/>
          <p:nvPr/>
        </p:nvSpPr>
        <p:spPr>
          <a:xfrm>
            <a:off x="7929720" y="2786040"/>
            <a:ext cx="357120" cy="152280"/>
          </a:xfrm>
          <a:custGeom>
            <a:avLst/>
            <a:gdLst/>
            <a:ahLst/>
            <a:rect l="l" t="t" r="r" b="b"/>
            <a:pathLst>
              <a:path w="993" h="423">
                <a:moveTo>
                  <a:pt x="22299" y="7987"/>
                </a:moveTo>
                <a:cubicBezTo>
                  <a:pt x="22415" y="7987"/>
                  <a:pt x="22535" y="7985"/>
                  <a:pt x="22647" y="7962"/>
                </a:cubicBezTo>
                <a:cubicBezTo>
                  <a:pt x="22692" y="7953"/>
                  <a:pt x="22981" y="7893"/>
                  <a:pt x="22746" y="7938"/>
                </a:cubicBezTo>
                <a:cubicBezTo>
                  <a:pt x="22621" y="7962"/>
                  <a:pt x="22500" y="7980"/>
                  <a:pt x="22374" y="8012"/>
                </a:cubicBezTo>
                <a:cubicBezTo>
                  <a:pt x="22241" y="8045"/>
                  <a:pt x="21940" y="8118"/>
                  <a:pt x="22051" y="8037"/>
                </a:cubicBezTo>
                <a:cubicBezTo>
                  <a:pt x="22076" y="8029"/>
                  <a:pt x="22101" y="8020"/>
                  <a:pt x="22126" y="8012"/>
                </a:cubicBezTo>
                <a:cubicBezTo>
                  <a:pt x="22245" y="8002"/>
                  <a:pt x="22354" y="7951"/>
                  <a:pt x="22473" y="7938"/>
                </a:cubicBezTo>
                <a:cubicBezTo>
                  <a:pt x="22606" y="7924"/>
                  <a:pt x="22735" y="7913"/>
                  <a:pt x="22870" y="7913"/>
                </a:cubicBezTo>
                <a:cubicBezTo>
                  <a:pt x="22917" y="7913"/>
                  <a:pt x="23071" y="7876"/>
                  <a:pt x="22969" y="7913"/>
                </a:cubicBezTo>
                <a:cubicBezTo>
                  <a:pt x="22856" y="7954"/>
                  <a:pt x="22740" y="7982"/>
                  <a:pt x="22622" y="8012"/>
                </a:cubicBezTo>
                <a:cubicBezTo>
                  <a:pt x="22518" y="8038"/>
                  <a:pt x="22404" y="8056"/>
                  <a:pt x="22299" y="8062"/>
                </a:cubicBezTo>
                <a:cubicBezTo>
                  <a:pt x="22184" y="8068"/>
                  <a:pt x="22338" y="7984"/>
                  <a:pt x="22374" y="7962"/>
                </a:cubicBezTo>
                <a:cubicBezTo>
                  <a:pt x="22466" y="7940"/>
                  <a:pt x="22554" y="7906"/>
                  <a:pt x="22647" y="7888"/>
                </a:cubicBezTo>
                <a:cubicBezTo>
                  <a:pt x="22819" y="7855"/>
                  <a:pt x="22671" y="7906"/>
                  <a:pt x="22597" y="7938"/>
                </a:cubicBezTo>
                <a:cubicBezTo>
                  <a:pt x="22465" y="7995"/>
                  <a:pt x="22333" y="8057"/>
                  <a:pt x="22200" y="8111"/>
                </a:cubicBezTo>
                <a:cubicBezTo>
                  <a:pt x="22119" y="8144"/>
                  <a:pt x="22033" y="8224"/>
                  <a:pt x="22101" y="8111"/>
                </a:cubicBezTo>
                <a:cubicBezTo>
                  <a:pt x="22209" y="8053"/>
                  <a:pt x="22333" y="7983"/>
                  <a:pt x="22448" y="7938"/>
                </a:cubicBezTo>
                <a:cubicBezTo>
                  <a:pt x="22568" y="7891"/>
                  <a:pt x="22935" y="7898"/>
                  <a:pt x="22820" y="7838"/>
                </a:cubicBezTo>
                <a:cubicBezTo>
                  <a:pt x="22737" y="7795"/>
                  <a:pt x="22545" y="7908"/>
                  <a:pt x="22473" y="7938"/>
                </a:cubicBezTo>
                <a:cubicBezTo>
                  <a:pt x="22359" y="7985"/>
                  <a:pt x="22229" y="8028"/>
                  <a:pt x="22126" y="8086"/>
                </a:cubicBezTo>
                <a:cubicBezTo>
                  <a:pt x="22241" y="8029"/>
                  <a:pt x="22357" y="7987"/>
                  <a:pt x="22473" y="7938"/>
                </a:cubicBezTo>
                <a:cubicBezTo>
                  <a:pt x="22596" y="7887"/>
                  <a:pt x="22717" y="7853"/>
                  <a:pt x="22845" y="7813"/>
                </a:cubicBezTo>
                <a:cubicBezTo>
                  <a:pt x="23084" y="7737"/>
                  <a:pt x="22672" y="7863"/>
                  <a:pt x="22671" y="7863"/>
                </a:cubicBezTo>
                <a:cubicBezTo>
                  <a:pt x="22532" y="7892"/>
                  <a:pt x="22410" y="7958"/>
                  <a:pt x="22275" y="7987"/>
                </a:cubicBezTo>
                <a:cubicBezTo>
                  <a:pt x="22131" y="8018"/>
                  <a:pt x="22447" y="7888"/>
                  <a:pt x="22448" y="7888"/>
                </a:cubicBezTo>
                <a:cubicBezTo>
                  <a:pt x="22572" y="7844"/>
                  <a:pt x="22694" y="7804"/>
                  <a:pt x="22820" y="7764"/>
                </a:cubicBezTo>
                <a:cubicBezTo>
                  <a:pt x="22847" y="7755"/>
                  <a:pt x="23047" y="7687"/>
                  <a:pt x="22870" y="7764"/>
                </a:cubicBezTo>
                <a:cubicBezTo>
                  <a:pt x="22711" y="7796"/>
                  <a:pt x="22549" y="7827"/>
                  <a:pt x="22399" y="7888"/>
                </a:cubicBezTo>
                <a:cubicBezTo>
                  <a:pt x="22373" y="7898"/>
                  <a:pt x="22074" y="8003"/>
                  <a:pt x="22225" y="7962"/>
                </a:cubicBezTo>
                <a:cubicBezTo>
                  <a:pt x="22369" y="7923"/>
                  <a:pt x="22504" y="7875"/>
                  <a:pt x="22647" y="7838"/>
                </a:cubicBezTo>
                <a:cubicBezTo>
                  <a:pt x="22761" y="7809"/>
                  <a:pt x="23078" y="7706"/>
                  <a:pt x="22994" y="7789"/>
                </a:cubicBezTo>
                <a:cubicBezTo>
                  <a:pt x="22900" y="7882"/>
                  <a:pt x="22529" y="7953"/>
                  <a:pt x="22423" y="7987"/>
                </a:cubicBezTo>
                <a:cubicBezTo>
                  <a:pt x="22403" y="7993"/>
                  <a:pt x="22172" y="8084"/>
                  <a:pt x="22250" y="8037"/>
                </a:cubicBezTo>
                <a:cubicBezTo>
                  <a:pt x="22306" y="8008"/>
                  <a:pt x="22330" y="7997"/>
                  <a:pt x="22374" y="7987"/>
                </a:cubicBezTo>
                <a:cubicBezTo>
                  <a:pt x="22527" y="7921"/>
                  <a:pt x="22707" y="7845"/>
                  <a:pt x="22870" y="7813"/>
                </a:cubicBezTo>
                <a:cubicBezTo>
                  <a:pt x="22997" y="7788"/>
                  <a:pt x="22602" y="7904"/>
                  <a:pt x="22572" y="7913"/>
                </a:cubicBezTo>
                <a:cubicBezTo>
                  <a:pt x="22420" y="7960"/>
                  <a:pt x="22280" y="8046"/>
                  <a:pt x="22126" y="8086"/>
                </a:cubicBezTo>
                <a:cubicBezTo>
                  <a:pt x="22118" y="8086"/>
                  <a:pt x="22109" y="8086"/>
                  <a:pt x="22101" y="80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8"/>
          <p:cNvSpPr/>
          <p:nvPr/>
        </p:nvSpPr>
        <p:spPr>
          <a:xfrm>
            <a:off x="8518680" y="2509920"/>
            <a:ext cx="482400" cy="330120"/>
          </a:xfrm>
          <a:custGeom>
            <a:avLst/>
            <a:gdLst/>
            <a:ahLst/>
            <a:rect l="l" t="t" r="r" b="b"/>
            <a:pathLst>
              <a:path w="1340" h="919">
                <a:moveTo>
                  <a:pt x="23664" y="7169"/>
                </a:moveTo>
                <a:cubicBezTo>
                  <a:pt x="23716" y="7095"/>
                  <a:pt x="23770" y="7071"/>
                  <a:pt x="23862" y="7045"/>
                </a:cubicBezTo>
                <a:cubicBezTo>
                  <a:pt x="23970" y="7014"/>
                  <a:pt x="24074" y="6974"/>
                  <a:pt x="24185" y="6970"/>
                </a:cubicBezTo>
                <a:cubicBezTo>
                  <a:pt x="24265" y="6967"/>
                  <a:pt x="24312" y="6988"/>
                  <a:pt x="24383" y="7020"/>
                </a:cubicBezTo>
                <a:cubicBezTo>
                  <a:pt x="24371" y="7116"/>
                  <a:pt x="24328" y="7149"/>
                  <a:pt x="24259" y="7218"/>
                </a:cubicBezTo>
                <a:cubicBezTo>
                  <a:pt x="24189" y="7288"/>
                  <a:pt x="24099" y="7346"/>
                  <a:pt x="24085" y="7441"/>
                </a:cubicBezTo>
                <a:cubicBezTo>
                  <a:pt x="24146" y="7464"/>
                  <a:pt x="24220" y="7502"/>
                  <a:pt x="24284" y="7516"/>
                </a:cubicBezTo>
                <a:cubicBezTo>
                  <a:pt x="24435" y="7550"/>
                  <a:pt x="24401" y="7617"/>
                  <a:pt x="24284" y="7739"/>
                </a:cubicBezTo>
                <a:cubicBezTo>
                  <a:pt x="24253" y="7771"/>
                  <a:pt x="24089" y="7895"/>
                  <a:pt x="24036" y="7888"/>
                </a:cubicBezTo>
                <a:cubicBezTo>
                  <a:pt x="24036" y="7880"/>
                  <a:pt x="24036" y="7871"/>
                  <a:pt x="24036" y="7863"/>
                </a:cubicBezTo>
              </a:path>
              <a:path w="1340" h="919">
                <a:moveTo>
                  <a:pt x="24705" y="7516"/>
                </a:moveTo>
                <a:cubicBezTo>
                  <a:pt x="24731" y="7614"/>
                  <a:pt x="24747" y="7700"/>
                  <a:pt x="24780" y="7789"/>
                </a:cubicBezTo>
                <a:cubicBezTo>
                  <a:pt x="24815" y="7719"/>
                  <a:pt x="24813" y="7645"/>
                  <a:pt x="24829" y="7565"/>
                </a:cubicBezTo>
                <a:cubicBezTo>
                  <a:pt x="24853" y="7439"/>
                  <a:pt x="24873" y="7310"/>
                  <a:pt x="24929" y="7193"/>
                </a:cubicBezTo>
                <a:cubicBezTo>
                  <a:pt x="24972" y="7128"/>
                  <a:pt x="24983" y="7113"/>
                  <a:pt x="25003" y="70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9"/>
          <p:cNvSpPr/>
          <p:nvPr/>
        </p:nvSpPr>
        <p:spPr>
          <a:xfrm>
            <a:off x="6330960" y="3241800"/>
            <a:ext cx="598320" cy="295200"/>
          </a:xfrm>
          <a:custGeom>
            <a:avLst/>
            <a:gdLst/>
            <a:ahLst/>
            <a:rect l="l" t="t" r="r" b="b"/>
            <a:pathLst>
              <a:path w="1662" h="820">
                <a:moveTo>
                  <a:pt x="17587" y="9302"/>
                </a:moveTo>
                <a:cubicBezTo>
                  <a:pt x="17724" y="9302"/>
                  <a:pt x="17820" y="9281"/>
                  <a:pt x="17934" y="9252"/>
                </a:cubicBezTo>
                <a:cubicBezTo>
                  <a:pt x="18007" y="9234"/>
                  <a:pt x="18095" y="9245"/>
                  <a:pt x="18157" y="9252"/>
                </a:cubicBezTo>
                <a:cubicBezTo>
                  <a:pt x="18207" y="9252"/>
                  <a:pt x="18224" y="9252"/>
                  <a:pt x="18207" y="9302"/>
                </a:cubicBezTo>
              </a:path>
              <a:path w="1662" h="820">
                <a:moveTo>
                  <a:pt x="18355" y="9004"/>
                </a:moveTo>
                <a:cubicBezTo>
                  <a:pt x="18374" y="9133"/>
                  <a:pt x="18380" y="9246"/>
                  <a:pt x="18380" y="9376"/>
                </a:cubicBezTo>
                <a:cubicBezTo>
                  <a:pt x="18380" y="9459"/>
                  <a:pt x="18364" y="9520"/>
                  <a:pt x="18355" y="9599"/>
                </a:cubicBezTo>
                <a:cubicBezTo>
                  <a:pt x="18350" y="9639"/>
                  <a:pt x="18356" y="9798"/>
                  <a:pt x="18331" y="9823"/>
                </a:cubicBezTo>
                <a:cubicBezTo>
                  <a:pt x="18331" y="9806"/>
                  <a:pt x="18331" y="9790"/>
                  <a:pt x="18331" y="9773"/>
                </a:cubicBezTo>
              </a:path>
              <a:path w="1662" h="820">
                <a:moveTo>
                  <a:pt x="18529" y="9327"/>
                </a:moveTo>
                <a:cubicBezTo>
                  <a:pt x="18538" y="9399"/>
                  <a:pt x="18525" y="9652"/>
                  <a:pt x="18628" y="9699"/>
                </a:cubicBezTo>
                <a:cubicBezTo>
                  <a:pt x="18705" y="9734"/>
                  <a:pt x="18802" y="9667"/>
                  <a:pt x="18827" y="9599"/>
                </a:cubicBezTo>
                <a:cubicBezTo>
                  <a:pt x="18857" y="9516"/>
                  <a:pt x="18914" y="9392"/>
                  <a:pt x="18901" y="9302"/>
                </a:cubicBezTo>
                <a:cubicBezTo>
                  <a:pt x="18893" y="9249"/>
                  <a:pt x="18872" y="9141"/>
                  <a:pt x="18827" y="9103"/>
                </a:cubicBezTo>
                <a:cubicBezTo>
                  <a:pt x="18775" y="9059"/>
                  <a:pt x="18657" y="9065"/>
                  <a:pt x="18604" y="9103"/>
                </a:cubicBezTo>
                <a:cubicBezTo>
                  <a:pt x="18527" y="9158"/>
                  <a:pt x="18521" y="9143"/>
                  <a:pt x="18579" y="9178"/>
                </a:cubicBezTo>
              </a:path>
              <a:path w="1662" h="820">
                <a:moveTo>
                  <a:pt x="19149" y="9327"/>
                </a:moveTo>
                <a:cubicBezTo>
                  <a:pt x="19169" y="9400"/>
                  <a:pt x="19176" y="9481"/>
                  <a:pt x="19199" y="9550"/>
                </a:cubicBezTo>
                <a:cubicBezTo>
                  <a:pt x="19216" y="9600"/>
                  <a:pt x="19318" y="9795"/>
                  <a:pt x="19224" y="9699"/>
                </a:cubicBezTo>
              </a:path>
              <a:path w="1662" h="820">
                <a:moveTo>
                  <a:pt x="19224" y="9004"/>
                </a:moveTo>
                <a:cubicBezTo>
                  <a:pt x="19156" y="9004"/>
                  <a:pt x="19159" y="9012"/>
                  <a:pt x="19149" y="90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Ink 10"/>
          <p:cNvSpPr/>
          <p:nvPr/>
        </p:nvSpPr>
        <p:spPr>
          <a:xfrm>
            <a:off x="7134120" y="3160800"/>
            <a:ext cx="625680" cy="455400"/>
          </a:xfrm>
          <a:custGeom>
            <a:avLst/>
            <a:gdLst/>
            <a:ahLst/>
            <a:rect l="l" t="t" r="r" b="b"/>
            <a:pathLst>
              <a:path w="1737" h="1266">
                <a:moveTo>
                  <a:pt x="20042" y="9079"/>
                </a:moveTo>
                <a:cubicBezTo>
                  <a:pt x="20042" y="9115"/>
                  <a:pt x="20017" y="9310"/>
                  <a:pt x="20067" y="9327"/>
                </a:cubicBezTo>
                <a:cubicBezTo>
                  <a:pt x="20108" y="9341"/>
                  <a:pt x="20090" y="9358"/>
                  <a:pt x="20092" y="9401"/>
                </a:cubicBezTo>
                <a:cubicBezTo>
                  <a:pt x="20095" y="9459"/>
                  <a:pt x="20140" y="9540"/>
                  <a:pt x="20117" y="9599"/>
                </a:cubicBezTo>
                <a:cubicBezTo>
                  <a:pt x="20109" y="9607"/>
                  <a:pt x="20100" y="9616"/>
                  <a:pt x="20092" y="9624"/>
                </a:cubicBezTo>
              </a:path>
              <a:path w="1737" h="1266">
                <a:moveTo>
                  <a:pt x="19819" y="9327"/>
                </a:moveTo>
                <a:cubicBezTo>
                  <a:pt x="19917" y="9327"/>
                  <a:pt x="19997" y="9316"/>
                  <a:pt x="20092" y="9302"/>
                </a:cubicBezTo>
                <a:cubicBezTo>
                  <a:pt x="20194" y="9287"/>
                  <a:pt x="20237" y="9264"/>
                  <a:pt x="20340" y="9227"/>
                </a:cubicBezTo>
              </a:path>
              <a:path w="1737" h="1266">
                <a:moveTo>
                  <a:pt x="20588" y="9004"/>
                </a:moveTo>
                <a:cubicBezTo>
                  <a:pt x="20620" y="9084"/>
                  <a:pt x="20641" y="9144"/>
                  <a:pt x="20662" y="9227"/>
                </a:cubicBezTo>
                <a:cubicBezTo>
                  <a:pt x="20680" y="9298"/>
                  <a:pt x="20705" y="9375"/>
                  <a:pt x="20687" y="9451"/>
                </a:cubicBezTo>
                <a:cubicBezTo>
                  <a:pt x="20665" y="9494"/>
                  <a:pt x="20652" y="9506"/>
                  <a:pt x="20687" y="9525"/>
                </a:cubicBezTo>
              </a:path>
              <a:path w="1737" h="1266">
                <a:moveTo>
                  <a:pt x="21109" y="8781"/>
                </a:moveTo>
                <a:cubicBezTo>
                  <a:pt x="20999" y="8781"/>
                  <a:pt x="20995" y="8798"/>
                  <a:pt x="20910" y="8855"/>
                </a:cubicBezTo>
                <a:cubicBezTo>
                  <a:pt x="20874" y="8879"/>
                  <a:pt x="20785" y="8985"/>
                  <a:pt x="20786" y="9004"/>
                </a:cubicBezTo>
                <a:cubicBezTo>
                  <a:pt x="20792" y="9113"/>
                  <a:pt x="20915" y="9186"/>
                  <a:pt x="20985" y="9227"/>
                </a:cubicBezTo>
                <a:cubicBezTo>
                  <a:pt x="21051" y="9266"/>
                  <a:pt x="21187" y="9285"/>
                  <a:pt x="21208" y="9376"/>
                </a:cubicBezTo>
                <a:cubicBezTo>
                  <a:pt x="21229" y="9468"/>
                  <a:pt x="21141" y="9532"/>
                  <a:pt x="21059" y="9550"/>
                </a:cubicBezTo>
                <a:cubicBezTo>
                  <a:pt x="20976" y="9569"/>
                  <a:pt x="20910" y="9475"/>
                  <a:pt x="20910" y="9401"/>
                </a:cubicBezTo>
                <a:cubicBezTo>
                  <a:pt x="20910" y="9339"/>
                  <a:pt x="20975" y="9216"/>
                  <a:pt x="21010" y="9153"/>
                </a:cubicBezTo>
                <a:cubicBezTo>
                  <a:pt x="21053" y="9076"/>
                  <a:pt x="21093" y="8941"/>
                  <a:pt x="21158" y="8880"/>
                </a:cubicBezTo>
                <a:cubicBezTo>
                  <a:pt x="21199" y="8860"/>
                  <a:pt x="21205" y="8851"/>
                  <a:pt x="21233" y="8855"/>
                </a:cubicBezTo>
              </a:path>
              <a:path w="1737" h="1266">
                <a:moveTo>
                  <a:pt x="21530" y="9376"/>
                </a:moveTo>
                <a:cubicBezTo>
                  <a:pt x="21553" y="9559"/>
                  <a:pt x="21586" y="9739"/>
                  <a:pt x="21456" y="9897"/>
                </a:cubicBezTo>
                <a:cubicBezTo>
                  <a:pt x="21403" y="9961"/>
                  <a:pt x="21278" y="10036"/>
                  <a:pt x="21208" y="10046"/>
                </a:cubicBezTo>
                <a:cubicBezTo>
                  <a:pt x="21135" y="10057"/>
                  <a:pt x="21139" y="10044"/>
                  <a:pt x="21084" y="9996"/>
                </a:cubicBezTo>
              </a:path>
              <a:path w="1737" h="1266">
                <a:moveTo>
                  <a:pt x="21406" y="8855"/>
                </a:moveTo>
                <a:cubicBezTo>
                  <a:pt x="21414" y="8855"/>
                  <a:pt x="21423" y="8855"/>
                  <a:pt x="21431" y="88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Ink 11"/>
          <p:cNvSpPr/>
          <p:nvPr/>
        </p:nvSpPr>
        <p:spPr>
          <a:xfrm>
            <a:off x="8474040" y="3081240"/>
            <a:ext cx="625680" cy="401760"/>
          </a:xfrm>
          <a:custGeom>
            <a:avLst/>
            <a:gdLst/>
            <a:ahLst/>
            <a:rect l="l" t="t" r="r" b="b"/>
            <a:pathLst>
              <a:path w="1737" h="1117">
                <a:moveTo>
                  <a:pt x="23937" y="8781"/>
                </a:moveTo>
                <a:cubicBezTo>
                  <a:pt x="23929" y="8710"/>
                  <a:pt x="23907" y="8677"/>
                  <a:pt x="23887" y="8632"/>
                </a:cubicBezTo>
                <a:cubicBezTo>
                  <a:pt x="23875" y="8604"/>
                  <a:pt x="23812" y="8485"/>
                  <a:pt x="23738" y="8558"/>
                </a:cubicBezTo>
                <a:cubicBezTo>
                  <a:pt x="23680" y="8615"/>
                  <a:pt x="23656" y="8707"/>
                  <a:pt x="23614" y="8781"/>
                </a:cubicBezTo>
                <a:cubicBezTo>
                  <a:pt x="23560" y="8877"/>
                  <a:pt x="23533" y="8933"/>
                  <a:pt x="23564" y="9004"/>
                </a:cubicBezTo>
                <a:cubicBezTo>
                  <a:pt x="23572" y="9029"/>
                  <a:pt x="23581" y="9054"/>
                  <a:pt x="23589" y="9079"/>
                </a:cubicBezTo>
                <a:cubicBezTo>
                  <a:pt x="23625" y="9070"/>
                  <a:pt x="23737" y="9027"/>
                  <a:pt x="23763" y="9004"/>
                </a:cubicBezTo>
                <a:cubicBezTo>
                  <a:pt x="23817" y="8955"/>
                  <a:pt x="23823" y="8866"/>
                  <a:pt x="23862" y="8806"/>
                </a:cubicBezTo>
                <a:cubicBezTo>
                  <a:pt x="23890" y="8778"/>
                  <a:pt x="23904" y="8769"/>
                  <a:pt x="23937" y="8781"/>
                </a:cubicBezTo>
                <a:cubicBezTo>
                  <a:pt x="23974" y="8845"/>
                  <a:pt x="23981" y="8925"/>
                  <a:pt x="23986" y="9004"/>
                </a:cubicBezTo>
                <a:cubicBezTo>
                  <a:pt x="23995" y="9152"/>
                  <a:pt x="23996" y="9312"/>
                  <a:pt x="23961" y="9451"/>
                </a:cubicBezTo>
                <a:cubicBezTo>
                  <a:pt x="23961" y="9475"/>
                  <a:pt x="23961" y="9484"/>
                  <a:pt x="23961" y="9500"/>
                </a:cubicBezTo>
              </a:path>
              <a:path w="1737" h="1117">
                <a:moveTo>
                  <a:pt x="24185" y="9178"/>
                </a:moveTo>
                <a:cubicBezTo>
                  <a:pt x="24185" y="9198"/>
                  <a:pt x="24154" y="9483"/>
                  <a:pt x="24209" y="9500"/>
                </a:cubicBezTo>
                <a:cubicBezTo>
                  <a:pt x="24269" y="9518"/>
                  <a:pt x="24271" y="9470"/>
                  <a:pt x="24309" y="9451"/>
                </a:cubicBezTo>
              </a:path>
              <a:path w="1737" h="1117">
                <a:moveTo>
                  <a:pt x="24160" y="8657"/>
                </a:moveTo>
                <a:cubicBezTo>
                  <a:pt x="24160" y="8673"/>
                  <a:pt x="24160" y="8690"/>
                  <a:pt x="24160" y="8706"/>
                </a:cubicBezTo>
              </a:path>
              <a:path w="1737" h="1117">
                <a:moveTo>
                  <a:pt x="24433" y="9153"/>
                </a:moveTo>
                <a:cubicBezTo>
                  <a:pt x="24520" y="9175"/>
                  <a:pt x="24591" y="9178"/>
                  <a:pt x="24681" y="9178"/>
                </a:cubicBezTo>
                <a:cubicBezTo>
                  <a:pt x="24689" y="9178"/>
                  <a:pt x="24697" y="9178"/>
                  <a:pt x="24705" y="9178"/>
                </a:cubicBezTo>
              </a:path>
              <a:path w="1737" h="1117">
                <a:moveTo>
                  <a:pt x="24904" y="8706"/>
                </a:moveTo>
                <a:cubicBezTo>
                  <a:pt x="24896" y="8788"/>
                  <a:pt x="24870" y="8846"/>
                  <a:pt x="24854" y="8930"/>
                </a:cubicBezTo>
                <a:cubicBezTo>
                  <a:pt x="24833" y="9039"/>
                  <a:pt x="24821" y="9127"/>
                  <a:pt x="24829" y="9227"/>
                </a:cubicBezTo>
                <a:cubicBezTo>
                  <a:pt x="24836" y="9315"/>
                  <a:pt x="24844" y="9330"/>
                  <a:pt x="24904" y="9376"/>
                </a:cubicBezTo>
                <a:cubicBezTo>
                  <a:pt x="24934" y="9399"/>
                  <a:pt x="25007" y="9413"/>
                  <a:pt x="25028" y="9376"/>
                </a:cubicBezTo>
                <a:cubicBezTo>
                  <a:pt x="25070" y="9303"/>
                  <a:pt x="25056" y="9223"/>
                  <a:pt x="25028" y="9153"/>
                </a:cubicBezTo>
                <a:cubicBezTo>
                  <a:pt x="25020" y="9136"/>
                  <a:pt x="25011" y="9120"/>
                  <a:pt x="25003" y="9103"/>
                </a:cubicBezTo>
                <a:cubicBezTo>
                  <a:pt x="24994" y="9180"/>
                  <a:pt x="24978" y="9248"/>
                  <a:pt x="24978" y="9327"/>
                </a:cubicBezTo>
                <a:cubicBezTo>
                  <a:pt x="24978" y="9343"/>
                  <a:pt x="24978" y="9360"/>
                  <a:pt x="24978" y="9376"/>
                </a:cubicBezTo>
              </a:path>
              <a:path w="1737" h="1117">
                <a:moveTo>
                  <a:pt x="25202" y="9153"/>
                </a:moveTo>
                <a:cubicBezTo>
                  <a:pt x="25223" y="9223"/>
                  <a:pt x="25242" y="9307"/>
                  <a:pt x="25251" y="9376"/>
                </a:cubicBezTo>
                <a:cubicBezTo>
                  <a:pt x="25260" y="9451"/>
                  <a:pt x="25238" y="9491"/>
                  <a:pt x="25226" y="9550"/>
                </a:cubicBezTo>
                <a:cubicBezTo>
                  <a:pt x="25220" y="9581"/>
                  <a:pt x="25198" y="9721"/>
                  <a:pt x="25127" y="9674"/>
                </a:cubicBezTo>
                <a:cubicBezTo>
                  <a:pt x="25105" y="9630"/>
                  <a:pt x="25102" y="9619"/>
                  <a:pt x="25078" y="9599"/>
                </a:cubicBezTo>
              </a:path>
              <a:path w="1737" h="1117">
                <a:moveTo>
                  <a:pt x="25251" y="8632"/>
                </a:moveTo>
                <a:cubicBezTo>
                  <a:pt x="25259" y="8632"/>
                  <a:pt x="25268" y="8632"/>
                  <a:pt x="25276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Ink 12"/>
          <p:cNvSpPr/>
          <p:nvPr/>
        </p:nvSpPr>
        <p:spPr>
          <a:xfrm>
            <a:off x="1911240" y="3517920"/>
            <a:ext cx="1581120" cy="573120"/>
          </a:xfrm>
          <a:custGeom>
            <a:avLst/>
            <a:gdLst/>
            <a:ahLst/>
            <a:rect l="l" t="t" r="r" b="b"/>
            <a:pathLst>
              <a:path w="4392" h="1589">
                <a:moveTo>
                  <a:pt x="5383" y="9897"/>
                </a:moveTo>
                <a:cubicBezTo>
                  <a:pt x="5383" y="9958"/>
                  <a:pt x="5392" y="9974"/>
                  <a:pt x="5358" y="9996"/>
                </a:cubicBezTo>
                <a:cubicBezTo>
                  <a:pt x="5394" y="9951"/>
                  <a:pt x="5417" y="9925"/>
                  <a:pt x="5457" y="9897"/>
                </a:cubicBezTo>
                <a:cubicBezTo>
                  <a:pt x="5511" y="9860"/>
                  <a:pt x="5620" y="9791"/>
                  <a:pt x="5680" y="9847"/>
                </a:cubicBezTo>
                <a:cubicBezTo>
                  <a:pt x="5707" y="9872"/>
                  <a:pt x="5764" y="9962"/>
                  <a:pt x="5779" y="9996"/>
                </a:cubicBezTo>
                <a:cubicBezTo>
                  <a:pt x="5820" y="10089"/>
                  <a:pt x="5804" y="10195"/>
                  <a:pt x="5804" y="10294"/>
                </a:cubicBezTo>
                <a:cubicBezTo>
                  <a:pt x="5804" y="10420"/>
                  <a:pt x="5745" y="10525"/>
                  <a:pt x="5705" y="10641"/>
                </a:cubicBezTo>
                <a:cubicBezTo>
                  <a:pt x="5679" y="10716"/>
                  <a:pt x="5632" y="10783"/>
                  <a:pt x="5556" y="10790"/>
                </a:cubicBezTo>
                <a:cubicBezTo>
                  <a:pt x="5456" y="10799"/>
                  <a:pt x="5403" y="10775"/>
                  <a:pt x="5358" y="10691"/>
                </a:cubicBezTo>
                <a:cubicBezTo>
                  <a:pt x="5320" y="10620"/>
                  <a:pt x="5307" y="10565"/>
                  <a:pt x="5333" y="10492"/>
                </a:cubicBezTo>
                <a:cubicBezTo>
                  <a:pt x="5363" y="10407"/>
                  <a:pt x="5432" y="10392"/>
                  <a:pt x="5507" y="10443"/>
                </a:cubicBezTo>
                <a:cubicBezTo>
                  <a:pt x="5578" y="10491"/>
                  <a:pt x="5626" y="10565"/>
                  <a:pt x="5655" y="10641"/>
                </a:cubicBezTo>
                <a:cubicBezTo>
                  <a:pt x="5689" y="10730"/>
                  <a:pt x="5677" y="10826"/>
                  <a:pt x="5705" y="10914"/>
                </a:cubicBezTo>
                <a:cubicBezTo>
                  <a:pt x="5717" y="10951"/>
                  <a:pt x="5750" y="11003"/>
                  <a:pt x="5755" y="11013"/>
                </a:cubicBezTo>
              </a:path>
              <a:path w="4392" h="1589">
                <a:moveTo>
                  <a:pt x="6300" y="9897"/>
                </a:moveTo>
                <a:cubicBezTo>
                  <a:pt x="6300" y="10010"/>
                  <a:pt x="6287" y="10088"/>
                  <a:pt x="6251" y="10195"/>
                </a:cubicBezTo>
                <a:cubicBezTo>
                  <a:pt x="6216" y="10299"/>
                  <a:pt x="6185" y="10409"/>
                  <a:pt x="6176" y="10517"/>
                </a:cubicBezTo>
                <a:cubicBezTo>
                  <a:pt x="6167" y="10627"/>
                  <a:pt x="6163" y="10760"/>
                  <a:pt x="6201" y="10864"/>
                </a:cubicBezTo>
                <a:cubicBezTo>
                  <a:pt x="6222" y="10921"/>
                  <a:pt x="6304" y="11026"/>
                  <a:pt x="6375" y="11013"/>
                </a:cubicBezTo>
                <a:cubicBezTo>
                  <a:pt x="6400" y="10997"/>
                  <a:pt x="6424" y="10980"/>
                  <a:pt x="6449" y="10964"/>
                </a:cubicBezTo>
              </a:path>
              <a:path w="4392" h="1589">
                <a:moveTo>
                  <a:pt x="6548" y="10418"/>
                </a:moveTo>
                <a:cubicBezTo>
                  <a:pt x="6631" y="10418"/>
                  <a:pt x="6713" y="10418"/>
                  <a:pt x="6796" y="10418"/>
                </a:cubicBezTo>
              </a:path>
              <a:path w="4392" h="1589">
                <a:moveTo>
                  <a:pt x="7169" y="10046"/>
                </a:moveTo>
                <a:cubicBezTo>
                  <a:pt x="7276" y="10046"/>
                  <a:pt x="7384" y="10046"/>
                  <a:pt x="7491" y="10046"/>
                </a:cubicBezTo>
              </a:path>
              <a:path w="4392" h="1589">
                <a:moveTo>
                  <a:pt x="7218" y="10071"/>
                </a:moveTo>
                <a:cubicBezTo>
                  <a:pt x="7193" y="10109"/>
                  <a:pt x="7079" y="10232"/>
                  <a:pt x="7094" y="10294"/>
                </a:cubicBezTo>
                <a:cubicBezTo>
                  <a:pt x="7102" y="10311"/>
                  <a:pt x="7111" y="10327"/>
                  <a:pt x="7119" y="10344"/>
                </a:cubicBezTo>
                <a:cubicBezTo>
                  <a:pt x="7155" y="10317"/>
                  <a:pt x="7260" y="10250"/>
                  <a:pt x="7317" y="10294"/>
                </a:cubicBezTo>
                <a:cubicBezTo>
                  <a:pt x="7350" y="10320"/>
                  <a:pt x="7400" y="10397"/>
                  <a:pt x="7417" y="10418"/>
                </a:cubicBezTo>
                <a:cubicBezTo>
                  <a:pt x="7473" y="10490"/>
                  <a:pt x="7505" y="10549"/>
                  <a:pt x="7516" y="10641"/>
                </a:cubicBezTo>
                <a:cubicBezTo>
                  <a:pt x="7526" y="10729"/>
                  <a:pt x="7499" y="10782"/>
                  <a:pt x="7441" y="10840"/>
                </a:cubicBezTo>
                <a:cubicBezTo>
                  <a:pt x="7414" y="10867"/>
                  <a:pt x="7333" y="10896"/>
                  <a:pt x="7293" y="10889"/>
                </a:cubicBezTo>
                <a:cubicBezTo>
                  <a:pt x="7230" y="10878"/>
                  <a:pt x="7191" y="10860"/>
                  <a:pt x="7169" y="10815"/>
                </a:cubicBezTo>
              </a:path>
              <a:path w="4392" h="1589">
                <a:moveTo>
                  <a:pt x="7739" y="10567"/>
                </a:moveTo>
                <a:cubicBezTo>
                  <a:pt x="7739" y="10666"/>
                  <a:pt x="7739" y="10765"/>
                  <a:pt x="7739" y="10864"/>
                </a:cubicBezTo>
              </a:path>
              <a:path w="4392" h="1589">
                <a:moveTo>
                  <a:pt x="7764" y="10269"/>
                </a:moveTo>
                <a:cubicBezTo>
                  <a:pt x="7764" y="10225"/>
                  <a:pt x="7761" y="10211"/>
                  <a:pt x="7789" y="10195"/>
                </a:cubicBezTo>
              </a:path>
              <a:path w="4392" h="1589">
                <a:moveTo>
                  <a:pt x="8161" y="10195"/>
                </a:moveTo>
                <a:cubicBezTo>
                  <a:pt x="8161" y="10268"/>
                  <a:pt x="8148" y="10310"/>
                  <a:pt x="8136" y="10368"/>
                </a:cubicBezTo>
                <a:cubicBezTo>
                  <a:pt x="8114" y="10477"/>
                  <a:pt x="8144" y="10590"/>
                  <a:pt x="8161" y="10691"/>
                </a:cubicBezTo>
                <a:cubicBezTo>
                  <a:pt x="8161" y="10740"/>
                  <a:pt x="8161" y="10757"/>
                  <a:pt x="8161" y="10790"/>
                </a:cubicBezTo>
              </a:path>
              <a:path w="4392" h="1589">
                <a:moveTo>
                  <a:pt x="7987" y="10443"/>
                </a:moveTo>
                <a:cubicBezTo>
                  <a:pt x="8064" y="10417"/>
                  <a:pt x="8128" y="10418"/>
                  <a:pt x="8210" y="10418"/>
                </a:cubicBezTo>
                <a:cubicBezTo>
                  <a:pt x="8235" y="10418"/>
                  <a:pt x="8260" y="10418"/>
                  <a:pt x="8285" y="10418"/>
                </a:cubicBezTo>
              </a:path>
              <a:path w="4392" h="1589">
                <a:moveTo>
                  <a:pt x="8855" y="10269"/>
                </a:moveTo>
                <a:cubicBezTo>
                  <a:pt x="8855" y="10203"/>
                  <a:pt x="8855" y="10186"/>
                  <a:pt x="8855" y="10145"/>
                </a:cubicBezTo>
                <a:cubicBezTo>
                  <a:pt x="8815" y="10115"/>
                  <a:pt x="8761" y="10103"/>
                  <a:pt x="8706" y="10120"/>
                </a:cubicBezTo>
                <a:cubicBezTo>
                  <a:pt x="8682" y="10127"/>
                  <a:pt x="8589" y="10198"/>
                  <a:pt x="8582" y="10220"/>
                </a:cubicBezTo>
                <a:cubicBezTo>
                  <a:pt x="8568" y="10266"/>
                  <a:pt x="8579" y="10392"/>
                  <a:pt x="8632" y="10418"/>
                </a:cubicBezTo>
                <a:cubicBezTo>
                  <a:pt x="8703" y="10453"/>
                  <a:pt x="8770" y="10407"/>
                  <a:pt x="8806" y="10368"/>
                </a:cubicBezTo>
                <a:cubicBezTo>
                  <a:pt x="8841" y="10329"/>
                  <a:pt x="8848" y="10271"/>
                  <a:pt x="8855" y="10220"/>
                </a:cubicBezTo>
                <a:cubicBezTo>
                  <a:pt x="8824" y="10291"/>
                  <a:pt x="8830" y="10338"/>
                  <a:pt x="8830" y="10418"/>
                </a:cubicBezTo>
                <a:cubicBezTo>
                  <a:pt x="8830" y="10542"/>
                  <a:pt x="8843" y="10640"/>
                  <a:pt x="8855" y="10765"/>
                </a:cubicBezTo>
                <a:cubicBezTo>
                  <a:pt x="8860" y="10823"/>
                  <a:pt x="8843" y="10827"/>
                  <a:pt x="8806" y="10864"/>
                </a:cubicBezTo>
              </a:path>
              <a:path w="4392" h="1589">
                <a:moveTo>
                  <a:pt x="9178" y="10517"/>
                </a:moveTo>
                <a:cubicBezTo>
                  <a:pt x="9195" y="10655"/>
                  <a:pt x="9203" y="10776"/>
                  <a:pt x="9203" y="10914"/>
                </a:cubicBezTo>
                <a:cubicBezTo>
                  <a:pt x="9203" y="11041"/>
                  <a:pt x="9227" y="11195"/>
                  <a:pt x="9178" y="11311"/>
                </a:cubicBezTo>
                <a:cubicBezTo>
                  <a:pt x="9154" y="11359"/>
                  <a:pt x="9148" y="11376"/>
                  <a:pt x="9103" y="11361"/>
                </a:cubicBezTo>
                <a:cubicBezTo>
                  <a:pt x="9054" y="11298"/>
                  <a:pt x="9035" y="11235"/>
                  <a:pt x="9004" y="11162"/>
                </a:cubicBezTo>
                <a:cubicBezTo>
                  <a:pt x="8996" y="11145"/>
                  <a:pt x="8987" y="11129"/>
                  <a:pt x="8979" y="11112"/>
                </a:cubicBezTo>
              </a:path>
              <a:path w="4392" h="1589">
                <a:moveTo>
                  <a:pt x="9103" y="10145"/>
                </a:moveTo>
                <a:cubicBezTo>
                  <a:pt x="9111" y="10137"/>
                  <a:pt x="9120" y="10128"/>
                  <a:pt x="9128" y="10120"/>
                </a:cubicBezTo>
              </a:path>
              <a:path w="4392" h="1589">
                <a:moveTo>
                  <a:pt x="9401" y="9773"/>
                </a:moveTo>
                <a:cubicBezTo>
                  <a:pt x="9436" y="9852"/>
                  <a:pt x="9489" y="9922"/>
                  <a:pt x="9525" y="9996"/>
                </a:cubicBezTo>
                <a:cubicBezTo>
                  <a:pt x="9574" y="10097"/>
                  <a:pt x="9660" y="10257"/>
                  <a:pt x="9674" y="10368"/>
                </a:cubicBezTo>
                <a:cubicBezTo>
                  <a:pt x="9689" y="10484"/>
                  <a:pt x="9699" y="10598"/>
                  <a:pt x="9699" y="10716"/>
                </a:cubicBezTo>
                <a:cubicBezTo>
                  <a:pt x="9699" y="10797"/>
                  <a:pt x="9671" y="10871"/>
                  <a:pt x="9624" y="10939"/>
                </a:cubicBezTo>
                <a:cubicBezTo>
                  <a:pt x="9593" y="10984"/>
                  <a:pt x="9545" y="11012"/>
                  <a:pt x="9500" y="110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Ink 13"/>
          <p:cNvSpPr/>
          <p:nvPr/>
        </p:nvSpPr>
        <p:spPr>
          <a:xfrm>
            <a:off x="3643200" y="3510000"/>
            <a:ext cx="1830600" cy="581040"/>
          </a:xfrm>
          <a:custGeom>
            <a:avLst/>
            <a:gdLst/>
            <a:ahLst/>
            <a:rect l="l" t="t" r="r" b="b"/>
            <a:pathLst>
              <a:path w="5086" h="1614">
                <a:moveTo>
                  <a:pt x="10120" y="10517"/>
                </a:moveTo>
                <a:cubicBezTo>
                  <a:pt x="10208" y="10493"/>
                  <a:pt x="10276" y="10492"/>
                  <a:pt x="10368" y="10492"/>
                </a:cubicBezTo>
                <a:cubicBezTo>
                  <a:pt x="10385" y="10492"/>
                  <a:pt x="10401" y="10492"/>
                  <a:pt x="10418" y="10492"/>
                </a:cubicBezTo>
              </a:path>
              <a:path w="5086" h="1614">
                <a:moveTo>
                  <a:pt x="10641" y="10145"/>
                </a:moveTo>
                <a:cubicBezTo>
                  <a:pt x="10668" y="10014"/>
                  <a:pt x="10707" y="10099"/>
                  <a:pt x="10765" y="10120"/>
                </a:cubicBezTo>
                <a:cubicBezTo>
                  <a:pt x="10828" y="10143"/>
                  <a:pt x="10907" y="10096"/>
                  <a:pt x="10939" y="10195"/>
                </a:cubicBezTo>
                <a:cubicBezTo>
                  <a:pt x="10960" y="10261"/>
                  <a:pt x="10956" y="10305"/>
                  <a:pt x="10939" y="10344"/>
                </a:cubicBezTo>
                <a:cubicBezTo>
                  <a:pt x="10911" y="10406"/>
                  <a:pt x="10851" y="10466"/>
                  <a:pt x="10790" y="10492"/>
                </a:cubicBezTo>
                <a:cubicBezTo>
                  <a:pt x="10773" y="10492"/>
                  <a:pt x="10757" y="10492"/>
                  <a:pt x="10740" y="10492"/>
                </a:cubicBezTo>
                <a:cubicBezTo>
                  <a:pt x="10827" y="10503"/>
                  <a:pt x="10861" y="10509"/>
                  <a:pt x="10914" y="10567"/>
                </a:cubicBezTo>
                <a:cubicBezTo>
                  <a:pt x="10961" y="10619"/>
                  <a:pt x="10984" y="10671"/>
                  <a:pt x="10988" y="10740"/>
                </a:cubicBezTo>
                <a:cubicBezTo>
                  <a:pt x="10994" y="10850"/>
                  <a:pt x="10956" y="10875"/>
                  <a:pt x="10889" y="10914"/>
                </a:cubicBezTo>
                <a:cubicBezTo>
                  <a:pt x="10801" y="10966"/>
                  <a:pt x="10778" y="10964"/>
                  <a:pt x="10666" y="10964"/>
                </a:cubicBezTo>
                <a:cubicBezTo>
                  <a:pt x="10605" y="10964"/>
                  <a:pt x="10581" y="10945"/>
                  <a:pt x="10567" y="10889"/>
                </a:cubicBezTo>
              </a:path>
              <a:path w="5086" h="1614">
                <a:moveTo>
                  <a:pt x="11509" y="9897"/>
                </a:moveTo>
                <a:cubicBezTo>
                  <a:pt x="11500" y="9979"/>
                  <a:pt x="11467" y="10026"/>
                  <a:pt x="11435" y="10120"/>
                </a:cubicBezTo>
                <a:cubicBezTo>
                  <a:pt x="11401" y="10221"/>
                  <a:pt x="11365" y="10311"/>
                  <a:pt x="11361" y="10418"/>
                </a:cubicBezTo>
                <a:cubicBezTo>
                  <a:pt x="11357" y="10518"/>
                  <a:pt x="11351" y="10621"/>
                  <a:pt x="11385" y="10716"/>
                </a:cubicBezTo>
                <a:cubicBezTo>
                  <a:pt x="11411" y="10789"/>
                  <a:pt x="11458" y="10882"/>
                  <a:pt x="11509" y="10939"/>
                </a:cubicBezTo>
                <a:cubicBezTo>
                  <a:pt x="11536" y="10969"/>
                  <a:pt x="11548" y="10979"/>
                  <a:pt x="11584" y="10988"/>
                </a:cubicBezTo>
              </a:path>
              <a:path w="5086" h="1614">
                <a:moveTo>
                  <a:pt x="11931" y="10195"/>
                </a:moveTo>
                <a:cubicBezTo>
                  <a:pt x="11980" y="10118"/>
                  <a:pt x="11990" y="10054"/>
                  <a:pt x="12080" y="10046"/>
                </a:cubicBezTo>
                <a:cubicBezTo>
                  <a:pt x="12131" y="10042"/>
                  <a:pt x="12214" y="10031"/>
                  <a:pt x="12254" y="10071"/>
                </a:cubicBezTo>
                <a:cubicBezTo>
                  <a:pt x="12287" y="10104"/>
                  <a:pt x="12280" y="10248"/>
                  <a:pt x="12254" y="10269"/>
                </a:cubicBezTo>
                <a:cubicBezTo>
                  <a:pt x="12199" y="10313"/>
                  <a:pt x="12090" y="10321"/>
                  <a:pt x="12030" y="10344"/>
                </a:cubicBezTo>
                <a:cubicBezTo>
                  <a:pt x="12022" y="10352"/>
                  <a:pt x="12013" y="10360"/>
                  <a:pt x="12005" y="10368"/>
                </a:cubicBezTo>
                <a:cubicBezTo>
                  <a:pt x="12096" y="10368"/>
                  <a:pt x="12133" y="10377"/>
                  <a:pt x="12204" y="10443"/>
                </a:cubicBezTo>
                <a:cubicBezTo>
                  <a:pt x="12274" y="10508"/>
                  <a:pt x="12312" y="10556"/>
                  <a:pt x="12353" y="10641"/>
                </a:cubicBezTo>
                <a:cubicBezTo>
                  <a:pt x="12395" y="10728"/>
                  <a:pt x="12389" y="10770"/>
                  <a:pt x="12328" y="10840"/>
                </a:cubicBezTo>
                <a:cubicBezTo>
                  <a:pt x="12280" y="10895"/>
                  <a:pt x="12250" y="10889"/>
                  <a:pt x="12179" y="10889"/>
                </a:cubicBezTo>
                <a:cubicBezTo>
                  <a:pt x="12148" y="10889"/>
                  <a:pt x="12005" y="10900"/>
                  <a:pt x="12005" y="10840"/>
                </a:cubicBezTo>
                <a:cubicBezTo>
                  <a:pt x="12013" y="10840"/>
                  <a:pt x="12022" y="10840"/>
                  <a:pt x="12030" y="10840"/>
                </a:cubicBezTo>
              </a:path>
              <a:path w="5086" h="1614">
                <a:moveTo>
                  <a:pt x="12700" y="10492"/>
                </a:moveTo>
                <a:cubicBezTo>
                  <a:pt x="12693" y="10589"/>
                  <a:pt x="12675" y="10667"/>
                  <a:pt x="12675" y="10765"/>
                </a:cubicBezTo>
                <a:cubicBezTo>
                  <a:pt x="12675" y="10832"/>
                  <a:pt x="12711" y="10908"/>
                  <a:pt x="12750" y="10964"/>
                </a:cubicBezTo>
                <a:cubicBezTo>
                  <a:pt x="12792" y="11025"/>
                  <a:pt x="12820" y="11002"/>
                  <a:pt x="12874" y="10988"/>
                </a:cubicBezTo>
              </a:path>
              <a:path w="5086" h="1614">
                <a:moveTo>
                  <a:pt x="12650" y="10046"/>
                </a:moveTo>
                <a:cubicBezTo>
                  <a:pt x="12658" y="10046"/>
                  <a:pt x="12667" y="10046"/>
                  <a:pt x="12675" y="10046"/>
                </a:cubicBezTo>
              </a:path>
              <a:path w="5086" h="1614">
                <a:moveTo>
                  <a:pt x="13097" y="10492"/>
                </a:moveTo>
                <a:cubicBezTo>
                  <a:pt x="13204" y="10492"/>
                  <a:pt x="13312" y="10492"/>
                  <a:pt x="13419" y="10492"/>
                </a:cubicBezTo>
              </a:path>
              <a:path w="5086" h="1614">
                <a:moveTo>
                  <a:pt x="13643" y="10195"/>
                </a:moveTo>
                <a:cubicBezTo>
                  <a:pt x="13720" y="10116"/>
                  <a:pt x="13729" y="10120"/>
                  <a:pt x="13841" y="10120"/>
                </a:cubicBezTo>
                <a:cubicBezTo>
                  <a:pt x="13882" y="10120"/>
                  <a:pt x="13998" y="10217"/>
                  <a:pt x="14015" y="10269"/>
                </a:cubicBezTo>
                <a:cubicBezTo>
                  <a:pt x="14043" y="10356"/>
                  <a:pt x="14053" y="10500"/>
                  <a:pt x="14039" y="10592"/>
                </a:cubicBezTo>
                <a:cubicBezTo>
                  <a:pt x="14023" y="10700"/>
                  <a:pt x="13978" y="10800"/>
                  <a:pt x="13915" y="10889"/>
                </a:cubicBezTo>
                <a:cubicBezTo>
                  <a:pt x="13873" y="10949"/>
                  <a:pt x="13829" y="10953"/>
                  <a:pt x="13767" y="10914"/>
                </a:cubicBezTo>
                <a:cubicBezTo>
                  <a:pt x="13720" y="10885"/>
                  <a:pt x="13696" y="10819"/>
                  <a:pt x="13717" y="10765"/>
                </a:cubicBezTo>
                <a:cubicBezTo>
                  <a:pt x="13740" y="10705"/>
                  <a:pt x="14008" y="10788"/>
                  <a:pt x="14015" y="10790"/>
                </a:cubicBezTo>
                <a:cubicBezTo>
                  <a:pt x="14031" y="10798"/>
                  <a:pt x="14048" y="10807"/>
                  <a:pt x="14064" y="10815"/>
                </a:cubicBezTo>
              </a:path>
              <a:path w="5086" h="1614">
                <a:moveTo>
                  <a:pt x="14511" y="10517"/>
                </a:moveTo>
                <a:cubicBezTo>
                  <a:pt x="14556" y="10596"/>
                  <a:pt x="14577" y="10673"/>
                  <a:pt x="14585" y="10765"/>
                </a:cubicBezTo>
                <a:cubicBezTo>
                  <a:pt x="14597" y="10895"/>
                  <a:pt x="14632" y="11193"/>
                  <a:pt x="14560" y="11311"/>
                </a:cubicBezTo>
                <a:cubicBezTo>
                  <a:pt x="14483" y="11436"/>
                  <a:pt x="14424" y="11286"/>
                  <a:pt x="14387" y="11237"/>
                </a:cubicBezTo>
                <a:cubicBezTo>
                  <a:pt x="14335" y="11185"/>
                  <a:pt x="14317" y="11166"/>
                  <a:pt x="14312" y="11112"/>
                </a:cubicBezTo>
              </a:path>
              <a:path w="5086" h="1614">
                <a:moveTo>
                  <a:pt x="14362" y="10120"/>
                </a:moveTo>
                <a:cubicBezTo>
                  <a:pt x="14379" y="10095"/>
                  <a:pt x="14395" y="10071"/>
                  <a:pt x="14412" y="10046"/>
                </a:cubicBezTo>
              </a:path>
              <a:path w="5086" h="1614">
                <a:moveTo>
                  <a:pt x="14734" y="9748"/>
                </a:moveTo>
                <a:cubicBezTo>
                  <a:pt x="14875" y="9889"/>
                  <a:pt x="14967" y="10041"/>
                  <a:pt x="15056" y="10220"/>
                </a:cubicBezTo>
                <a:cubicBezTo>
                  <a:pt x="15121" y="10349"/>
                  <a:pt x="15148" y="10502"/>
                  <a:pt x="15180" y="10641"/>
                </a:cubicBezTo>
                <a:cubicBezTo>
                  <a:pt x="15206" y="10755"/>
                  <a:pt x="15224" y="10882"/>
                  <a:pt x="15156" y="10988"/>
                </a:cubicBezTo>
                <a:cubicBezTo>
                  <a:pt x="15116" y="11051"/>
                  <a:pt x="15047" y="11064"/>
                  <a:pt x="14982" y="110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Ink 14"/>
          <p:cNvSpPr/>
          <p:nvPr/>
        </p:nvSpPr>
        <p:spPr>
          <a:xfrm>
            <a:off x="6589800" y="4027320"/>
            <a:ext cx="679320" cy="544680"/>
          </a:xfrm>
          <a:custGeom>
            <a:avLst/>
            <a:gdLst/>
            <a:ahLst/>
            <a:rect l="l" t="t" r="r" b="b"/>
            <a:pathLst>
              <a:path w="1886" h="1514">
                <a:moveTo>
                  <a:pt x="18306" y="11757"/>
                </a:moveTo>
                <a:cubicBezTo>
                  <a:pt x="18405" y="11800"/>
                  <a:pt x="18491" y="11828"/>
                  <a:pt x="18604" y="11807"/>
                </a:cubicBezTo>
                <a:cubicBezTo>
                  <a:pt x="18703" y="11788"/>
                  <a:pt x="18805" y="11772"/>
                  <a:pt x="18901" y="11733"/>
                </a:cubicBezTo>
                <a:cubicBezTo>
                  <a:pt x="18918" y="11725"/>
                  <a:pt x="18934" y="11716"/>
                  <a:pt x="18951" y="11708"/>
                </a:cubicBezTo>
              </a:path>
              <a:path w="1886" h="1514">
                <a:moveTo>
                  <a:pt x="19323" y="11187"/>
                </a:moveTo>
                <a:cubicBezTo>
                  <a:pt x="19329" y="11340"/>
                  <a:pt x="19368" y="11504"/>
                  <a:pt x="19348" y="11658"/>
                </a:cubicBezTo>
                <a:cubicBezTo>
                  <a:pt x="19327" y="11822"/>
                  <a:pt x="19301" y="11990"/>
                  <a:pt x="19273" y="12154"/>
                </a:cubicBezTo>
                <a:cubicBezTo>
                  <a:pt x="19249" y="12295"/>
                  <a:pt x="19204" y="12433"/>
                  <a:pt x="19199" y="12576"/>
                </a:cubicBezTo>
                <a:cubicBezTo>
                  <a:pt x="19197" y="12641"/>
                  <a:pt x="19186" y="12675"/>
                  <a:pt x="19224" y="12700"/>
                </a:cubicBezTo>
              </a:path>
              <a:path w="1886" h="1514">
                <a:moveTo>
                  <a:pt x="19645" y="11633"/>
                </a:moveTo>
                <a:cubicBezTo>
                  <a:pt x="19661" y="11506"/>
                  <a:pt x="19708" y="11425"/>
                  <a:pt x="19621" y="11336"/>
                </a:cubicBezTo>
                <a:cubicBezTo>
                  <a:pt x="19580" y="11387"/>
                  <a:pt x="19545" y="11447"/>
                  <a:pt x="19521" y="11509"/>
                </a:cubicBezTo>
                <a:cubicBezTo>
                  <a:pt x="19483" y="11606"/>
                  <a:pt x="19479" y="11700"/>
                  <a:pt x="19546" y="11782"/>
                </a:cubicBezTo>
                <a:cubicBezTo>
                  <a:pt x="19603" y="11851"/>
                  <a:pt x="19664" y="11785"/>
                  <a:pt x="19695" y="11733"/>
                </a:cubicBezTo>
                <a:cubicBezTo>
                  <a:pt x="19737" y="11661"/>
                  <a:pt x="19800" y="11589"/>
                  <a:pt x="19819" y="11509"/>
                </a:cubicBezTo>
                <a:cubicBezTo>
                  <a:pt x="19819" y="11458"/>
                  <a:pt x="19820" y="11439"/>
                  <a:pt x="19844" y="11410"/>
                </a:cubicBezTo>
                <a:cubicBezTo>
                  <a:pt x="19895" y="11359"/>
                  <a:pt x="19832" y="11493"/>
                  <a:pt x="19819" y="11534"/>
                </a:cubicBezTo>
                <a:cubicBezTo>
                  <a:pt x="19784" y="11646"/>
                  <a:pt x="19774" y="11765"/>
                  <a:pt x="19745" y="11881"/>
                </a:cubicBezTo>
                <a:cubicBezTo>
                  <a:pt x="19715" y="12002"/>
                  <a:pt x="19663" y="12132"/>
                  <a:pt x="19645" y="12254"/>
                </a:cubicBezTo>
                <a:cubicBezTo>
                  <a:pt x="19635" y="12324"/>
                  <a:pt x="19647" y="12366"/>
                  <a:pt x="19670" y="12427"/>
                </a:cubicBezTo>
              </a:path>
              <a:path w="1886" h="1514">
                <a:moveTo>
                  <a:pt x="20092" y="11782"/>
                </a:moveTo>
                <a:cubicBezTo>
                  <a:pt x="20092" y="11872"/>
                  <a:pt x="20075" y="11944"/>
                  <a:pt x="20067" y="12030"/>
                </a:cubicBezTo>
                <a:cubicBezTo>
                  <a:pt x="20054" y="12164"/>
                  <a:pt x="20030" y="12291"/>
                  <a:pt x="20017" y="12427"/>
                </a:cubicBezTo>
                <a:cubicBezTo>
                  <a:pt x="20011" y="12486"/>
                  <a:pt x="20033" y="12509"/>
                  <a:pt x="20067" y="12551"/>
                </a:cubicBezTo>
                <a:cubicBezTo>
                  <a:pt x="20113" y="12514"/>
                  <a:pt x="20132" y="12500"/>
                  <a:pt x="20166" y="12452"/>
                </a:cubicBezTo>
              </a:path>
              <a:path w="1886" h="1514">
                <a:moveTo>
                  <a:pt x="20191" y="11460"/>
                </a:moveTo>
                <a:cubicBezTo>
                  <a:pt x="20134" y="11403"/>
                  <a:pt x="20119" y="11376"/>
                  <a:pt x="20166" y="113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Ink 15"/>
          <p:cNvSpPr/>
          <p:nvPr/>
        </p:nvSpPr>
        <p:spPr>
          <a:xfrm>
            <a:off x="7473960" y="3938760"/>
            <a:ext cx="973080" cy="793440"/>
          </a:xfrm>
          <a:custGeom>
            <a:avLst/>
            <a:gdLst/>
            <a:ahLst/>
            <a:rect l="l" t="t" r="r" b="b"/>
            <a:pathLst>
              <a:path w="2704" h="2208">
                <a:moveTo>
                  <a:pt x="21183" y="11286"/>
                </a:moveTo>
                <a:cubicBezTo>
                  <a:pt x="21131" y="11409"/>
                  <a:pt x="21129" y="11500"/>
                  <a:pt x="21109" y="11633"/>
                </a:cubicBezTo>
                <a:cubicBezTo>
                  <a:pt x="21086" y="11791"/>
                  <a:pt x="21046" y="11946"/>
                  <a:pt x="21034" y="12105"/>
                </a:cubicBezTo>
                <a:cubicBezTo>
                  <a:pt x="21028" y="12187"/>
                  <a:pt x="21038" y="12325"/>
                  <a:pt x="21010" y="12402"/>
                </a:cubicBezTo>
                <a:cubicBezTo>
                  <a:pt x="20993" y="12449"/>
                  <a:pt x="20997" y="12424"/>
                  <a:pt x="21010" y="12477"/>
                </a:cubicBezTo>
              </a:path>
              <a:path w="2704" h="2208">
                <a:moveTo>
                  <a:pt x="20762" y="11807"/>
                </a:moveTo>
                <a:cubicBezTo>
                  <a:pt x="20899" y="11807"/>
                  <a:pt x="21024" y="11795"/>
                  <a:pt x="21158" y="11782"/>
                </a:cubicBezTo>
                <a:cubicBezTo>
                  <a:pt x="21270" y="11771"/>
                  <a:pt x="21372" y="11741"/>
                  <a:pt x="21481" y="11708"/>
                </a:cubicBezTo>
              </a:path>
              <a:path w="2704" h="2208">
                <a:moveTo>
                  <a:pt x="21803" y="11187"/>
                </a:moveTo>
                <a:cubicBezTo>
                  <a:pt x="21891" y="11083"/>
                  <a:pt x="21937" y="11026"/>
                  <a:pt x="22076" y="11013"/>
                </a:cubicBezTo>
                <a:cubicBezTo>
                  <a:pt x="22149" y="11006"/>
                  <a:pt x="22195" y="11014"/>
                  <a:pt x="22250" y="11063"/>
                </a:cubicBezTo>
                <a:cubicBezTo>
                  <a:pt x="22323" y="11129"/>
                  <a:pt x="22300" y="11202"/>
                  <a:pt x="22275" y="11286"/>
                </a:cubicBezTo>
                <a:cubicBezTo>
                  <a:pt x="22239" y="11408"/>
                  <a:pt x="22173" y="11529"/>
                  <a:pt x="22101" y="11633"/>
                </a:cubicBezTo>
                <a:cubicBezTo>
                  <a:pt x="22017" y="11754"/>
                  <a:pt x="21941" y="11887"/>
                  <a:pt x="21903" y="12030"/>
                </a:cubicBezTo>
                <a:cubicBezTo>
                  <a:pt x="21889" y="12082"/>
                  <a:pt x="21896" y="12165"/>
                  <a:pt x="21927" y="12204"/>
                </a:cubicBezTo>
                <a:cubicBezTo>
                  <a:pt x="21971" y="12260"/>
                  <a:pt x="22011" y="12251"/>
                  <a:pt x="22076" y="12229"/>
                </a:cubicBezTo>
                <a:cubicBezTo>
                  <a:pt x="22155" y="12202"/>
                  <a:pt x="22260" y="12157"/>
                  <a:pt x="22324" y="12105"/>
                </a:cubicBezTo>
                <a:cubicBezTo>
                  <a:pt x="22416" y="12013"/>
                  <a:pt x="22461" y="11975"/>
                  <a:pt x="22547" y="11931"/>
                </a:cubicBezTo>
              </a:path>
              <a:path w="2704" h="2208">
                <a:moveTo>
                  <a:pt x="22746" y="11187"/>
                </a:moveTo>
                <a:cubicBezTo>
                  <a:pt x="22715" y="11270"/>
                  <a:pt x="22721" y="11344"/>
                  <a:pt x="22721" y="11435"/>
                </a:cubicBezTo>
                <a:cubicBezTo>
                  <a:pt x="22721" y="11504"/>
                  <a:pt x="22738" y="11640"/>
                  <a:pt x="22820" y="11658"/>
                </a:cubicBezTo>
                <a:cubicBezTo>
                  <a:pt x="22910" y="11658"/>
                  <a:pt x="22936" y="11665"/>
                  <a:pt x="22969" y="11609"/>
                </a:cubicBezTo>
              </a:path>
              <a:path w="2704" h="2208">
                <a:moveTo>
                  <a:pt x="23118" y="10939"/>
                </a:moveTo>
                <a:cubicBezTo>
                  <a:pt x="23056" y="11027"/>
                  <a:pt x="23029" y="11126"/>
                  <a:pt x="23019" y="11237"/>
                </a:cubicBezTo>
                <a:cubicBezTo>
                  <a:pt x="23003" y="11410"/>
                  <a:pt x="22994" y="11583"/>
                  <a:pt x="22994" y="11757"/>
                </a:cubicBezTo>
                <a:cubicBezTo>
                  <a:pt x="22994" y="11891"/>
                  <a:pt x="22969" y="12018"/>
                  <a:pt x="22969" y="12154"/>
                </a:cubicBezTo>
                <a:cubicBezTo>
                  <a:pt x="22969" y="12220"/>
                  <a:pt x="22969" y="12237"/>
                  <a:pt x="22969" y="12278"/>
                </a:cubicBezTo>
              </a:path>
              <a:path w="2704" h="2208">
                <a:moveTo>
                  <a:pt x="23465" y="11609"/>
                </a:moveTo>
                <a:cubicBezTo>
                  <a:pt x="23465" y="11781"/>
                  <a:pt x="23470" y="11937"/>
                  <a:pt x="23440" y="12105"/>
                </a:cubicBezTo>
                <a:cubicBezTo>
                  <a:pt x="23404" y="12308"/>
                  <a:pt x="23363" y="12507"/>
                  <a:pt x="23292" y="12700"/>
                </a:cubicBezTo>
                <a:cubicBezTo>
                  <a:pt x="23241" y="12839"/>
                  <a:pt x="23167" y="12947"/>
                  <a:pt x="23093" y="13072"/>
                </a:cubicBezTo>
                <a:cubicBezTo>
                  <a:pt x="23055" y="13136"/>
                  <a:pt x="23026" y="13120"/>
                  <a:pt x="23019" y="13122"/>
                </a:cubicBezTo>
              </a:path>
              <a:path w="2704" h="2208">
                <a:moveTo>
                  <a:pt x="23465" y="10939"/>
                </a:moveTo>
                <a:cubicBezTo>
                  <a:pt x="23395" y="10967"/>
                  <a:pt x="23389" y="10966"/>
                  <a:pt x="23341" y="11013"/>
                </a:cubicBezTo>
                <a:cubicBezTo>
                  <a:pt x="23408" y="11003"/>
                  <a:pt x="23417" y="10987"/>
                  <a:pt x="23465" y="10939"/>
                </a:cubicBezTo>
                <a:cubicBezTo>
                  <a:pt x="23380" y="10982"/>
                  <a:pt x="23313" y="11025"/>
                  <a:pt x="23242" y="110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Ink 16"/>
          <p:cNvSpPr/>
          <p:nvPr/>
        </p:nvSpPr>
        <p:spPr>
          <a:xfrm>
            <a:off x="1758960" y="4348080"/>
            <a:ext cx="115920" cy="19080"/>
          </a:xfrm>
          <a:custGeom>
            <a:avLst/>
            <a:gdLst/>
            <a:ahLst/>
            <a:rect l="l" t="t" r="r" b="b"/>
            <a:pathLst>
              <a:path w="323" h="50">
                <a:moveTo>
                  <a:pt x="4887" y="12129"/>
                </a:moveTo>
                <a:cubicBezTo>
                  <a:pt x="4935" y="12106"/>
                  <a:pt x="5026" y="12088"/>
                  <a:pt x="5085" y="12080"/>
                </a:cubicBezTo>
                <a:cubicBezTo>
                  <a:pt x="5151" y="12080"/>
                  <a:pt x="5168" y="12080"/>
                  <a:pt x="5209" y="120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Ink 17"/>
          <p:cNvSpPr/>
          <p:nvPr/>
        </p:nvSpPr>
        <p:spPr>
          <a:xfrm>
            <a:off x="2000160" y="4214880"/>
            <a:ext cx="428760" cy="349200"/>
          </a:xfrm>
          <a:custGeom>
            <a:avLst/>
            <a:gdLst/>
            <a:ahLst/>
            <a:rect l="l" t="t" r="r" b="b"/>
            <a:pathLst>
              <a:path w="1192" h="968">
                <a:moveTo>
                  <a:pt x="5556" y="11708"/>
                </a:moveTo>
                <a:cubicBezTo>
                  <a:pt x="5565" y="11806"/>
                  <a:pt x="5568" y="11862"/>
                  <a:pt x="5556" y="11956"/>
                </a:cubicBezTo>
                <a:cubicBezTo>
                  <a:pt x="5535" y="12119"/>
                  <a:pt x="5494" y="12509"/>
                  <a:pt x="5581" y="12650"/>
                </a:cubicBezTo>
                <a:cubicBezTo>
                  <a:pt x="5589" y="12658"/>
                  <a:pt x="5598" y="12667"/>
                  <a:pt x="5606" y="12675"/>
                </a:cubicBezTo>
              </a:path>
              <a:path w="1192" h="968">
                <a:moveTo>
                  <a:pt x="5928" y="11931"/>
                </a:moveTo>
                <a:cubicBezTo>
                  <a:pt x="5900" y="12037"/>
                  <a:pt x="5879" y="12120"/>
                  <a:pt x="5879" y="12229"/>
                </a:cubicBezTo>
                <a:cubicBezTo>
                  <a:pt x="5879" y="12350"/>
                  <a:pt x="5896" y="12479"/>
                  <a:pt x="6003" y="12551"/>
                </a:cubicBezTo>
                <a:cubicBezTo>
                  <a:pt x="6065" y="12592"/>
                  <a:pt x="6157" y="12633"/>
                  <a:pt x="6226" y="12576"/>
                </a:cubicBezTo>
                <a:cubicBezTo>
                  <a:pt x="6283" y="12529"/>
                  <a:pt x="6284" y="12441"/>
                  <a:pt x="6300" y="12378"/>
                </a:cubicBezTo>
                <a:cubicBezTo>
                  <a:pt x="6327" y="12268"/>
                  <a:pt x="6313" y="12209"/>
                  <a:pt x="6300" y="12105"/>
                </a:cubicBezTo>
                <a:cubicBezTo>
                  <a:pt x="6291" y="12032"/>
                  <a:pt x="6284" y="11915"/>
                  <a:pt x="6226" y="11857"/>
                </a:cubicBezTo>
                <a:cubicBezTo>
                  <a:pt x="6186" y="11817"/>
                  <a:pt x="6110" y="11766"/>
                  <a:pt x="6052" y="11782"/>
                </a:cubicBezTo>
                <a:cubicBezTo>
                  <a:pt x="6011" y="11793"/>
                  <a:pt x="5961" y="11897"/>
                  <a:pt x="5953" y="11931"/>
                </a:cubicBezTo>
                <a:cubicBezTo>
                  <a:pt x="5938" y="12000"/>
                  <a:pt x="5954" y="12091"/>
                  <a:pt x="5978" y="12154"/>
                </a:cubicBezTo>
                <a:cubicBezTo>
                  <a:pt x="6003" y="12204"/>
                  <a:pt x="6011" y="12221"/>
                  <a:pt x="6028" y="12254"/>
                </a:cubicBezTo>
              </a:path>
              <a:path w="1192" h="968">
                <a:moveTo>
                  <a:pt x="6623" y="12179"/>
                </a:moveTo>
                <a:cubicBezTo>
                  <a:pt x="6647" y="12267"/>
                  <a:pt x="6648" y="12335"/>
                  <a:pt x="6648" y="12427"/>
                </a:cubicBezTo>
                <a:cubicBezTo>
                  <a:pt x="6648" y="12501"/>
                  <a:pt x="6659" y="12558"/>
                  <a:pt x="6672" y="12626"/>
                </a:cubicBezTo>
              </a:path>
              <a:path w="1192" h="968">
                <a:moveTo>
                  <a:pt x="6722" y="11931"/>
                </a:moveTo>
                <a:cubicBezTo>
                  <a:pt x="6730" y="11948"/>
                  <a:pt x="6739" y="11964"/>
                  <a:pt x="6747" y="119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Ink 18"/>
          <p:cNvSpPr/>
          <p:nvPr/>
        </p:nvSpPr>
        <p:spPr>
          <a:xfrm>
            <a:off x="2589120" y="4313160"/>
            <a:ext cx="108000" cy="204840"/>
          </a:xfrm>
          <a:custGeom>
            <a:avLst/>
            <a:gdLst/>
            <a:ahLst/>
            <a:rect l="l" t="t" r="r" b="b"/>
            <a:pathLst>
              <a:path w="299" h="571">
                <a:moveTo>
                  <a:pt x="7293" y="11981"/>
                </a:moveTo>
                <a:cubicBezTo>
                  <a:pt x="7298" y="12075"/>
                  <a:pt x="7294" y="12208"/>
                  <a:pt x="7317" y="12303"/>
                </a:cubicBezTo>
                <a:cubicBezTo>
                  <a:pt x="7335" y="12378"/>
                  <a:pt x="7361" y="12448"/>
                  <a:pt x="7367" y="12526"/>
                </a:cubicBezTo>
                <a:cubicBezTo>
                  <a:pt x="7367" y="12534"/>
                  <a:pt x="7367" y="12543"/>
                  <a:pt x="7367" y="12551"/>
                </a:cubicBezTo>
              </a:path>
              <a:path w="299" h="571">
                <a:moveTo>
                  <a:pt x="7193" y="12204"/>
                </a:moveTo>
                <a:cubicBezTo>
                  <a:pt x="7278" y="12214"/>
                  <a:pt x="7357" y="12242"/>
                  <a:pt x="7441" y="12254"/>
                </a:cubicBezTo>
                <a:cubicBezTo>
                  <a:pt x="7458" y="12254"/>
                  <a:pt x="7474" y="12254"/>
                  <a:pt x="7491" y="122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Ink 19"/>
          <p:cNvSpPr/>
          <p:nvPr/>
        </p:nvSpPr>
        <p:spPr>
          <a:xfrm>
            <a:off x="2820960" y="4232160"/>
            <a:ext cx="385920" cy="590760"/>
          </a:xfrm>
          <a:custGeom>
            <a:avLst/>
            <a:gdLst/>
            <a:ahLst/>
            <a:rect l="l" t="t" r="r" b="b"/>
            <a:pathLst>
              <a:path w="1068" h="1639">
                <a:moveTo>
                  <a:pt x="7863" y="11757"/>
                </a:moveTo>
                <a:cubicBezTo>
                  <a:pt x="7837" y="11859"/>
                  <a:pt x="7838" y="11949"/>
                  <a:pt x="7838" y="12055"/>
                </a:cubicBezTo>
                <a:cubicBezTo>
                  <a:pt x="7838" y="12160"/>
                  <a:pt x="7846" y="12298"/>
                  <a:pt x="7863" y="12402"/>
                </a:cubicBezTo>
                <a:cubicBezTo>
                  <a:pt x="7876" y="12478"/>
                  <a:pt x="7863" y="12606"/>
                  <a:pt x="7888" y="12675"/>
                </a:cubicBezTo>
                <a:cubicBezTo>
                  <a:pt x="7893" y="12690"/>
                  <a:pt x="7913" y="12789"/>
                  <a:pt x="7913" y="12725"/>
                </a:cubicBezTo>
              </a:path>
              <a:path w="1068" h="1639">
                <a:moveTo>
                  <a:pt x="8359" y="12005"/>
                </a:moveTo>
                <a:cubicBezTo>
                  <a:pt x="8377" y="11886"/>
                  <a:pt x="8401" y="11922"/>
                  <a:pt x="8334" y="11857"/>
                </a:cubicBezTo>
                <a:cubicBezTo>
                  <a:pt x="8244" y="11857"/>
                  <a:pt x="8175" y="11838"/>
                  <a:pt x="8186" y="11956"/>
                </a:cubicBezTo>
                <a:cubicBezTo>
                  <a:pt x="8197" y="12072"/>
                  <a:pt x="8265" y="12130"/>
                  <a:pt x="8310" y="12229"/>
                </a:cubicBezTo>
                <a:cubicBezTo>
                  <a:pt x="8345" y="12306"/>
                  <a:pt x="8393" y="12419"/>
                  <a:pt x="8409" y="12502"/>
                </a:cubicBezTo>
                <a:cubicBezTo>
                  <a:pt x="8418" y="12547"/>
                  <a:pt x="8409" y="12604"/>
                  <a:pt x="8409" y="12650"/>
                </a:cubicBezTo>
                <a:cubicBezTo>
                  <a:pt x="8339" y="12670"/>
                  <a:pt x="8321" y="12656"/>
                  <a:pt x="8260" y="12601"/>
                </a:cubicBezTo>
                <a:cubicBezTo>
                  <a:pt x="8225" y="12569"/>
                  <a:pt x="8213" y="12498"/>
                  <a:pt x="8210" y="12452"/>
                </a:cubicBezTo>
                <a:cubicBezTo>
                  <a:pt x="8206" y="12387"/>
                  <a:pt x="8245" y="12307"/>
                  <a:pt x="8285" y="12254"/>
                </a:cubicBezTo>
                <a:cubicBezTo>
                  <a:pt x="8340" y="12182"/>
                  <a:pt x="8419" y="12120"/>
                  <a:pt x="8483" y="12055"/>
                </a:cubicBezTo>
              </a:path>
              <a:path w="1068" h="1639">
                <a:moveTo>
                  <a:pt x="8806" y="12526"/>
                </a:moveTo>
                <a:cubicBezTo>
                  <a:pt x="8837" y="12683"/>
                  <a:pt x="8875" y="12839"/>
                  <a:pt x="8880" y="12998"/>
                </a:cubicBezTo>
                <a:cubicBezTo>
                  <a:pt x="8883" y="13104"/>
                  <a:pt x="8900" y="13231"/>
                  <a:pt x="8855" y="13320"/>
                </a:cubicBezTo>
                <a:cubicBezTo>
                  <a:pt x="8821" y="13388"/>
                  <a:pt x="8770" y="13423"/>
                  <a:pt x="8706" y="13370"/>
                </a:cubicBezTo>
                <a:cubicBezTo>
                  <a:pt x="8664" y="13336"/>
                  <a:pt x="8619" y="13274"/>
                  <a:pt x="8607" y="13221"/>
                </a:cubicBezTo>
                <a:cubicBezTo>
                  <a:pt x="8595" y="13165"/>
                  <a:pt x="8588" y="13105"/>
                  <a:pt x="8582" y="13047"/>
                </a:cubicBezTo>
              </a:path>
              <a:path w="1068" h="1639">
                <a:moveTo>
                  <a:pt x="8905" y="11931"/>
                </a:moveTo>
                <a:cubicBezTo>
                  <a:pt x="8877" y="11977"/>
                  <a:pt x="8880" y="11997"/>
                  <a:pt x="8880" y="120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Ink 20"/>
          <p:cNvSpPr/>
          <p:nvPr/>
        </p:nvSpPr>
        <p:spPr>
          <a:xfrm>
            <a:off x="3367080" y="4224240"/>
            <a:ext cx="571680" cy="428760"/>
          </a:xfrm>
          <a:custGeom>
            <a:avLst/>
            <a:gdLst/>
            <a:ahLst/>
            <a:rect l="l" t="t" r="r" b="b"/>
            <a:pathLst>
              <a:path w="1589" h="1191">
                <a:moveTo>
                  <a:pt x="9351" y="12427"/>
                </a:moveTo>
                <a:cubicBezTo>
                  <a:pt x="9447" y="12427"/>
                  <a:pt x="9535" y="12441"/>
                  <a:pt x="9624" y="12452"/>
                </a:cubicBezTo>
                <a:cubicBezTo>
                  <a:pt x="9649" y="12452"/>
                  <a:pt x="9674" y="12452"/>
                  <a:pt x="9699" y="12452"/>
                </a:cubicBezTo>
              </a:path>
              <a:path w="1589" h="1191">
                <a:moveTo>
                  <a:pt x="10393" y="11956"/>
                </a:moveTo>
                <a:cubicBezTo>
                  <a:pt x="10393" y="11888"/>
                  <a:pt x="10409" y="11803"/>
                  <a:pt x="10344" y="11757"/>
                </a:cubicBezTo>
                <a:cubicBezTo>
                  <a:pt x="10300" y="11726"/>
                  <a:pt x="10198" y="11719"/>
                  <a:pt x="10145" y="11733"/>
                </a:cubicBezTo>
                <a:cubicBezTo>
                  <a:pt x="10071" y="11753"/>
                  <a:pt x="10030" y="11793"/>
                  <a:pt x="9996" y="11857"/>
                </a:cubicBezTo>
                <a:cubicBezTo>
                  <a:pt x="9953" y="11937"/>
                  <a:pt x="9970" y="12007"/>
                  <a:pt x="10021" y="12080"/>
                </a:cubicBezTo>
                <a:cubicBezTo>
                  <a:pt x="10069" y="12149"/>
                  <a:pt x="10113" y="12150"/>
                  <a:pt x="10170" y="12179"/>
                </a:cubicBezTo>
                <a:cubicBezTo>
                  <a:pt x="10241" y="12215"/>
                  <a:pt x="10272" y="12161"/>
                  <a:pt x="10319" y="12105"/>
                </a:cubicBezTo>
                <a:cubicBezTo>
                  <a:pt x="10368" y="12046"/>
                  <a:pt x="10371" y="11997"/>
                  <a:pt x="10393" y="11931"/>
                </a:cubicBezTo>
                <a:cubicBezTo>
                  <a:pt x="10413" y="11872"/>
                  <a:pt x="10418" y="11846"/>
                  <a:pt x="10418" y="11782"/>
                </a:cubicBezTo>
                <a:cubicBezTo>
                  <a:pt x="10405" y="11871"/>
                  <a:pt x="10404" y="11882"/>
                  <a:pt x="10418" y="11981"/>
                </a:cubicBezTo>
                <a:cubicBezTo>
                  <a:pt x="10430" y="12062"/>
                  <a:pt x="10405" y="12837"/>
                  <a:pt x="10443" y="12824"/>
                </a:cubicBezTo>
              </a:path>
              <a:path w="1589" h="1191">
                <a:moveTo>
                  <a:pt x="10740" y="12278"/>
                </a:moveTo>
                <a:cubicBezTo>
                  <a:pt x="10740" y="12425"/>
                  <a:pt x="10742" y="12561"/>
                  <a:pt x="10765" y="12700"/>
                </a:cubicBezTo>
                <a:cubicBezTo>
                  <a:pt x="10780" y="12790"/>
                  <a:pt x="10795" y="12817"/>
                  <a:pt x="10864" y="12874"/>
                </a:cubicBezTo>
                <a:cubicBezTo>
                  <a:pt x="10896" y="12900"/>
                  <a:pt x="10901" y="12914"/>
                  <a:pt x="10939" y="12923"/>
                </a:cubicBezTo>
              </a:path>
              <a:path w="1589" h="1191">
                <a:moveTo>
                  <a:pt x="10864" y="11906"/>
                </a:moveTo>
                <a:cubicBezTo>
                  <a:pt x="10844" y="11957"/>
                  <a:pt x="10850" y="11956"/>
                  <a:pt x="10889" y="120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Ink 21"/>
          <p:cNvSpPr/>
          <p:nvPr/>
        </p:nvSpPr>
        <p:spPr>
          <a:xfrm>
            <a:off x="4133880" y="4133880"/>
            <a:ext cx="679320" cy="741240"/>
          </a:xfrm>
          <a:custGeom>
            <a:avLst/>
            <a:gdLst/>
            <a:ahLst/>
            <a:rect l="l" t="t" r="r" b="b"/>
            <a:pathLst>
              <a:path w="1886" h="2059">
                <a:moveTo>
                  <a:pt x="11807" y="11906"/>
                </a:moveTo>
                <a:cubicBezTo>
                  <a:pt x="11807" y="12012"/>
                  <a:pt x="11820" y="12102"/>
                  <a:pt x="11832" y="12204"/>
                </a:cubicBezTo>
                <a:cubicBezTo>
                  <a:pt x="11843" y="12298"/>
                  <a:pt x="11837" y="12386"/>
                  <a:pt x="11857" y="12477"/>
                </a:cubicBezTo>
                <a:cubicBezTo>
                  <a:pt x="11875" y="12558"/>
                  <a:pt x="11881" y="12617"/>
                  <a:pt x="11881" y="12700"/>
                </a:cubicBezTo>
                <a:cubicBezTo>
                  <a:pt x="11881" y="12717"/>
                  <a:pt x="11881" y="12733"/>
                  <a:pt x="11881" y="12750"/>
                </a:cubicBezTo>
              </a:path>
              <a:path w="1886" h="2059">
                <a:moveTo>
                  <a:pt x="11485" y="12229"/>
                </a:moveTo>
                <a:cubicBezTo>
                  <a:pt x="11566" y="12196"/>
                  <a:pt x="11596" y="12179"/>
                  <a:pt x="11683" y="12179"/>
                </a:cubicBezTo>
                <a:cubicBezTo>
                  <a:pt x="11772" y="12179"/>
                  <a:pt x="11849" y="12194"/>
                  <a:pt x="11931" y="12204"/>
                </a:cubicBezTo>
                <a:cubicBezTo>
                  <a:pt x="12023" y="12216"/>
                  <a:pt x="12094" y="12184"/>
                  <a:pt x="12179" y="12179"/>
                </a:cubicBezTo>
                <a:cubicBezTo>
                  <a:pt x="12267" y="12174"/>
                  <a:pt x="12291" y="12142"/>
                  <a:pt x="12303" y="12204"/>
                </a:cubicBezTo>
                <a:cubicBezTo>
                  <a:pt x="12303" y="12187"/>
                  <a:pt x="12303" y="12171"/>
                  <a:pt x="12303" y="12154"/>
                </a:cubicBezTo>
              </a:path>
              <a:path w="1886" h="2059">
                <a:moveTo>
                  <a:pt x="12626" y="11733"/>
                </a:moveTo>
                <a:cubicBezTo>
                  <a:pt x="12573" y="11798"/>
                  <a:pt x="12554" y="11877"/>
                  <a:pt x="12526" y="11956"/>
                </a:cubicBezTo>
                <a:cubicBezTo>
                  <a:pt x="12490" y="12057"/>
                  <a:pt x="12477" y="12120"/>
                  <a:pt x="12477" y="12229"/>
                </a:cubicBezTo>
                <a:cubicBezTo>
                  <a:pt x="12477" y="12320"/>
                  <a:pt x="12478" y="12417"/>
                  <a:pt x="12502" y="12502"/>
                </a:cubicBezTo>
                <a:cubicBezTo>
                  <a:pt x="12523" y="12577"/>
                  <a:pt x="12598" y="12631"/>
                  <a:pt x="12650" y="12675"/>
                </a:cubicBezTo>
                <a:cubicBezTo>
                  <a:pt x="12699" y="12716"/>
                  <a:pt x="12768" y="12709"/>
                  <a:pt x="12824" y="12675"/>
                </a:cubicBezTo>
                <a:cubicBezTo>
                  <a:pt x="12884" y="12638"/>
                  <a:pt x="12883" y="12558"/>
                  <a:pt x="12898" y="12502"/>
                </a:cubicBezTo>
                <a:cubicBezTo>
                  <a:pt x="12922" y="12411"/>
                  <a:pt x="12921" y="12367"/>
                  <a:pt x="12898" y="12278"/>
                </a:cubicBezTo>
                <a:cubicBezTo>
                  <a:pt x="12880" y="12208"/>
                  <a:pt x="12830" y="12124"/>
                  <a:pt x="12750" y="12204"/>
                </a:cubicBezTo>
                <a:cubicBezTo>
                  <a:pt x="12699" y="12256"/>
                  <a:pt x="12733" y="12370"/>
                  <a:pt x="12750" y="12427"/>
                </a:cubicBezTo>
                <a:cubicBezTo>
                  <a:pt x="12768" y="12487"/>
                  <a:pt x="12808" y="12556"/>
                  <a:pt x="12849" y="12601"/>
                </a:cubicBezTo>
                <a:cubicBezTo>
                  <a:pt x="12879" y="12631"/>
                  <a:pt x="12893" y="12642"/>
                  <a:pt x="12923" y="12650"/>
                </a:cubicBezTo>
              </a:path>
              <a:path w="1886" h="2059">
                <a:moveTo>
                  <a:pt x="13320" y="12005"/>
                </a:moveTo>
                <a:cubicBezTo>
                  <a:pt x="13339" y="12119"/>
                  <a:pt x="13359" y="12241"/>
                  <a:pt x="13370" y="12353"/>
                </a:cubicBezTo>
                <a:cubicBezTo>
                  <a:pt x="13398" y="12653"/>
                  <a:pt x="13374" y="12976"/>
                  <a:pt x="13345" y="13271"/>
                </a:cubicBezTo>
                <a:cubicBezTo>
                  <a:pt x="13337" y="13353"/>
                  <a:pt x="13320" y="13422"/>
                  <a:pt x="13271" y="13494"/>
                </a:cubicBezTo>
                <a:cubicBezTo>
                  <a:pt x="13227" y="13558"/>
                  <a:pt x="13197" y="13540"/>
                  <a:pt x="13146" y="13494"/>
                </a:cubicBezTo>
                <a:cubicBezTo>
                  <a:pt x="13099" y="13451"/>
                  <a:pt x="13112" y="13354"/>
                  <a:pt x="13097" y="13295"/>
                </a:cubicBezTo>
                <a:cubicBezTo>
                  <a:pt x="13074" y="13203"/>
                  <a:pt x="13065" y="13116"/>
                  <a:pt x="13047" y="13022"/>
                </a:cubicBezTo>
              </a:path>
              <a:path w="1886" h="2059">
                <a:moveTo>
                  <a:pt x="13345" y="11485"/>
                </a:moveTo>
                <a:cubicBezTo>
                  <a:pt x="13286" y="11542"/>
                  <a:pt x="13304" y="11537"/>
                  <a:pt x="13345" y="11609"/>
                </a:cubicBezTo>
                <a:cubicBezTo>
                  <a:pt x="13337" y="11609"/>
                  <a:pt x="13328" y="11609"/>
                  <a:pt x="13320" y="116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Ink 22"/>
          <p:cNvSpPr/>
          <p:nvPr/>
        </p:nvSpPr>
        <p:spPr>
          <a:xfrm>
            <a:off x="1812960" y="4946760"/>
            <a:ext cx="500040" cy="492120"/>
          </a:xfrm>
          <a:custGeom>
            <a:avLst/>
            <a:gdLst/>
            <a:ahLst/>
            <a:rect l="l" t="t" r="r" b="b"/>
            <a:pathLst>
              <a:path w="1390" h="1365">
                <a:moveTo>
                  <a:pt x="5035" y="14114"/>
                </a:moveTo>
                <a:cubicBezTo>
                  <a:pt x="5117" y="14114"/>
                  <a:pt x="5178" y="14135"/>
                  <a:pt x="5259" y="14139"/>
                </a:cubicBezTo>
                <a:cubicBezTo>
                  <a:pt x="5316" y="14142"/>
                  <a:pt x="5375" y="14139"/>
                  <a:pt x="5432" y="14139"/>
                </a:cubicBezTo>
              </a:path>
              <a:path w="1390" h="1365">
                <a:moveTo>
                  <a:pt x="5779" y="13742"/>
                </a:moveTo>
                <a:cubicBezTo>
                  <a:pt x="5756" y="13854"/>
                  <a:pt x="5771" y="13953"/>
                  <a:pt x="5755" y="14064"/>
                </a:cubicBezTo>
                <a:cubicBezTo>
                  <a:pt x="5734" y="14207"/>
                  <a:pt x="5730" y="14340"/>
                  <a:pt x="5730" y="14486"/>
                </a:cubicBezTo>
                <a:cubicBezTo>
                  <a:pt x="5730" y="14601"/>
                  <a:pt x="5676" y="15053"/>
                  <a:pt x="5755" y="15106"/>
                </a:cubicBezTo>
              </a:path>
              <a:path w="1390" h="1365">
                <a:moveTo>
                  <a:pt x="6375" y="13940"/>
                </a:moveTo>
                <a:cubicBezTo>
                  <a:pt x="6370" y="13879"/>
                  <a:pt x="6376" y="13750"/>
                  <a:pt x="6276" y="13767"/>
                </a:cubicBezTo>
                <a:cubicBezTo>
                  <a:pt x="6192" y="13781"/>
                  <a:pt x="6113" y="13872"/>
                  <a:pt x="6077" y="13940"/>
                </a:cubicBezTo>
                <a:cubicBezTo>
                  <a:pt x="6035" y="14019"/>
                  <a:pt x="6045" y="14111"/>
                  <a:pt x="6077" y="14188"/>
                </a:cubicBezTo>
                <a:cubicBezTo>
                  <a:pt x="6117" y="14282"/>
                  <a:pt x="6129" y="14276"/>
                  <a:pt x="6201" y="14312"/>
                </a:cubicBezTo>
                <a:cubicBezTo>
                  <a:pt x="6249" y="14336"/>
                  <a:pt x="6287" y="14296"/>
                  <a:pt x="6325" y="14238"/>
                </a:cubicBezTo>
                <a:cubicBezTo>
                  <a:pt x="6365" y="14178"/>
                  <a:pt x="6347" y="14099"/>
                  <a:pt x="6375" y="14039"/>
                </a:cubicBezTo>
                <a:cubicBezTo>
                  <a:pt x="6404" y="14011"/>
                  <a:pt x="6412" y="13998"/>
                  <a:pt x="6400" y="13965"/>
                </a:cubicBezTo>
                <a:cubicBezTo>
                  <a:pt x="6400" y="14062"/>
                  <a:pt x="6385" y="14145"/>
                  <a:pt x="6375" y="14238"/>
                </a:cubicBezTo>
                <a:cubicBezTo>
                  <a:pt x="6360" y="14375"/>
                  <a:pt x="6414" y="14951"/>
                  <a:pt x="6424" y="14932"/>
                </a:cubicBezTo>
                <a:cubicBezTo>
                  <a:pt x="6424" y="14916"/>
                  <a:pt x="6424" y="14899"/>
                  <a:pt x="6424" y="148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Ink 23"/>
          <p:cNvSpPr/>
          <p:nvPr/>
        </p:nvSpPr>
        <p:spPr>
          <a:xfrm>
            <a:off x="2438280" y="4983120"/>
            <a:ext cx="88920" cy="465120"/>
          </a:xfrm>
          <a:custGeom>
            <a:avLst/>
            <a:gdLst/>
            <a:ahLst/>
            <a:rect l="l" t="t" r="r" b="b"/>
            <a:pathLst>
              <a:path w="249" h="1291">
                <a:moveTo>
                  <a:pt x="6796" y="14412"/>
                </a:moveTo>
                <a:cubicBezTo>
                  <a:pt x="6779" y="14510"/>
                  <a:pt x="6772" y="14586"/>
                  <a:pt x="6772" y="14684"/>
                </a:cubicBezTo>
                <a:cubicBezTo>
                  <a:pt x="6772" y="14774"/>
                  <a:pt x="6783" y="14849"/>
                  <a:pt x="6796" y="14932"/>
                </a:cubicBezTo>
                <a:cubicBezTo>
                  <a:pt x="6806" y="15000"/>
                  <a:pt x="6806" y="15064"/>
                  <a:pt x="6871" y="15106"/>
                </a:cubicBezTo>
                <a:cubicBezTo>
                  <a:pt x="6915" y="15128"/>
                  <a:pt x="6926" y="15141"/>
                  <a:pt x="6945" y="15106"/>
                </a:cubicBezTo>
              </a:path>
              <a:path w="249" h="1291">
                <a:moveTo>
                  <a:pt x="7020" y="13990"/>
                </a:moveTo>
                <a:cubicBezTo>
                  <a:pt x="6997" y="13927"/>
                  <a:pt x="6985" y="13891"/>
                  <a:pt x="6945" y="13841"/>
                </a:cubicBezTo>
                <a:cubicBezTo>
                  <a:pt x="6908" y="13869"/>
                  <a:pt x="6859" y="13892"/>
                  <a:pt x="6921" y="13940"/>
                </a:cubicBezTo>
                <a:cubicBezTo>
                  <a:pt x="7005" y="14005"/>
                  <a:pt x="6982" y="13934"/>
                  <a:pt x="6970" y="13891"/>
                </a:cubicBezTo>
                <a:cubicBezTo>
                  <a:pt x="6945" y="13915"/>
                  <a:pt x="6937" y="13923"/>
                  <a:pt x="6970" y="139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Ink 24"/>
          <p:cNvSpPr/>
          <p:nvPr/>
        </p:nvSpPr>
        <p:spPr>
          <a:xfrm>
            <a:off x="2768760" y="5010120"/>
            <a:ext cx="830160" cy="714240"/>
          </a:xfrm>
          <a:custGeom>
            <a:avLst/>
            <a:gdLst/>
            <a:ahLst/>
            <a:rect l="l" t="t" r="r" b="b"/>
            <a:pathLst>
              <a:path w="2308" h="1986">
                <a:moveTo>
                  <a:pt x="7863" y="14312"/>
                </a:moveTo>
                <a:cubicBezTo>
                  <a:pt x="7863" y="14458"/>
                  <a:pt x="7872" y="14593"/>
                  <a:pt x="7888" y="14734"/>
                </a:cubicBezTo>
                <a:cubicBezTo>
                  <a:pt x="7897" y="14813"/>
                  <a:pt x="7913" y="14876"/>
                  <a:pt x="7913" y="14957"/>
                </a:cubicBezTo>
              </a:path>
              <a:path w="2308" h="1986">
                <a:moveTo>
                  <a:pt x="7689" y="14610"/>
                </a:moveTo>
                <a:cubicBezTo>
                  <a:pt x="7800" y="14562"/>
                  <a:pt x="7843" y="14560"/>
                  <a:pt x="7962" y="14560"/>
                </a:cubicBezTo>
                <a:cubicBezTo>
                  <a:pt x="7987" y="14560"/>
                  <a:pt x="8012" y="14560"/>
                  <a:pt x="8037" y="14560"/>
                </a:cubicBezTo>
              </a:path>
              <a:path w="2308" h="1986">
                <a:moveTo>
                  <a:pt x="8359" y="14089"/>
                </a:moveTo>
                <a:cubicBezTo>
                  <a:pt x="8359" y="14139"/>
                  <a:pt x="8359" y="14155"/>
                  <a:pt x="8359" y="14188"/>
                </a:cubicBezTo>
                <a:cubicBezTo>
                  <a:pt x="8397" y="14141"/>
                  <a:pt x="8422" y="14087"/>
                  <a:pt x="8458" y="14039"/>
                </a:cubicBezTo>
                <a:cubicBezTo>
                  <a:pt x="8497" y="13988"/>
                  <a:pt x="8523" y="13947"/>
                  <a:pt x="8582" y="13940"/>
                </a:cubicBezTo>
                <a:cubicBezTo>
                  <a:pt x="8641" y="13933"/>
                  <a:pt x="8692" y="13980"/>
                  <a:pt x="8706" y="14039"/>
                </a:cubicBezTo>
                <a:cubicBezTo>
                  <a:pt x="8732" y="14152"/>
                  <a:pt x="8694" y="14279"/>
                  <a:pt x="8682" y="14387"/>
                </a:cubicBezTo>
                <a:cubicBezTo>
                  <a:pt x="8670" y="14502"/>
                  <a:pt x="8644" y="14599"/>
                  <a:pt x="8607" y="14709"/>
                </a:cubicBezTo>
                <a:cubicBezTo>
                  <a:pt x="8588" y="14767"/>
                  <a:pt x="8540" y="14902"/>
                  <a:pt x="8483" y="14932"/>
                </a:cubicBezTo>
                <a:cubicBezTo>
                  <a:pt x="8399" y="14953"/>
                  <a:pt x="8380" y="14968"/>
                  <a:pt x="8334" y="14932"/>
                </a:cubicBezTo>
                <a:cubicBezTo>
                  <a:pt x="8340" y="14864"/>
                  <a:pt x="8342" y="14819"/>
                  <a:pt x="8384" y="14759"/>
                </a:cubicBezTo>
                <a:cubicBezTo>
                  <a:pt x="8421" y="14707"/>
                  <a:pt x="8509" y="14684"/>
                  <a:pt x="8558" y="14734"/>
                </a:cubicBezTo>
                <a:cubicBezTo>
                  <a:pt x="8607" y="14783"/>
                  <a:pt x="8647" y="14920"/>
                  <a:pt x="8657" y="14982"/>
                </a:cubicBezTo>
                <a:cubicBezTo>
                  <a:pt x="8668" y="15050"/>
                  <a:pt x="8677" y="15143"/>
                  <a:pt x="8706" y="15205"/>
                </a:cubicBezTo>
                <a:cubicBezTo>
                  <a:pt x="8739" y="15276"/>
                  <a:pt x="8751" y="15242"/>
                  <a:pt x="8781" y="15205"/>
                </a:cubicBezTo>
              </a:path>
              <a:path w="2308" h="1986">
                <a:moveTo>
                  <a:pt x="9128" y="13965"/>
                </a:moveTo>
                <a:cubicBezTo>
                  <a:pt x="9145" y="14008"/>
                  <a:pt x="9127" y="14107"/>
                  <a:pt x="9103" y="14163"/>
                </a:cubicBezTo>
                <a:cubicBezTo>
                  <a:pt x="9083" y="14210"/>
                  <a:pt x="9061" y="14282"/>
                  <a:pt x="9054" y="14337"/>
                </a:cubicBezTo>
                <a:cubicBezTo>
                  <a:pt x="9041" y="14435"/>
                  <a:pt x="9061" y="14500"/>
                  <a:pt x="9103" y="14585"/>
                </a:cubicBezTo>
                <a:cubicBezTo>
                  <a:pt x="9146" y="14672"/>
                  <a:pt x="9221" y="14632"/>
                  <a:pt x="9302" y="14610"/>
                </a:cubicBezTo>
              </a:path>
              <a:path w="2308" h="1986">
                <a:moveTo>
                  <a:pt x="9451" y="13965"/>
                </a:moveTo>
                <a:cubicBezTo>
                  <a:pt x="9443" y="14053"/>
                  <a:pt x="9426" y="14122"/>
                  <a:pt x="9426" y="14213"/>
                </a:cubicBezTo>
                <a:cubicBezTo>
                  <a:pt x="9426" y="14318"/>
                  <a:pt x="9406" y="14409"/>
                  <a:pt x="9401" y="14511"/>
                </a:cubicBezTo>
                <a:cubicBezTo>
                  <a:pt x="9397" y="14592"/>
                  <a:pt x="9389" y="14659"/>
                  <a:pt x="9376" y="14734"/>
                </a:cubicBezTo>
                <a:cubicBezTo>
                  <a:pt x="9366" y="14795"/>
                  <a:pt x="9351" y="14845"/>
                  <a:pt x="9351" y="14908"/>
                </a:cubicBezTo>
              </a:path>
              <a:path w="2308" h="1986">
                <a:moveTo>
                  <a:pt x="9823" y="14560"/>
                </a:moveTo>
                <a:cubicBezTo>
                  <a:pt x="9864" y="14631"/>
                  <a:pt x="9847" y="14722"/>
                  <a:pt x="9847" y="14808"/>
                </a:cubicBezTo>
                <a:cubicBezTo>
                  <a:pt x="9847" y="14928"/>
                  <a:pt x="9832" y="15039"/>
                  <a:pt x="9823" y="15156"/>
                </a:cubicBezTo>
                <a:cubicBezTo>
                  <a:pt x="9809" y="15334"/>
                  <a:pt x="9791" y="15510"/>
                  <a:pt x="9723" y="15677"/>
                </a:cubicBezTo>
                <a:cubicBezTo>
                  <a:pt x="9693" y="15752"/>
                  <a:pt x="9699" y="15808"/>
                  <a:pt x="9649" y="15875"/>
                </a:cubicBezTo>
                <a:cubicBezTo>
                  <a:pt x="9641" y="15883"/>
                  <a:pt x="9632" y="15892"/>
                  <a:pt x="9624" y="15900"/>
                </a:cubicBezTo>
                <a:cubicBezTo>
                  <a:pt x="9536" y="15874"/>
                  <a:pt x="9548" y="15838"/>
                  <a:pt x="9525" y="15751"/>
                </a:cubicBezTo>
                <a:cubicBezTo>
                  <a:pt x="9500" y="15657"/>
                  <a:pt x="9483" y="15552"/>
                  <a:pt x="9500" y="15453"/>
                </a:cubicBezTo>
                <a:cubicBezTo>
                  <a:pt x="9525" y="15380"/>
                  <a:pt x="9533" y="15356"/>
                  <a:pt x="9525" y="15304"/>
                </a:cubicBezTo>
              </a:path>
              <a:path w="2308" h="1986">
                <a:moveTo>
                  <a:pt x="9971" y="13940"/>
                </a:moveTo>
                <a:cubicBezTo>
                  <a:pt x="9930" y="13919"/>
                  <a:pt x="9880" y="13945"/>
                  <a:pt x="9897" y="14015"/>
                </a:cubicBezTo>
                <a:cubicBezTo>
                  <a:pt x="9919" y="14058"/>
                  <a:pt x="9923" y="14070"/>
                  <a:pt x="9947" y="14089"/>
                </a:cubicBezTo>
                <a:cubicBezTo>
                  <a:pt x="9981" y="14054"/>
                  <a:pt x="10025" y="13993"/>
                  <a:pt x="9947" y="13965"/>
                </a:cubicBezTo>
                <a:cubicBezTo>
                  <a:pt x="9837" y="13926"/>
                  <a:pt x="9923" y="14040"/>
                  <a:pt x="9947" y="14064"/>
                </a:cubicBezTo>
                <a:cubicBezTo>
                  <a:pt x="9965" y="14015"/>
                  <a:pt x="10006" y="13888"/>
                  <a:pt x="9897" y="13915"/>
                </a:cubicBezTo>
                <a:cubicBezTo>
                  <a:pt x="9867" y="13945"/>
                  <a:pt x="9853" y="13956"/>
                  <a:pt x="9823" y="139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Find a vector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with the same magnitude and direction as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||</a:t>
            </a:r>
            <a:r>
              <a:rPr b="1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v</a:t>
            </a:r>
            <a:r>
              <a:rPr b="0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|| = 3 and </a:t>
            </a:r>
            <a:r>
              <a:rPr b="1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u</a:t>
            </a:r>
            <a:r>
              <a:rPr b="0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 = &lt;4, -4&gt;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57200" y="2514600"/>
            <a:ext cx="7467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rst:  Find a unit vector (same direction as u and magnitude of 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:  Multiply the vector by IIvll (in this case it is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Ink 6"/>
          <p:cNvSpPr/>
          <p:nvPr/>
        </p:nvSpPr>
        <p:spPr>
          <a:xfrm>
            <a:off x="7340760" y="1660680"/>
            <a:ext cx="1768320" cy="617400"/>
          </a:xfrm>
          <a:custGeom>
            <a:avLst/>
            <a:gdLst/>
            <a:ahLst/>
            <a:rect l="l" t="t" r="r" b="b"/>
            <a:pathLst>
              <a:path w="4913" h="1712">
                <a:moveTo>
                  <a:pt x="20389" y="5060"/>
                </a:moveTo>
                <a:cubicBezTo>
                  <a:pt x="20430" y="5181"/>
                  <a:pt x="20431" y="5357"/>
                  <a:pt x="20439" y="5482"/>
                </a:cubicBezTo>
                <a:cubicBezTo>
                  <a:pt x="20447" y="5617"/>
                  <a:pt x="20451" y="5746"/>
                  <a:pt x="20464" y="5879"/>
                </a:cubicBezTo>
                <a:cubicBezTo>
                  <a:pt x="20465" y="5890"/>
                  <a:pt x="20469" y="6166"/>
                  <a:pt x="20489" y="6152"/>
                </a:cubicBezTo>
                <a:cubicBezTo>
                  <a:pt x="20489" y="6135"/>
                  <a:pt x="20489" y="6119"/>
                  <a:pt x="20489" y="6102"/>
                </a:cubicBezTo>
              </a:path>
              <a:path w="4913" h="1712">
                <a:moveTo>
                  <a:pt x="20687" y="5060"/>
                </a:moveTo>
                <a:cubicBezTo>
                  <a:pt x="20701" y="5169"/>
                  <a:pt x="20695" y="5244"/>
                  <a:pt x="20687" y="5358"/>
                </a:cubicBezTo>
                <a:cubicBezTo>
                  <a:pt x="20676" y="5509"/>
                  <a:pt x="20637" y="5677"/>
                  <a:pt x="20662" y="5829"/>
                </a:cubicBezTo>
                <a:cubicBezTo>
                  <a:pt x="20676" y="5913"/>
                  <a:pt x="20693" y="5994"/>
                  <a:pt x="20712" y="6077"/>
                </a:cubicBezTo>
              </a:path>
              <a:path w="4913" h="1712">
                <a:moveTo>
                  <a:pt x="20886" y="5705"/>
                </a:moveTo>
                <a:cubicBezTo>
                  <a:pt x="20886" y="5803"/>
                  <a:pt x="20881" y="5885"/>
                  <a:pt x="20910" y="5978"/>
                </a:cubicBezTo>
                <a:cubicBezTo>
                  <a:pt x="20942" y="6082"/>
                  <a:pt x="21052" y="6104"/>
                  <a:pt x="21134" y="6028"/>
                </a:cubicBezTo>
                <a:cubicBezTo>
                  <a:pt x="21175" y="5990"/>
                  <a:pt x="21222" y="5835"/>
                  <a:pt x="21233" y="5779"/>
                </a:cubicBezTo>
                <a:cubicBezTo>
                  <a:pt x="21233" y="5730"/>
                  <a:pt x="21233" y="5713"/>
                  <a:pt x="21233" y="5680"/>
                </a:cubicBezTo>
                <a:cubicBezTo>
                  <a:pt x="21242" y="5783"/>
                  <a:pt x="21258" y="5870"/>
                  <a:pt x="21258" y="5978"/>
                </a:cubicBezTo>
                <a:cubicBezTo>
                  <a:pt x="21258" y="6052"/>
                  <a:pt x="21283" y="6102"/>
                  <a:pt x="21357" y="6127"/>
                </a:cubicBezTo>
                <a:cubicBezTo>
                  <a:pt x="21365" y="6127"/>
                  <a:pt x="21374" y="6127"/>
                  <a:pt x="21382" y="6127"/>
                </a:cubicBezTo>
              </a:path>
              <a:path w="4913" h="1712">
                <a:moveTo>
                  <a:pt x="21382" y="5110"/>
                </a:moveTo>
                <a:cubicBezTo>
                  <a:pt x="21408" y="5287"/>
                  <a:pt x="21395" y="5430"/>
                  <a:pt x="21382" y="5606"/>
                </a:cubicBezTo>
                <a:cubicBezTo>
                  <a:pt x="21372" y="5739"/>
                  <a:pt x="21416" y="5872"/>
                  <a:pt x="21431" y="6003"/>
                </a:cubicBezTo>
                <a:cubicBezTo>
                  <a:pt x="21440" y="6079"/>
                  <a:pt x="21432" y="6088"/>
                  <a:pt x="21481" y="6028"/>
                </a:cubicBezTo>
              </a:path>
              <a:path w="4913" h="1712">
                <a:moveTo>
                  <a:pt x="21481" y="4986"/>
                </a:moveTo>
                <a:cubicBezTo>
                  <a:pt x="21500" y="5185"/>
                  <a:pt x="21526" y="5382"/>
                  <a:pt x="21530" y="5581"/>
                </a:cubicBezTo>
                <a:cubicBezTo>
                  <a:pt x="21533" y="5708"/>
                  <a:pt x="21544" y="5832"/>
                  <a:pt x="21580" y="5953"/>
                </a:cubicBezTo>
                <a:cubicBezTo>
                  <a:pt x="21603" y="6031"/>
                  <a:pt x="21604" y="6088"/>
                  <a:pt x="21654" y="6152"/>
                </a:cubicBezTo>
              </a:path>
              <a:path w="4913" h="1712">
                <a:moveTo>
                  <a:pt x="21779" y="5755"/>
                </a:moveTo>
                <a:cubicBezTo>
                  <a:pt x="21866" y="5733"/>
                  <a:pt x="21919" y="5705"/>
                  <a:pt x="22002" y="5705"/>
                </a:cubicBezTo>
              </a:path>
              <a:path w="4913" h="1712">
                <a:moveTo>
                  <a:pt x="21803" y="5953"/>
                </a:moveTo>
                <a:cubicBezTo>
                  <a:pt x="21928" y="5974"/>
                  <a:pt x="21955" y="5990"/>
                  <a:pt x="22027" y="5953"/>
                </a:cubicBezTo>
              </a:path>
              <a:path w="4913" h="1712">
                <a:moveTo>
                  <a:pt x="22200" y="5507"/>
                </a:moveTo>
                <a:cubicBezTo>
                  <a:pt x="22215" y="5662"/>
                  <a:pt x="22220" y="5795"/>
                  <a:pt x="22225" y="5953"/>
                </a:cubicBezTo>
                <a:cubicBezTo>
                  <a:pt x="22228" y="6055"/>
                  <a:pt x="22246" y="6154"/>
                  <a:pt x="22275" y="6251"/>
                </a:cubicBezTo>
                <a:cubicBezTo>
                  <a:pt x="22275" y="6295"/>
                  <a:pt x="22272" y="6308"/>
                  <a:pt x="22299" y="6325"/>
                </a:cubicBezTo>
                <a:cubicBezTo>
                  <a:pt x="22299" y="5993"/>
                  <a:pt x="22302" y="5661"/>
                  <a:pt x="22275" y="5333"/>
                </a:cubicBezTo>
                <a:cubicBezTo>
                  <a:pt x="22265" y="5206"/>
                  <a:pt x="22229" y="5089"/>
                  <a:pt x="22225" y="4961"/>
                </a:cubicBezTo>
                <a:cubicBezTo>
                  <a:pt x="22223" y="4906"/>
                  <a:pt x="22213" y="4818"/>
                  <a:pt x="22275" y="4787"/>
                </a:cubicBezTo>
                <a:cubicBezTo>
                  <a:pt x="22677" y="4585"/>
                  <a:pt x="23554" y="4831"/>
                  <a:pt x="24011" y="4762"/>
                </a:cubicBezTo>
                <a:cubicBezTo>
                  <a:pt x="24207" y="4732"/>
                  <a:pt x="24414" y="4703"/>
                  <a:pt x="24606" y="4663"/>
                </a:cubicBezTo>
                <a:cubicBezTo>
                  <a:pt x="24633" y="4657"/>
                  <a:pt x="24898" y="4564"/>
                  <a:pt x="24705" y="4638"/>
                </a:cubicBezTo>
              </a:path>
              <a:path w="4913" h="1712">
                <a:moveTo>
                  <a:pt x="22696" y="5333"/>
                </a:moveTo>
                <a:cubicBezTo>
                  <a:pt x="22663" y="5432"/>
                  <a:pt x="22640" y="5536"/>
                  <a:pt x="22597" y="5631"/>
                </a:cubicBezTo>
                <a:cubicBezTo>
                  <a:pt x="22575" y="5674"/>
                  <a:pt x="22562" y="5686"/>
                  <a:pt x="22597" y="5705"/>
                </a:cubicBezTo>
                <a:cubicBezTo>
                  <a:pt x="22662" y="5727"/>
                  <a:pt x="22742" y="5704"/>
                  <a:pt x="22820" y="5680"/>
                </a:cubicBezTo>
                <a:cubicBezTo>
                  <a:pt x="22845" y="5672"/>
                  <a:pt x="22870" y="5663"/>
                  <a:pt x="22895" y="5655"/>
                </a:cubicBezTo>
              </a:path>
              <a:path w="4913" h="1712">
                <a:moveTo>
                  <a:pt x="22870" y="5432"/>
                </a:moveTo>
                <a:cubicBezTo>
                  <a:pt x="22836" y="5641"/>
                  <a:pt x="22805" y="5800"/>
                  <a:pt x="22845" y="6003"/>
                </a:cubicBezTo>
                <a:cubicBezTo>
                  <a:pt x="22861" y="6087"/>
                  <a:pt x="22906" y="6169"/>
                  <a:pt x="22920" y="6251"/>
                </a:cubicBezTo>
                <a:cubicBezTo>
                  <a:pt x="22932" y="6324"/>
                  <a:pt x="22917" y="6340"/>
                  <a:pt x="22969" y="6276"/>
                </a:cubicBezTo>
              </a:path>
              <a:path w="4913" h="1712">
                <a:moveTo>
                  <a:pt x="23044" y="5184"/>
                </a:moveTo>
                <a:cubicBezTo>
                  <a:pt x="23160" y="5146"/>
                  <a:pt x="23258" y="5075"/>
                  <a:pt x="23267" y="5234"/>
                </a:cubicBezTo>
                <a:cubicBezTo>
                  <a:pt x="23273" y="5341"/>
                  <a:pt x="23212" y="5387"/>
                  <a:pt x="23143" y="5457"/>
                </a:cubicBezTo>
                <a:cubicBezTo>
                  <a:pt x="23110" y="5491"/>
                  <a:pt x="23087" y="5520"/>
                  <a:pt x="23044" y="5531"/>
                </a:cubicBezTo>
                <a:cubicBezTo>
                  <a:pt x="23095" y="5584"/>
                  <a:pt x="23137" y="5596"/>
                  <a:pt x="23217" y="5581"/>
                </a:cubicBezTo>
                <a:cubicBezTo>
                  <a:pt x="23284" y="5559"/>
                  <a:pt x="23302" y="5554"/>
                  <a:pt x="23341" y="5531"/>
                </a:cubicBezTo>
              </a:path>
              <a:path w="4913" h="1712">
                <a:moveTo>
                  <a:pt x="23540" y="5631"/>
                </a:moveTo>
                <a:cubicBezTo>
                  <a:pt x="23528" y="5714"/>
                  <a:pt x="23483" y="5888"/>
                  <a:pt x="23515" y="5978"/>
                </a:cubicBezTo>
                <a:cubicBezTo>
                  <a:pt x="23538" y="6001"/>
                  <a:pt x="23546" y="6005"/>
                  <a:pt x="23540" y="6028"/>
                </a:cubicBezTo>
              </a:path>
              <a:path w="4913" h="1712">
                <a:moveTo>
                  <a:pt x="23465" y="5804"/>
                </a:moveTo>
                <a:cubicBezTo>
                  <a:pt x="23589" y="5782"/>
                  <a:pt x="23626" y="5777"/>
                  <a:pt x="23738" y="5730"/>
                </a:cubicBezTo>
              </a:path>
              <a:path w="4913" h="1712">
                <a:moveTo>
                  <a:pt x="24011" y="5358"/>
                </a:moveTo>
                <a:cubicBezTo>
                  <a:pt x="24003" y="5350"/>
                  <a:pt x="23994" y="5341"/>
                  <a:pt x="23986" y="5333"/>
                </a:cubicBezTo>
                <a:cubicBezTo>
                  <a:pt x="24072" y="5290"/>
                  <a:pt x="24116" y="5320"/>
                  <a:pt x="24209" y="5333"/>
                </a:cubicBezTo>
                <a:cubicBezTo>
                  <a:pt x="24280" y="5343"/>
                  <a:pt x="24361" y="5333"/>
                  <a:pt x="24433" y="5333"/>
                </a:cubicBezTo>
              </a:path>
              <a:path w="4913" h="1712">
                <a:moveTo>
                  <a:pt x="24383" y="5308"/>
                </a:moveTo>
                <a:cubicBezTo>
                  <a:pt x="24414" y="5391"/>
                  <a:pt x="24360" y="5434"/>
                  <a:pt x="24383" y="5507"/>
                </a:cubicBezTo>
                <a:cubicBezTo>
                  <a:pt x="24408" y="5585"/>
                  <a:pt x="24462" y="5581"/>
                  <a:pt x="24532" y="5581"/>
                </a:cubicBezTo>
                <a:cubicBezTo>
                  <a:pt x="24540" y="5581"/>
                  <a:pt x="24549" y="5581"/>
                  <a:pt x="24557" y="5581"/>
                </a:cubicBezTo>
              </a:path>
              <a:path w="4913" h="1712">
                <a:moveTo>
                  <a:pt x="24681" y="5259"/>
                </a:moveTo>
                <a:cubicBezTo>
                  <a:pt x="24644" y="5390"/>
                  <a:pt x="24596" y="5522"/>
                  <a:pt x="24581" y="5655"/>
                </a:cubicBezTo>
                <a:cubicBezTo>
                  <a:pt x="24572" y="5738"/>
                  <a:pt x="24596" y="5801"/>
                  <a:pt x="24606" y="5879"/>
                </a:cubicBezTo>
              </a:path>
              <a:path w="4913" h="1712">
                <a:moveTo>
                  <a:pt x="24185" y="5110"/>
                </a:moveTo>
                <a:cubicBezTo>
                  <a:pt x="24100" y="5225"/>
                  <a:pt x="24007" y="5335"/>
                  <a:pt x="23986" y="5482"/>
                </a:cubicBezTo>
                <a:cubicBezTo>
                  <a:pt x="23974" y="5566"/>
                  <a:pt x="24008" y="5784"/>
                  <a:pt x="24061" y="5854"/>
                </a:cubicBezTo>
                <a:cubicBezTo>
                  <a:pt x="24123" y="5937"/>
                  <a:pt x="24212" y="5993"/>
                  <a:pt x="24309" y="6028"/>
                </a:cubicBezTo>
              </a:path>
              <a:path w="4913" h="1712">
                <a:moveTo>
                  <a:pt x="24805" y="5234"/>
                </a:moveTo>
                <a:cubicBezTo>
                  <a:pt x="24872" y="5403"/>
                  <a:pt x="24948" y="5567"/>
                  <a:pt x="24929" y="5755"/>
                </a:cubicBezTo>
                <a:cubicBezTo>
                  <a:pt x="24919" y="5854"/>
                  <a:pt x="24898" y="5940"/>
                  <a:pt x="24854" y="6028"/>
                </a:cubicBezTo>
                <a:cubicBezTo>
                  <a:pt x="24834" y="6068"/>
                  <a:pt x="24825" y="6094"/>
                  <a:pt x="24829" y="6052"/>
                </a:cubicBezTo>
              </a:path>
              <a:path w="4913" h="1712">
                <a:moveTo>
                  <a:pt x="24954" y="5085"/>
                </a:moveTo>
                <a:cubicBezTo>
                  <a:pt x="24963" y="5140"/>
                  <a:pt x="24959" y="5278"/>
                  <a:pt x="24978" y="5308"/>
                </a:cubicBezTo>
                <a:cubicBezTo>
                  <a:pt x="25037" y="5401"/>
                  <a:pt x="25129" y="5436"/>
                  <a:pt x="25226" y="5482"/>
                </a:cubicBezTo>
                <a:cubicBezTo>
                  <a:pt x="25267" y="5502"/>
                  <a:pt x="25273" y="5511"/>
                  <a:pt x="25301" y="55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Ink 7"/>
          <p:cNvSpPr/>
          <p:nvPr/>
        </p:nvSpPr>
        <p:spPr>
          <a:xfrm>
            <a:off x="6375240" y="3670200"/>
            <a:ext cx="206640" cy="731880"/>
          </a:xfrm>
          <a:custGeom>
            <a:avLst/>
            <a:gdLst/>
            <a:ahLst/>
            <a:rect l="l" t="t" r="r" b="b"/>
            <a:pathLst>
              <a:path w="571" h="2035">
                <a:moveTo>
                  <a:pt x="18281" y="10492"/>
                </a:moveTo>
                <a:cubicBezTo>
                  <a:pt x="18233" y="10528"/>
                  <a:pt x="18178" y="10579"/>
                  <a:pt x="18132" y="10641"/>
                </a:cubicBezTo>
                <a:cubicBezTo>
                  <a:pt x="18070" y="10724"/>
                  <a:pt x="18015" y="10810"/>
                  <a:pt x="17959" y="10889"/>
                </a:cubicBezTo>
                <a:cubicBezTo>
                  <a:pt x="17907" y="10962"/>
                  <a:pt x="17861" y="11039"/>
                  <a:pt x="17810" y="11112"/>
                </a:cubicBezTo>
                <a:cubicBezTo>
                  <a:pt x="17766" y="11175"/>
                  <a:pt x="17742" y="11240"/>
                  <a:pt x="17711" y="11311"/>
                </a:cubicBezTo>
              </a:path>
              <a:path w="571" h="2035">
                <a:moveTo>
                  <a:pt x="18207" y="11509"/>
                </a:moveTo>
                <a:cubicBezTo>
                  <a:pt x="18166" y="11590"/>
                  <a:pt x="18134" y="11661"/>
                  <a:pt x="18083" y="11733"/>
                </a:cubicBezTo>
                <a:cubicBezTo>
                  <a:pt x="18023" y="11818"/>
                  <a:pt x="17953" y="11917"/>
                  <a:pt x="17909" y="12005"/>
                </a:cubicBezTo>
                <a:cubicBezTo>
                  <a:pt x="17872" y="12079"/>
                  <a:pt x="17853" y="12159"/>
                  <a:pt x="17810" y="12229"/>
                </a:cubicBezTo>
              </a:path>
              <a:path w="571" h="2035">
                <a:moveTo>
                  <a:pt x="18281" y="10195"/>
                </a:moveTo>
                <a:cubicBezTo>
                  <a:pt x="18281" y="10385"/>
                  <a:pt x="18281" y="10575"/>
                  <a:pt x="18281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Ink 8"/>
          <p:cNvSpPr/>
          <p:nvPr/>
        </p:nvSpPr>
        <p:spPr>
          <a:xfrm>
            <a:off x="6296040" y="4724280"/>
            <a:ext cx="660240" cy="704880"/>
          </a:xfrm>
          <a:custGeom>
            <a:avLst/>
            <a:gdLst/>
            <a:ahLst/>
            <a:rect l="l" t="t" r="r" b="b"/>
            <a:pathLst>
              <a:path w="1837" h="1960">
                <a:moveTo>
                  <a:pt x="18306" y="13618"/>
                </a:moveTo>
                <a:cubicBezTo>
                  <a:pt x="18336" y="13728"/>
                  <a:pt x="18346" y="13851"/>
                  <a:pt x="18355" y="13965"/>
                </a:cubicBezTo>
                <a:cubicBezTo>
                  <a:pt x="18360" y="14022"/>
                  <a:pt x="18355" y="14082"/>
                  <a:pt x="18355" y="14139"/>
                </a:cubicBezTo>
                <a:cubicBezTo>
                  <a:pt x="18347" y="14044"/>
                  <a:pt x="18331" y="13964"/>
                  <a:pt x="18331" y="13866"/>
                </a:cubicBezTo>
                <a:cubicBezTo>
                  <a:pt x="18331" y="13755"/>
                  <a:pt x="18351" y="13653"/>
                  <a:pt x="18355" y="13543"/>
                </a:cubicBezTo>
                <a:cubicBezTo>
                  <a:pt x="18359" y="13438"/>
                  <a:pt x="18363" y="13337"/>
                  <a:pt x="18380" y="13246"/>
                </a:cubicBezTo>
                <a:cubicBezTo>
                  <a:pt x="18390" y="13192"/>
                  <a:pt x="18406" y="13133"/>
                  <a:pt x="18479" y="13122"/>
                </a:cubicBezTo>
                <a:cubicBezTo>
                  <a:pt x="18585" y="13107"/>
                  <a:pt x="18676" y="13141"/>
                  <a:pt x="18777" y="13146"/>
                </a:cubicBezTo>
                <a:cubicBezTo>
                  <a:pt x="18829" y="13146"/>
                  <a:pt x="18847" y="13147"/>
                  <a:pt x="18876" y="13171"/>
                </a:cubicBezTo>
              </a:path>
              <a:path w="1837" h="1960">
                <a:moveTo>
                  <a:pt x="18678" y="13568"/>
                </a:moveTo>
                <a:cubicBezTo>
                  <a:pt x="18689" y="13492"/>
                  <a:pt x="18736" y="13440"/>
                  <a:pt x="18777" y="13370"/>
                </a:cubicBezTo>
                <a:cubicBezTo>
                  <a:pt x="18817" y="13301"/>
                  <a:pt x="18801" y="13306"/>
                  <a:pt x="18876" y="13295"/>
                </a:cubicBezTo>
                <a:cubicBezTo>
                  <a:pt x="18918" y="13358"/>
                  <a:pt x="18964" y="13438"/>
                  <a:pt x="18951" y="13519"/>
                </a:cubicBezTo>
                <a:cubicBezTo>
                  <a:pt x="18935" y="13621"/>
                  <a:pt x="18905" y="13705"/>
                  <a:pt x="18852" y="13791"/>
                </a:cubicBezTo>
                <a:cubicBezTo>
                  <a:pt x="18816" y="13849"/>
                  <a:pt x="18766" y="13887"/>
                  <a:pt x="18703" y="13891"/>
                </a:cubicBezTo>
                <a:cubicBezTo>
                  <a:pt x="18653" y="13891"/>
                  <a:pt x="18637" y="13891"/>
                  <a:pt x="18604" y="13891"/>
                </a:cubicBezTo>
                <a:cubicBezTo>
                  <a:pt x="18618" y="13774"/>
                  <a:pt x="18641" y="13782"/>
                  <a:pt x="18752" y="13816"/>
                </a:cubicBezTo>
                <a:cubicBezTo>
                  <a:pt x="18845" y="13845"/>
                  <a:pt x="18895" y="13894"/>
                  <a:pt x="18976" y="13940"/>
                </a:cubicBezTo>
                <a:cubicBezTo>
                  <a:pt x="18992" y="13948"/>
                  <a:pt x="19009" y="13957"/>
                  <a:pt x="19025" y="13965"/>
                </a:cubicBezTo>
              </a:path>
              <a:path w="1837" h="1960">
                <a:moveTo>
                  <a:pt x="19323" y="13915"/>
                </a:moveTo>
                <a:cubicBezTo>
                  <a:pt x="19228" y="13923"/>
                  <a:pt x="19141" y="13937"/>
                  <a:pt x="19050" y="13965"/>
                </a:cubicBezTo>
                <a:cubicBezTo>
                  <a:pt x="18949" y="13996"/>
                  <a:pt x="18855" y="14022"/>
                  <a:pt x="18752" y="14039"/>
                </a:cubicBezTo>
                <a:cubicBezTo>
                  <a:pt x="18621" y="14061"/>
                  <a:pt x="18527" y="14113"/>
                  <a:pt x="18405" y="14139"/>
                </a:cubicBezTo>
                <a:cubicBezTo>
                  <a:pt x="18339" y="14153"/>
                  <a:pt x="18319" y="14177"/>
                  <a:pt x="18256" y="14213"/>
                </a:cubicBezTo>
              </a:path>
              <a:path w="1837" h="1960">
                <a:moveTo>
                  <a:pt x="18728" y="14288"/>
                </a:moveTo>
                <a:cubicBezTo>
                  <a:pt x="18793" y="14279"/>
                  <a:pt x="18830" y="14242"/>
                  <a:pt x="18901" y="14238"/>
                </a:cubicBezTo>
                <a:cubicBezTo>
                  <a:pt x="18974" y="14234"/>
                  <a:pt x="18993" y="14278"/>
                  <a:pt x="19025" y="14337"/>
                </a:cubicBezTo>
                <a:cubicBezTo>
                  <a:pt x="19072" y="14426"/>
                  <a:pt x="19032" y="14473"/>
                  <a:pt x="19000" y="14560"/>
                </a:cubicBezTo>
                <a:cubicBezTo>
                  <a:pt x="18963" y="14662"/>
                  <a:pt x="18945" y="14741"/>
                  <a:pt x="18852" y="14808"/>
                </a:cubicBezTo>
                <a:cubicBezTo>
                  <a:pt x="18790" y="14853"/>
                  <a:pt x="18779" y="14850"/>
                  <a:pt x="18703" y="14858"/>
                </a:cubicBezTo>
                <a:cubicBezTo>
                  <a:pt x="18800" y="14876"/>
                  <a:pt x="18850" y="14910"/>
                  <a:pt x="18926" y="14982"/>
                </a:cubicBezTo>
                <a:cubicBezTo>
                  <a:pt x="18976" y="15029"/>
                  <a:pt x="18999" y="15070"/>
                  <a:pt x="19025" y="15056"/>
                </a:cubicBezTo>
              </a:path>
              <a:path w="1837" h="1960">
                <a:moveTo>
                  <a:pt x="18083" y="13345"/>
                </a:moveTo>
                <a:cubicBezTo>
                  <a:pt x="18051" y="13473"/>
                  <a:pt x="18027" y="13521"/>
                  <a:pt x="17934" y="13618"/>
                </a:cubicBezTo>
                <a:cubicBezTo>
                  <a:pt x="17868" y="13687"/>
                  <a:pt x="17771" y="13727"/>
                  <a:pt x="17686" y="13767"/>
                </a:cubicBezTo>
                <a:cubicBezTo>
                  <a:pt x="17625" y="13795"/>
                  <a:pt x="17562" y="13821"/>
                  <a:pt x="17512" y="13866"/>
                </a:cubicBezTo>
                <a:cubicBezTo>
                  <a:pt x="17504" y="13874"/>
                  <a:pt x="17495" y="13883"/>
                  <a:pt x="17487" y="13891"/>
                </a:cubicBezTo>
                <a:cubicBezTo>
                  <a:pt x="17538" y="13930"/>
                  <a:pt x="17586" y="13938"/>
                  <a:pt x="17636" y="13965"/>
                </a:cubicBezTo>
                <a:cubicBezTo>
                  <a:pt x="17738" y="14019"/>
                  <a:pt x="17771" y="14087"/>
                  <a:pt x="17859" y="14163"/>
                </a:cubicBezTo>
                <a:cubicBezTo>
                  <a:pt x="17985" y="14273"/>
                  <a:pt x="18095" y="14384"/>
                  <a:pt x="18231" y="144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Ink 9"/>
          <p:cNvSpPr/>
          <p:nvPr/>
        </p:nvSpPr>
        <p:spPr>
          <a:xfrm>
            <a:off x="7081920" y="3776760"/>
            <a:ext cx="919080" cy="1652400"/>
          </a:xfrm>
          <a:custGeom>
            <a:avLst/>
            <a:gdLst/>
            <a:ahLst/>
            <a:rect l="l" t="t" r="r" b="b"/>
            <a:pathLst>
              <a:path w="2556" h="4590">
                <a:moveTo>
                  <a:pt x="20439" y="11807"/>
                </a:moveTo>
                <a:cubicBezTo>
                  <a:pt x="20401" y="11911"/>
                  <a:pt x="20346" y="11985"/>
                  <a:pt x="20290" y="12080"/>
                </a:cubicBezTo>
                <a:cubicBezTo>
                  <a:pt x="20241" y="12163"/>
                  <a:pt x="20219" y="12214"/>
                  <a:pt x="20191" y="12303"/>
                </a:cubicBezTo>
                <a:cubicBezTo>
                  <a:pt x="20177" y="12348"/>
                  <a:pt x="20150" y="12381"/>
                  <a:pt x="20141" y="12427"/>
                </a:cubicBezTo>
              </a:path>
              <a:path w="2556" h="4590">
                <a:moveTo>
                  <a:pt x="20513" y="10492"/>
                </a:moveTo>
                <a:cubicBezTo>
                  <a:pt x="20429" y="10570"/>
                  <a:pt x="20356" y="10620"/>
                  <a:pt x="20290" y="10716"/>
                </a:cubicBezTo>
                <a:cubicBezTo>
                  <a:pt x="20233" y="10798"/>
                  <a:pt x="20180" y="10898"/>
                  <a:pt x="20141" y="10988"/>
                </a:cubicBezTo>
                <a:cubicBezTo>
                  <a:pt x="20097" y="11089"/>
                  <a:pt x="19992" y="11191"/>
                  <a:pt x="19968" y="11286"/>
                </a:cubicBezTo>
              </a:path>
              <a:path w="2556" h="4590">
                <a:moveTo>
                  <a:pt x="19670" y="13841"/>
                </a:moveTo>
                <a:cubicBezTo>
                  <a:pt x="19733" y="13886"/>
                  <a:pt x="19777" y="13932"/>
                  <a:pt x="19794" y="14015"/>
                </a:cubicBezTo>
                <a:cubicBezTo>
                  <a:pt x="19810" y="14095"/>
                  <a:pt x="19778" y="14163"/>
                  <a:pt x="19769" y="14238"/>
                </a:cubicBezTo>
                <a:cubicBezTo>
                  <a:pt x="19760" y="14315"/>
                  <a:pt x="19758" y="14395"/>
                  <a:pt x="19745" y="14461"/>
                </a:cubicBezTo>
                <a:cubicBezTo>
                  <a:pt x="19745" y="14506"/>
                  <a:pt x="19748" y="14519"/>
                  <a:pt x="19720" y="14536"/>
                </a:cubicBezTo>
              </a:path>
              <a:path w="2556" h="4590">
                <a:moveTo>
                  <a:pt x="19993" y="13692"/>
                </a:moveTo>
                <a:cubicBezTo>
                  <a:pt x="20076" y="13664"/>
                  <a:pt x="20151" y="13667"/>
                  <a:pt x="20241" y="13667"/>
                </a:cubicBezTo>
                <a:cubicBezTo>
                  <a:pt x="20257" y="13667"/>
                  <a:pt x="20274" y="13667"/>
                  <a:pt x="20290" y="13667"/>
                </a:cubicBezTo>
              </a:path>
              <a:path w="2556" h="4590">
                <a:moveTo>
                  <a:pt x="20588" y="13221"/>
                </a:moveTo>
                <a:cubicBezTo>
                  <a:pt x="20588" y="13428"/>
                  <a:pt x="20588" y="13634"/>
                  <a:pt x="20588" y="13841"/>
                </a:cubicBezTo>
                <a:cubicBezTo>
                  <a:pt x="20588" y="13984"/>
                  <a:pt x="20588" y="13741"/>
                  <a:pt x="20588" y="13717"/>
                </a:cubicBezTo>
                <a:cubicBezTo>
                  <a:pt x="20588" y="13620"/>
                  <a:pt x="20567" y="13539"/>
                  <a:pt x="20563" y="13444"/>
                </a:cubicBezTo>
                <a:cubicBezTo>
                  <a:pt x="20559" y="13353"/>
                  <a:pt x="20549" y="13307"/>
                  <a:pt x="20563" y="13221"/>
                </a:cubicBezTo>
                <a:cubicBezTo>
                  <a:pt x="20572" y="13165"/>
                  <a:pt x="20590" y="13088"/>
                  <a:pt x="20638" y="13047"/>
                </a:cubicBezTo>
                <a:cubicBezTo>
                  <a:pt x="20699" y="12994"/>
                  <a:pt x="20787" y="12998"/>
                  <a:pt x="20861" y="12998"/>
                </a:cubicBezTo>
                <a:cubicBezTo>
                  <a:pt x="20927" y="12998"/>
                  <a:pt x="21001" y="12990"/>
                  <a:pt x="21034" y="13022"/>
                </a:cubicBezTo>
              </a:path>
              <a:path w="2556" h="4590">
                <a:moveTo>
                  <a:pt x="20910" y="13320"/>
                </a:moveTo>
                <a:cubicBezTo>
                  <a:pt x="20926" y="13293"/>
                  <a:pt x="20972" y="13204"/>
                  <a:pt x="21010" y="13196"/>
                </a:cubicBezTo>
                <a:cubicBezTo>
                  <a:pt x="21076" y="13182"/>
                  <a:pt x="21163" y="13227"/>
                  <a:pt x="21183" y="13295"/>
                </a:cubicBezTo>
                <a:cubicBezTo>
                  <a:pt x="21202" y="13358"/>
                  <a:pt x="21215" y="13482"/>
                  <a:pt x="21183" y="13543"/>
                </a:cubicBezTo>
                <a:cubicBezTo>
                  <a:pt x="21149" y="13609"/>
                  <a:pt x="21072" y="13705"/>
                  <a:pt x="21010" y="13742"/>
                </a:cubicBezTo>
                <a:cubicBezTo>
                  <a:pt x="20951" y="13777"/>
                  <a:pt x="20936" y="13773"/>
                  <a:pt x="20886" y="13742"/>
                </a:cubicBezTo>
                <a:cubicBezTo>
                  <a:pt x="20957" y="13751"/>
                  <a:pt x="21049" y="13771"/>
                  <a:pt x="21109" y="13816"/>
                </a:cubicBezTo>
                <a:cubicBezTo>
                  <a:pt x="21151" y="13848"/>
                  <a:pt x="21191" y="13882"/>
                  <a:pt x="21233" y="13915"/>
                </a:cubicBezTo>
              </a:path>
              <a:path w="2556" h="4590">
                <a:moveTo>
                  <a:pt x="21357" y="13891"/>
                </a:moveTo>
                <a:cubicBezTo>
                  <a:pt x="21256" y="13930"/>
                  <a:pt x="21161" y="13942"/>
                  <a:pt x="21059" y="13965"/>
                </a:cubicBezTo>
                <a:cubicBezTo>
                  <a:pt x="20944" y="13991"/>
                  <a:pt x="20825" y="14030"/>
                  <a:pt x="20712" y="14064"/>
                </a:cubicBezTo>
                <a:cubicBezTo>
                  <a:pt x="20619" y="14092"/>
                  <a:pt x="20530" y="14129"/>
                  <a:pt x="20439" y="14163"/>
                </a:cubicBezTo>
                <a:cubicBezTo>
                  <a:pt x="20375" y="14187"/>
                  <a:pt x="20317" y="14208"/>
                  <a:pt x="20290" y="14263"/>
                </a:cubicBezTo>
              </a:path>
              <a:path w="2556" h="4590">
                <a:moveTo>
                  <a:pt x="20811" y="14312"/>
                </a:moveTo>
                <a:cubicBezTo>
                  <a:pt x="20884" y="14303"/>
                  <a:pt x="20957" y="14270"/>
                  <a:pt x="21034" y="14288"/>
                </a:cubicBezTo>
                <a:cubicBezTo>
                  <a:pt x="21107" y="14305"/>
                  <a:pt x="21173" y="14353"/>
                  <a:pt x="21208" y="14412"/>
                </a:cubicBezTo>
                <a:cubicBezTo>
                  <a:pt x="21263" y="14504"/>
                  <a:pt x="21210" y="14555"/>
                  <a:pt x="21158" y="14635"/>
                </a:cubicBezTo>
                <a:cubicBezTo>
                  <a:pt x="21107" y="14713"/>
                  <a:pt x="21037" y="14803"/>
                  <a:pt x="20960" y="14858"/>
                </a:cubicBezTo>
                <a:cubicBezTo>
                  <a:pt x="20910" y="14894"/>
                  <a:pt x="20892" y="14900"/>
                  <a:pt x="20836" y="14908"/>
                </a:cubicBezTo>
                <a:cubicBezTo>
                  <a:pt x="20797" y="14844"/>
                  <a:pt x="20810" y="14797"/>
                  <a:pt x="20861" y="14734"/>
                </a:cubicBezTo>
                <a:cubicBezTo>
                  <a:pt x="20899" y="14687"/>
                  <a:pt x="20989" y="14701"/>
                  <a:pt x="21034" y="14734"/>
                </a:cubicBezTo>
                <a:cubicBezTo>
                  <a:pt x="21121" y="14797"/>
                  <a:pt x="21158" y="14891"/>
                  <a:pt x="21208" y="14982"/>
                </a:cubicBezTo>
                <a:cubicBezTo>
                  <a:pt x="21237" y="15036"/>
                  <a:pt x="21253" y="15060"/>
                  <a:pt x="21307" y="15081"/>
                </a:cubicBezTo>
              </a:path>
              <a:path w="2556" h="4590">
                <a:moveTo>
                  <a:pt x="21605" y="13618"/>
                </a:moveTo>
                <a:cubicBezTo>
                  <a:pt x="21707" y="13655"/>
                  <a:pt x="21751" y="13690"/>
                  <a:pt x="21828" y="13767"/>
                </a:cubicBezTo>
                <a:cubicBezTo>
                  <a:pt x="21893" y="13832"/>
                  <a:pt x="21957" y="13885"/>
                  <a:pt x="22027" y="13940"/>
                </a:cubicBezTo>
                <a:cubicBezTo>
                  <a:pt x="22074" y="13977"/>
                  <a:pt x="22166" y="13982"/>
                  <a:pt x="22225" y="13990"/>
                </a:cubicBezTo>
                <a:cubicBezTo>
                  <a:pt x="22178" y="14083"/>
                  <a:pt x="22123" y="14170"/>
                  <a:pt x="22076" y="14263"/>
                </a:cubicBezTo>
                <a:cubicBezTo>
                  <a:pt x="21979" y="14453"/>
                  <a:pt x="21910" y="14661"/>
                  <a:pt x="21828" y="14858"/>
                </a:cubicBezTo>
                <a:cubicBezTo>
                  <a:pt x="21803" y="14916"/>
                  <a:pt x="21779" y="14974"/>
                  <a:pt x="21754" y="150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Ink 10"/>
          <p:cNvSpPr/>
          <p:nvPr/>
        </p:nvSpPr>
        <p:spPr>
          <a:xfrm>
            <a:off x="7653240" y="2419200"/>
            <a:ext cx="803520" cy="930600"/>
          </a:xfrm>
          <a:custGeom>
            <a:avLst/>
            <a:gdLst/>
            <a:ahLst/>
            <a:rect l="l" t="t" r="r" b="b"/>
            <a:pathLst>
              <a:path w="2233" h="2581">
                <a:moveTo>
                  <a:pt x="21779" y="7045"/>
                </a:moveTo>
                <a:cubicBezTo>
                  <a:pt x="21828" y="7045"/>
                  <a:pt x="21878" y="7045"/>
                  <a:pt x="21927" y="7045"/>
                </a:cubicBezTo>
              </a:path>
              <a:path w="2233" h="2581">
                <a:moveTo>
                  <a:pt x="21704" y="7392"/>
                </a:moveTo>
                <a:cubicBezTo>
                  <a:pt x="21772" y="7426"/>
                  <a:pt x="21846" y="7417"/>
                  <a:pt x="21927" y="7417"/>
                </a:cubicBezTo>
              </a:path>
              <a:path w="2233" h="2581">
                <a:moveTo>
                  <a:pt x="22175" y="7417"/>
                </a:moveTo>
                <a:cubicBezTo>
                  <a:pt x="22175" y="7607"/>
                  <a:pt x="22175" y="7797"/>
                  <a:pt x="22175" y="7987"/>
                </a:cubicBezTo>
                <a:cubicBezTo>
                  <a:pt x="22150" y="7892"/>
                  <a:pt x="22151" y="7813"/>
                  <a:pt x="22151" y="7714"/>
                </a:cubicBezTo>
                <a:cubicBezTo>
                  <a:pt x="22151" y="7529"/>
                  <a:pt x="22156" y="7349"/>
                  <a:pt x="22175" y="7169"/>
                </a:cubicBezTo>
                <a:cubicBezTo>
                  <a:pt x="22184" y="7082"/>
                  <a:pt x="22186" y="7003"/>
                  <a:pt x="22200" y="6921"/>
                </a:cubicBezTo>
                <a:cubicBezTo>
                  <a:pt x="22222" y="6792"/>
                  <a:pt x="22272" y="6783"/>
                  <a:pt x="22399" y="6747"/>
                </a:cubicBezTo>
                <a:cubicBezTo>
                  <a:pt x="22544" y="6706"/>
                  <a:pt x="22696" y="6722"/>
                  <a:pt x="22845" y="6722"/>
                </a:cubicBezTo>
                <a:cubicBezTo>
                  <a:pt x="22954" y="6722"/>
                  <a:pt x="23060" y="6739"/>
                  <a:pt x="23168" y="6747"/>
                </a:cubicBezTo>
              </a:path>
              <a:path w="2233" h="2581">
                <a:moveTo>
                  <a:pt x="22399" y="7094"/>
                </a:moveTo>
                <a:cubicBezTo>
                  <a:pt x="22502" y="7085"/>
                  <a:pt x="22588" y="7069"/>
                  <a:pt x="22696" y="7069"/>
                </a:cubicBezTo>
                <a:cubicBezTo>
                  <a:pt x="22748" y="7069"/>
                  <a:pt x="22766" y="7070"/>
                  <a:pt x="22796" y="7094"/>
                </a:cubicBezTo>
                <a:cubicBezTo>
                  <a:pt x="22812" y="7128"/>
                  <a:pt x="22789" y="7182"/>
                  <a:pt x="22746" y="7218"/>
                </a:cubicBezTo>
                <a:cubicBezTo>
                  <a:pt x="22688" y="7267"/>
                  <a:pt x="22599" y="7347"/>
                  <a:pt x="22523" y="7367"/>
                </a:cubicBezTo>
                <a:cubicBezTo>
                  <a:pt x="22506" y="7367"/>
                  <a:pt x="22490" y="7367"/>
                  <a:pt x="22473" y="7367"/>
                </a:cubicBezTo>
                <a:cubicBezTo>
                  <a:pt x="22545" y="7388"/>
                  <a:pt x="22634" y="7349"/>
                  <a:pt x="22721" y="7367"/>
                </a:cubicBezTo>
                <a:cubicBezTo>
                  <a:pt x="22816" y="7387"/>
                  <a:pt x="22840" y="7452"/>
                  <a:pt x="22845" y="7541"/>
                </a:cubicBezTo>
                <a:cubicBezTo>
                  <a:pt x="22848" y="7593"/>
                  <a:pt x="22774" y="7714"/>
                  <a:pt x="22721" y="7739"/>
                </a:cubicBezTo>
                <a:cubicBezTo>
                  <a:pt x="22679" y="7758"/>
                  <a:pt x="22572" y="7778"/>
                  <a:pt x="22523" y="7764"/>
                </a:cubicBezTo>
                <a:cubicBezTo>
                  <a:pt x="22475" y="7740"/>
                  <a:pt x="22458" y="7734"/>
                  <a:pt x="22473" y="7689"/>
                </a:cubicBezTo>
              </a:path>
              <a:path w="2233" h="2581">
                <a:moveTo>
                  <a:pt x="23019" y="7020"/>
                </a:moveTo>
                <a:cubicBezTo>
                  <a:pt x="23123" y="7028"/>
                  <a:pt x="23190" y="7024"/>
                  <a:pt x="23217" y="7144"/>
                </a:cubicBezTo>
                <a:cubicBezTo>
                  <a:pt x="23238" y="7237"/>
                  <a:pt x="23147" y="7351"/>
                  <a:pt x="23093" y="7417"/>
                </a:cubicBezTo>
                <a:cubicBezTo>
                  <a:pt x="23042" y="7480"/>
                  <a:pt x="22977" y="7514"/>
                  <a:pt x="22920" y="7565"/>
                </a:cubicBezTo>
                <a:cubicBezTo>
                  <a:pt x="22912" y="7573"/>
                  <a:pt x="22903" y="7582"/>
                  <a:pt x="22895" y="7590"/>
                </a:cubicBezTo>
                <a:cubicBezTo>
                  <a:pt x="22958" y="7654"/>
                  <a:pt x="23003" y="7640"/>
                  <a:pt x="23093" y="7640"/>
                </a:cubicBezTo>
                <a:cubicBezTo>
                  <a:pt x="23230" y="7640"/>
                  <a:pt x="23356" y="7625"/>
                  <a:pt x="23490" y="7615"/>
                </a:cubicBezTo>
              </a:path>
              <a:path w="2233" h="2581">
                <a:moveTo>
                  <a:pt x="21258" y="8806"/>
                </a:moveTo>
                <a:cubicBezTo>
                  <a:pt x="21365" y="8777"/>
                  <a:pt x="21421" y="8801"/>
                  <a:pt x="21530" y="8806"/>
                </a:cubicBezTo>
                <a:cubicBezTo>
                  <a:pt x="21547" y="8806"/>
                  <a:pt x="21563" y="8806"/>
                  <a:pt x="21580" y="8806"/>
                </a:cubicBezTo>
              </a:path>
              <a:path w="2233" h="2581">
                <a:moveTo>
                  <a:pt x="21282" y="8954"/>
                </a:moveTo>
                <a:cubicBezTo>
                  <a:pt x="21390" y="8954"/>
                  <a:pt x="21433" y="8956"/>
                  <a:pt x="21530" y="8930"/>
                </a:cubicBezTo>
              </a:path>
              <a:path w="2233" h="2581">
                <a:moveTo>
                  <a:pt x="21903" y="8558"/>
                </a:moveTo>
                <a:cubicBezTo>
                  <a:pt x="21894" y="8646"/>
                  <a:pt x="21853" y="8694"/>
                  <a:pt x="21828" y="8781"/>
                </a:cubicBezTo>
                <a:cubicBezTo>
                  <a:pt x="21798" y="8884"/>
                  <a:pt x="21986" y="8870"/>
                  <a:pt x="22027" y="8855"/>
                </a:cubicBezTo>
                <a:cubicBezTo>
                  <a:pt x="22071" y="8811"/>
                  <a:pt x="22081" y="8794"/>
                  <a:pt x="22126" y="8806"/>
                </a:cubicBezTo>
              </a:path>
              <a:path w="2233" h="2581">
                <a:moveTo>
                  <a:pt x="22250" y="8359"/>
                </a:moveTo>
                <a:cubicBezTo>
                  <a:pt x="22202" y="8447"/>
                  <a:pt x="22161" y="8552"/>
                  <a:pt x="22151" y="8657"/>
                </a:cubicBezTo>
                <a:cubicBezTo>
                  <a:pt x="22140" y="8775"/>
                  <a:pt x="22126" y="8885"/>
                  <a:pt x="22126" y="9004"/>
                </a:cubicBezTo>
                <a:cubicBezTo>
                  <a:pt x="22126" y="9091"/>
                  <a:pt x="22151" y="9164"/>
                  <a:pt x="22151" y="9252"/>
                </a:cubicBezTo>
                <a:cubicBezTo>
                  <a:pt x="22151" y="9269"/>
                  <a:pt x="22151" y="9285"/>
                  <a:pt x="22151" y="9302"/>
                </a:cubicBezTo>
              </a:path>
              <a:path w="2233" h="2581">
                <a:moveTo>
                  <a:pt x="22374" y="8806"/>
                </a:moveTo>
                <a:cubicBezTo>
                  <a:pt x="22374" y="8920"/>
                  <a:pt x="22383" y="8997"/>
                  <a:pt x="22399" y="9103"/>
                </a:cubicBezTo>
                <a:cubicBezTo>
                  <a:pt x="22399" y="9161"/>
                  <a:pt x="22399" y="9186"/>
                  <a:pt x="22399" y="9227"/>
                </a:cubicBezTo>
                <a:cubicBezTo>
                  <a:pt x="22399" y="9033"/>
                  <a:pt x="22368" y="8817"/>
                  <a:pt x="22423" y="8632"/>
                </a:cubicBezTo>
                <a:cubicBezTo>
                  <a:pt x="22445" y="8559"/>
                  <a:pt x="22468" y="8414"/>
                  <a:pt x="22523" y="8359"/>
                </a:cubicBezTo>
                <a:cubicBezTo>
                  <a:pt x="22567" y="8315"/>
                  <a:pt x="22663" y="8288"/>
                  <a:pt x="22721" y="8285"/>
                </a:cubicBezTo>
                <a:cubicBezTo>
                  <a:pt x="22773" y="8285"/>
                  <a:pt x="22791" y="8286"/>
                  <a:pt x="22820" y="8310"/>
                </a:cubicBezTo>
              </a:path>
              <a:path w="2233" h="2581">
                <a:moveTo>
                  <a:pt x="22572" y="8657"/>
                </a:moveTo>
                <a:cubicBezTo>
                  <a:pt x="22658" y="8625"/>
                  <a:pt x="22711" y="8626"/>
                  <a:pt x="22796" y="8582"/>
                </a:cubicBezTo>
                <a:cubicBezTo>
                  <a:pt x="22839" y="8561"/>
                  <a:pt x="22851" y="8548"/>
                  <a:pt x="22870" y="8582"/>
                </a:cubicBezTo>
                <a:cubicBezTo>
                  <a:pt x="22892" y="8680"/>
                  <a:pt x="22858" y="8716"/>
                  <a:pt x="22820" y="8806"/>
                </a:cubicBezTo>
                <a:cubicBezTo>
                  <a:pt x="22782" y="8895"/>
                  <a:pt x="22722" y="8947"/>
                  <a:pt x="22671" y="9029"/>
                </a:cubicBezTo>
                <a:cubicBezTo>
                  <a:pt x="22619" y="9114"/>
                  <a:pt x="22698" y="9147"/>
                  <a:pt x="22771" y="9153"/>
                </a:cubicBezTo>
                <a:cubicBezTo>
                  <a:pt x="22914" y="9165"/>
                  <a:pt x="23045" y="9165"/>
                  <a:pt x="23168" y="91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Ink 11"/>
          <p:cNvSpPr/>
          <p:nvPr/>
        </p:nvSpPr>
        <p:spPr>
          <a:xfrm>
            <a:off x="5946840" y="3679920"/>
            <a:ext cx="2009880" cy="892080"/>
          </a:xfrm>
          <a:custGeom>
            <a:avLst/>
            <a:gdLst/>
            <a:ahLst/>
            <a:rect l="l" t="t" r="r" b="b"/>
            <a:pathLst>
              <a:path w="5582" h="2481">
                <a:moveTo>
                  <a:pt x="17611" y="10220"/>
                </a:moveTo>
                <a:cubicBezTo>
                  <a:pt x="17582" y="10272"/>
                  <a:pt x="17533" y="10385"/>
                  <a:pt x="17487" y="10418"/>
                </a:cubicBezTo>
                <a:cubicBezTo>
                  <a:pt x="17390" y="10488"/>
                  <a:pt x="17305" y="10550"/>
                  <a:pt x="17214" y="10641"/>
                </a:cubicBezTo>
                <a:cubicBezTo>
                  <a:pt x="17052" y="10804"/>
                  <a:pt x="16890" y="10964"/>
                  <a:pt x="16718" y="11112"/>
                </a:cubicBezTo>
                <a:cubicBezTo>
                  <a:pt x="16671" y="11153"/>
                  <a:pt x="16622" y="11203"/>
                  <a:pt x="16570" y="11237"/>
                </a:cubicBezTo>
                <a:cubicBezTo>
                  <a:pt x="16526" y="11258"/>
                  <a:pt x="16505" y="11271"/>
                  <a:pt x="16545" y="11237"/>
                </a:cubicBezTo>
                <a:cubicBezTo>
                  <a:pt x="16649" y="11253"/>
                  <a:pt x="16615" y="11255"/>
                  <a:pt x="16694" y="11311"/>
                </a:cubicBezTo>
                <a:cubicBezTo>
                  <a:pt x="16756" y="11355"/>
                  <a:pt x="16817" y="11421"/>
                  <a:pt x="16867" y="11485"/>
                </a:cubicBezTo>
                <a:cubicBezTo>
                  <a:pt x="16953" y="11595"/>
                  <a:pt x="17046" y="11703"/>
                  <a:pt x="17140" y="11807"/>
                </a:cubicBezTo>
                <a:cubicBezTo>
                  <a:pt x="17250" y="11929"/>
                  <a:pt x="17352" y="12057"/>
                  <a:pt x="17462" y="12179"/>
                </a:cubicBezTo>
                <a:cubicBezTo>
                  <a:pt x="17545" y="12271"/>
                  <a:pt x="17610" y="12357"/>
                  <a:pt x="17686" y="12452"/>
                </a:cubicBezTo>
                <a:cubicBezTo>
                  <a:pt x="17711" y="12477"/>
                  <a:pt x="17719" y="12485"/>
                  <a:pt x="17735" y="12502"/>
                </a:cubicBezTo>
              </a:path>
              <a:path w="5582" h="2481">
                <a:moveTo>
                  <a:pt x="17884" y="10592"/>
                </a:moveTo>
                <a:cubicBezTo>
                  <a:pt x="17877" y="10688"/>
                  <a:pt x="17859" y="10776"/>
                  <a:pt x="17810" y="10864"/>
                </a:cubicBezTo>
                <a:cubicBezTo>
                  <a:pt x="17785" y="10908"/>
                  <a:pt x="17716" y="10935"/>
                  <a:pt x="17785" y="10988"/>
                </a:cubicBezTo>
                <a:cubicBezTo>
                  <a:pt x="17844" y="11033"/>
                  <a:pt x="17963" y="11034"/>
                  <a:pt x="18033" y="11038"/>
                </a:cubicBezTo>
                <a:cubicBezTo>
                  <a:pt x="18094" y="11041"/>
                  <a:pt x="18129" y="11015"/>
                  <a:pt x="18182" y="10988"/>
                </a:cubicBezTo>
              </a:path>
              <a:path w="5582" h="2481">
                <a:moveTo>
                  <a:pt x="18182" y="10269"/>
                </a:moveTo>
                <a:cubicBezTo>
                  <a:pt x="18092" y="10333"/>
                  <a:pt x="18114" y="10387"/>
                  <a:pt x="18083" y="10492"/>
                </a:cubicBezTo>
                <a:cubicBezTo>
                  <a:pt x="18048" y="10611"/>
                  <a:pt x="18012" y="10714"/>
                  <a:pt x="18008" y="10840"/>
                </a:cubicBezTo>
                <a:cubicBezTo>
                  <a:pt x="18005" y="10947"/>
                  <a:pt x="18010" y="11059"/>
                  <a:pt x="18033" y="11162"/>
                </a:cubicBezTo>
                <a:cubicBezTo>
                  <a:pt x="18054" y="11258"/>
                  <a:pt x="18076" y="11283"/>
                  <a:pt x="18083" y="11385"/>
                </a:cubicBezTo>
              </a:path>
              <a:path w="5582" h="2481">
                <a:moveTo>
                  <a:pt x="17587" y="11336"/>
                </a:moveTo>
                <a:cubicBezTo>
                  <a:pt x="17705" y="11324"/>
                  <a:pt x="17814" y="11311"/>
                  <a:pt x="17934" y="11311"/>
                </a:cubicBezTo>
                <a:cubicBezTo>
                  <a:pt x="18104" y="11311"/>
                  <a:pt x="18266" y="11304"/>
                  <a:pt x="18430" y="11286"/>
                </a:cubicBezTo>
                <a:cubicBezTo>
                  <a:pt x="18519" y="11276"/>
                  <a:pt x="18588" y="11279"/>
                  <a:pt x="18678" y="11261"/>
                </a:cubicBezTo>
              </a:path>
              <a:path w="5582" h="2481">
                <a:moveTo>
                  <a:pt x="17884" y="11633"/>
                </a:moveTo>
                <a:cubicBezTo>
                  <a:pt x="17816" y="11681"/>
                  <a:pt x="17749" y="11705"/>
                  <a:pt x="17785" y="11782"/>
                </a:cubicBezTo>
                <a:cubicBezTo>
                  <a:pt x="17823" y="11863"/>
                  <a:pt x="17855" y="11854"/>
                  <a:pt x="17934" y="11881"/>
                </a:cubicBezTo>
                <a:cubicBezTo>
                  <a:pt x="18027" y="11913"/>
                  <a:pt x="18083" y="11931"/>
                  <a:pt x="18182" y="11931"/>
                </a:cubicBezTo>
                <a:cubicBezTo>
                  <a:pt x="18198" y="11931"/>
                  <a:pt x="18215" y="11931"/>
                  <a:pt x="18231" y="11931"/>
                </a:cubicBezTo>
              </a:path>
              <a:path w="5582" h="2481">
                <a:moveTo>
                  <a:pt x="18207" y="11485"/>
                </a:moveTo>
                <a:cubicBezTo>
                  <a:pt x="18182" y="11628"/>
                  <a:pt x="18157" y="11737"/>
                  <a:pt x="18157" y="11881"/>
                </a:cubicBezTo>
                <a:cubicBezTo>
                  <a:pt x="18157" y="12051"/>
                  <a:pt x="18184" y="12212"/>
                  <a:pt x="18207" y="12378"/>
                </a:cubicBezTo>
                <a:cubicBezTo>
                  <a:pt x="18207" y="12422"/>
                  <a:pt x="18204" y="12435"/>
                  <a:pt x="18231" y="12452"/>
                </a:cubicBezTo>
              </a:path>
              <a:path w="5582" h="2481">
                <a:moveTo>
                  <a:pt x="18380" y="11807"/>
                </a:moveTo>
                <a:cubicBezTo>
                  <a:pt x="18380" y="11889"/>
                  <a:pt x="18396" y="11952"/>
                  <a:pt x="18405" y="12030"/>
                </a:cubicBezTo>
                <a:cubicBezTo>
                  <a:pt x="18417" y="12130"/>
                  <a:pt x="18443" y="12233"/>
                  <a:pt x="18455" y="12328"/>
                </a:cubicBezTo>
                <a:cubicBezTo>
                  <a:pt x="18465" y="12405"/>
                  <a:pt x="18457" y="12417"/>
                  <a:pt x="18504" y="12477"/>
                </a:cubicBezTo>
                <a:cubicBezTo>
                  <a:pt x="18494" y="12384"/>
                  <a:pt x="18479" y="12301"/>
                  <a:pt x="18479" y="12204"/>
                </a:cubicBezTo>
                <a:cubicBezTo>
                  <a:pt x="18479" y="12032"/>
                  <a:pt x="18453" y="11847"/>
                  <a:pt x="18504" y="11683"/>
                </a:cubicBezTo>
                <a:cubicBezTo>
                  <a:pt x="18527" y="11608"/>
                  <a:pt x="18553" y="11565"/>
                  <a:pt x="18628" y="11534"/>
                </a:cubicBezTo>
                <a:cubicBezTo>
                  <a:pt x="18707" y="11502"/>
                  <a:pt x="18774" y="11499"/>
                  <a:pt x="18852" y="11460"/>
                </a:cubicBezTo>
                <a:cubicBezTo>
                  <a:pt x="18892" y="11440"/>
                  <a:pt x="18898" y="11431"/>
                  <a:pt x="18926" y="11435"/>
                </a:cubicBezTo>
              </a:path>
              <a:path w="5582" h="2481">
                <a:moveTo>
                  <a:pt x="18653" y="11857"/>
                </a:moveTo>
                <a:cubicBezTo>
                  <a:pt x="18729" y="11809"/>
                  <a:pt x="18763" y="11755"/>
                  <a:pt x="18827" y="11708"/>
                </a:cubicBezTo>
                <a:cubicBezTo>
                  <a:pt x="18900" y="11655"/>
                  <a:pt x="18942" y="11649"/>
                  <a:pt x="19000" y="11708"/>
                </a:cubicBezTo>
                <a:cubicBezTo>
                  <a:pt x="19048" y="11756"/>
                  <a:pt x="19048" y="11890"/>
                  <a:pt x="19050" y="11956"/>
                </a:cubicBezTo>
                <a:cubicBezTo>
                  <a:pt x="19054" y="12062"/>
                  <a:pt x="19029" y="12178"/>
                  <a:pt x="19000" y="12278"/>
                </a:cubicBezTo>
                <a:cubicBezTo>
                  <a:pt x="18987" y="12322"/>
                  <a:pt x="18927" y="12459"/>
                  <a:pt x="18876" y="12477"/>
                </a:cubicBezTo>
                <a:cubicBezTo>
                  <a:pt x="18788" y="12509"/>
                  <a:pt x="18779" y="12402"/>
                  <a:pt x="18777" y="12353"/>
                </a:cubicBezTo>
                <a:cubicBezTo>
                  <a:pt x="18773" y="12283"/>
                  <a:pt x="18816" y="12192"/>
                  <a:pt x="18901" y="12254"/>
                </a:cubicBezTo>
                <a:cubicBezTo>
                  <a:pt x="18949" y="12289"/>
                  <a:pt x="19037" y="12374"/>
                  <a:pt x="19075" y="12427"/>
                </a:cubicBezTo>
                <a:cubicBezTo>
                  <a:pt x="19118" y="12487"/>
                  <a:pt x="19126" y="12475"/>
                  <a:pt x="19199" y="12502"/>
                </a:cubicBezTo>
              </a:path>
              <a:path w="5582" h="2481">
                <a:moveTo>
                  <a:pt x="19323" y="11361"/>
                </a:moveTo>
                <a:cubicBezTo>
                  <a:pt x="19299" y="11503"/>
                  <a:pt x="19316" y="11591"/>
                  <a:pt x="19323" y="11733"/>
                </a:cubicBezTo>
                <a:cubicBezTo>
                  <a:pt x="19325" y="11782"/>
                  <a:pt x="19323" y="11832"/>
                  <a:pt x="19323" y="11881"/>
                </a:cubicBezTo>
              </a:path>
              <a:path w="5582" h="2481">
                <a:moveTo>
                  <a:pt x="19422" y="11112"/>
                </a:moveTo>
                <a:cubicBezTo>
                  <a:pt x="19535" y="11097"/>
                  <a:pt x="19628" y="11112"/>
                  <a:pt x="19745" y="11112"/>
                </a:cubicBezTo>
                <a:cubicBezTo>
                  <a:pt x="19836" y="11112"/>
                  <a:pt x="19878" y="11109"/>
                  <a:pt x="19943" y="11088"/>
                </a:cubicBezTo>
              </a:path>
              <a:path w="5582" h="2481">
                <a:moveTo>
                  <a:pt x="20092" y="10567"/>
                </a:moveTo>
                <a:cubicBezTo>
                  <a:pt x="20064" y="10649"/>
                  <a:pt x="20022" y="10731"/>
                  <a:pt x="20017" y="10815"/>
                </a:cubicBezTo>
                <a:cubicBezTo>
                  <a:pt x="20015" y="10855"/>
                  <a:pt x="20005" y="10954"/>
                  <a:pt x="20067" y="10964"/>
                </a:cubicBezTo>
                <a:cubicBezTo>
                  <a:pt x="20139" y="10976"/>
                  <a:pt x="20188" y="10971"/>
                  <a:pt x="20241" y="10939"/>
                </a:cubicBezTo>
              </a:path>
              <a:path w="5582" h="2481">
                <a:moveTo>
                  <a:pt x="20315" y="10220"/>
                </a:moveTo>
                <a:cubicBezTo>
                  <a:pt x="20315" y="10316"/>
                  <a:pt x="20292" y="10398"/>
                  <a:pt x="20290" y="10492"/>
                </a:cubicBezTo>
                <a:cubicBezTo>
                  <a:pt x="20286" y="10710"/>
                  <a:pt x="20346" y="10902"/>
                  <a:pt x="20365" y="11112"/>
                </a:cubicBezTo>
                <a:cubicBezTo>
                  <a:pt x="20375" y="11222"/>
                  <a:pt x="20389" y="11323"/>
                  <a:pt x="20389" y="11435"/>
                </a:cubicBezTo>
              </a:path>
              <a:path w="5582" h="2481">
                <a:moveTo>
                  <a:pt x="20092" y="11485"/>
                </a:moveTo>
                <a:cubicBezTo>
                  <a:pt x="20175" y="11453"/>
                  <a:pt x="20249" y="11460"/>
                  <a:pt x="20340" y="11460"/>
                </a:cubicBezTo>
                <a:cubicBezTo>
                  <a:pt x="20518" y="11460"/>
                  <a:pt x="20685" y="11450"/>
                  <a:pt x="20861" y="11435"/>
                </a:cubicBezTo>
                <a:cubicBezTo>
                  <a:pt x="20951" y="11427"/>
                  <a:pt x="20949" y="11420"/>
                  <a:pt x="21010" y="11361"/>
                </a:cubicBezTo>
              </a:path>
              <a:path w="5582" h="2481">
                <a:moveTo>
                  <a:pt x="20216" y="11733"/>
                </a:moveTo>
                <a:cubicBezTo>
                  <a:pt x="20165" y="11774"/>
                  <a:pt x="20061" y="11847"/>
                  <a:pt x="20067" y="11931"/>
                </a:cubicBezTo>
                <a:cubicBezTo>
                  <a:pt x="20071" y="11986"/>
                  <a:pt x="20170" y="12040"/>
                  <a:pt x="20216" y="12055"/>
                </a:cubicBezTo>
                <a:cubicBezTo>
                  <a:pt x="20333" y="12093"/>
                  <a:pt x="20386" y="12081"/>
                  <a:pt x="20489" y="12030"/>
                </a:cubicBezTo>
              </a:path>
              <a:path w="5582" h="2481">
                <a:moveTo>
                  <a:pt x="20389" y="11658"/>
                </a:moveTo>
                <a:cubicBezTo>
                  <a:pt x="20389" y="11805"/>
                  <a:pt x="20402" y="11937"/>
                  <a:pt x="20414" y="12080"/>
                </a:cubicBezTo>
                <a:cubicBezTo>
                  <a:pt x="20427" y="12229"/>
                  <a:pt x="20459" y="12374"/>
                  <a:pt x="20464" y="12526"/>
                </a:cubicBezTo>
                <a:cubicBezTo>
                  <a:pt x="20466" y="12576"/>
                  <a:pt x="20464" y="12625"/>
                  <a:pt x="20464" y="12675"/>
                </a:cubicBezTo>
              </a:path>
              <a:path w="5582" h="2481">
                <a:moveTo>
                  <a:pt x="20687" y="11881"/>
                </a:moveTo>
                <a:cubicBezTo>
                  <a:pt x="20687" y="11978"/>
                  <a:pt x="20702" y="12061"/>
                  <a:pt x="20712" y="12154"/>
                </a:cubicBezTo>
                <a:cubicBezTo>
                  <a:pt x="20724" y="12258"/>
                  <a:pt x="20735" y="12377"/>
                  <a:pt x="20762" y="12477"/>
                </a:cubicBezTo>
                <a:cubicBezTo>
                  <a:pt x="20777" y="12535"/>
                  <a:pt x="20803" y="12566"/>
                  <a:pt x="20811" y="12626"/>
                </a:cubicBezTo>
                <a:cubicBezTo>
                  <a:pt x="20839" y="12542"/>
                  <a:pt x="20836" y="12469"/>
                  <a:pt x="20836" y="12378"/>
                </a:cubicBezTo>
                <a:cubicBezTo>
                  <a:pt x="20836" y="12259"/>
                  <a:pt x="20798" y="12147"/>
                  <a:pt x="20786" y="12030"/>
                </a:cubicBezTo>
                <a:cubicBezTo>
                  <a:pt x="20777" y="11941"/>
                  <a:pt x="20772" y="11885"/>
                  <a:pt x="20786" y="11807"/>
                </a:cubicBezTo>
                <a:cubicBezTo>
                  <a:pt x="20800" y="11730"/>
                  <a:pt x="20819" y="11701"/>
                  <a:pt x="20910" y="11683"/>
                </a:cubicBezTo>
                <a:cubicBezTo>
                  <a:pt x="20974" y="11670"/>
                  <a:pt x="21062" y="11708"/>
                  <a:pt x="21134" y="11708"/>
                </a:cubicBezTo>
                <a:cubicBezTo>
                  <a:pt x="21167" y="11708"/>
                  <a:pt x="21200" y="11708"/>
                  <a:pt x="21233" y="11708"/>
                </a:cubicBezTo>
              </a:path>
              <a:path w="5582" h="2481">
                <a:moveTo>
                  <a:pt x="20960" y="12005"/>
                </a:moveTo>
                <a:cubicBezTo>
                  <a:pt x="21015" y="12032"/>
                  <a:pt x="21027" y="11991"/>
                  <a:pt x="21059" y="11931"/>
                </a:cubicBezTo>
                <a:cubicBezTo>
                  <a:pt x="21088" y="11877"/>
                  <a:pt x="21132" y="11808"/>
                  <a:pt x="21208" y="11832"/>
                </a:cubicBezTo>
                <a:cubicBezTo>
                  <a:pt x="21305" y="11862"/>
                  <a:pt x="21280" y="12028"/>
                  <a:pt x="21282" y="12105"/>
                </a:cubicBezTo>
                <a:cubicBezTo>
                  <a:pt x="21285" y="12204"/>
                  <a:pt x="21250" y="12290"/>
                  <a:pt x="21208" y="12378"/>
                </a:cubicBezTo>
                <a:cubicBezTo>
                  <a:pt x="21180" y="12437"/>
                  <a:pt x="21155" y="12481"/>
                  <a:pt x="21109" y="12526"/>
                </a:cubicBezTo>
                <a:cubicBezTo>
                  <a:pt x="21081" y="12554"/>
                  <a:pt x="21067" y="12563"/>
                  <a:pt x="21034" y="12551"/>
                </a:cubicBezTo>
                <a:cubicBezTo>
                  <a:pt x="21004" y="12500"/>
                  <a:pt x="20994" y="12435"/>
                  <a:pt x="21084" y="12452"/>
                </a:cubicBezTo>
                <a:cubicBezTo>
                  <a:pt x="21194" y="12472"/>
                  <a:pt x="21225" y="12541"/>
                  <a:pt x="21307" y="12601"/>
                </a:cubicBezTo>
                <a:cubicBezTo>
                  <a:pt x="21338" y="12623"/>
                  <a:pt x="21460" y="12740"/>
                  <a:pt x="21506" y="12700"/>
                </a:cubicBezTo>
                <a:cubicBezTo>
                  <a:pt x="21539" y="12659"/>
                  <a:pt x="21572" y="12617"/>
                  <a:pt x="21605" y="12576"/>
                </a:cubicBezTo>
              </a:path>
              <a:path w="5582" h="2481">
                <a:moveTo>
                  <a:pt x="21134" y="10641"/>
                </a:moveTo>
                <a:cubicBezTo>
                  <a:pt x="21219" y="10746"/>
                  <a:pt x="21320" y="10806"/>
                  <a:pt x="21431" y="10889"/>
                </a:cubicBezTo>
                <a:cubicBezTo>
                  <a:pt x="21557" y="10983"/>
                  <a:pt x="21694" y="11055"/>
                  <a:pt x="21828" y="11137"/>
                </a:cubicBezTo>
                <a:cubicBezTo>
                  <a:pt x="21911" y="11188"/>
                  <a:pt x="21965" y="11209"/>
                  <a:pt x="22051" y="11237"/>
                </a:cubicBezTo>
                <a:cubicBezTo>
                  <a:pt x="22168" y="11275"/>
                  <a:pt x="22073" y="11414"/>
                  <a:pt x="22051" y="11485"/>
                </a:cubicBezTo>
                <a:cubicBezTo>
                  <a:pt x="21996" y="11663"/>
                  <a:pt x="21918" y="11848"/>
                  <a:pt x="21878" y="12030"/>
                </a:cubicBezTo>
                <a:cubicBezTo>
                  <a:pt x="21836" y="12220"/>
                  <a:pt x="21787" y="12392"/>
                  <a:pt x="21729" y="125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Ink 12"/>
          <p:cNvSpPr/>
          <p:nvPr/>
        </p:nvSpPr>
        <p:spPr>
          <a:xfrm>
            <a:off x="330120" y="3732120"/>
            <a:ext cx="1393920" cy="884160"/>
          </a:xfrm>
          <a:custGeom>
            <a:avLst/>
            <a:gdLst/>
            <a:ahLst/>
            <a:rect l="l" t="t" r="r" b="b"/>
            <a:pathLst>
              <a:path w="3870" h="2457">
                <a:moveTo>
                  <a:pt x="1984" y="10368"/>
                </a:moveTo>
                <a:cubicBezTo>
                  <a:pt x="1909" y="10482"/>
                  <a:pt x="1833" y="10547"/>
                  <a:pt x="1736" y="10641"/>
                </a:cubicBezTo>
                <a:cubicBezTo>
                  <a:pt x="1606" y="10766"/>
                  <a:pt x="1487" y="10883"/>
                  <a:pt x="1339" y="10988"/>
                </a:cubicBezTo>
                <a:cubicBezTo>
                  <a:pt x="1233" y="11063"/>
                  <a:pt x="1146" y="11162"/>
                  <a:pt x="1042" y="11237"/>
                </a:cubicBezTo>
                <a:cubicBezTo>
                  <a:pt x="991" y="11274"/>
                  <a:pt x="961" y="11311"/>
                  <a:pt x="918" y="11361"/>
                </a:cubicBezTo>
                <a:cubicBezTo>
                  <a:pt x="978" y="11444"/>
                  <a:pt x="1017" y="11404"/>
                  <a:pt x="1091" y="11460"/>
                </a:cubicBezTo>
                <a:cubicBezTo>
                  <a:pt x="1155" y="11509"/>
                  <a:pt x="1239" y="11571"/>
                  <a:pt x="1290" y="11633"/>
                </a:cubicBezTo>
                <a:cubicBezTo>
                  <a:pt x="1382" y="11746"/>
                  <a:pt x="1456" y="11898"/>
                  <a:pt x="1513" y="12030"/>
                </a:cubicBezTo>
                <a:cubicBezTo>
                  <a:pt x="1604" y="12239"/>
                  <a:pt x="1725" y="12430"/>
                  <a:pt x="1836" y="12626"/>
                </a:cubicBezTo>
                <a:cubicBezTo>
                  <a:pt x="1911" y="12758"/>
                  <a:pt x="1907" y="12827"/>
                  <a:pt x="2059" y="12799"/>
                </a:cubicBezTo>
              </a:path>
              <a:path w="3870" h="2457">
                <a:moveTo>
                  <a:pt x="1960" y="10840"/>
                </a:moveTo>
                <a:cubicBezTo>
                  <a:pt x="2009" y="10790"/>
                  <a:pt x="2059" y="10770"/>
                  <a:pt x="2133" y="10790"/>
                </a:cubicBezTo>
                <a:cubicBezTo>
                  <a:pt x="2184" y="10803"/>
                  <a:pt x="2245" y="10862"/>
                  <a:pt x="2257" y="10914"/>
                </a:cubicBezTo>
                <a:cubicBezTo>
                  <a:pt x="2271" y="10973"/>
                  <a:pt x="2203" y="11033"/>
                  <a:pt x="2158" y="11063"/>
                </a:cubicBezTo>
                <a:cubicBezTo>
                  <a:pt x="2104" y="11099"/>
                  <a:pt x="2021" y="11127"/>
                  <a:pt x="1960" y="11137"/>
                </a:cubicBezTo>
                <a:cubicBezTo>
                  <a:pt x="1915" y="11137"/>
                  <a:pt x="1902" y="11140"/>
                  <a:pt x="1885" y="11112"/>
                </a:cubicBezTo>
                <a:cubicBezTo>
                  <a:pt x="1995" y="11077"/>
                  <a:pt x="2052" y="11078"/>
                  <a:pt x="2158" y="11137"/>
                </a:cubicBezTo>
                <a:cubicBezTo>
                  <a:pt x="2248" y="11187"/>
                  <a:pt x="2427" y="11362"/>
                  <a:pt x="2381" y="11485"/>
                </a:cubicBezTo>
                <a:cubicBezTo>
                  <a:pt x="2347" y="11577"/>
                  <a:pt x="2230" y="11651"/>
                  <a:pt x="2133" y="11633"/>
                </a:cubicBezTo>
                <a:cubicBezTo>
                  <a:pt x="2078" y="11623"/>
                  <a:pt x="1970" y="11583"/>
                  <a:pt x="1935" y="11534"/>
                </a:cubicBezTo>
                <a:cubicBezTo>
                  <a:pt x="1910" y="11485"/>
                  <a:pt x="1901" y="11468"/>
                  <a:pt x="1885" y="11435"/>
                </a:cubicBezTo>
              </a:path>
              <a:path w="3870" h="2457">
                <a:moveTo>
                  <a:pt x="2505" y="11112"/>
                </a:moveTo>
                <a:cubicBezTo>
                  <a:pt x="2505" y="11261"/>
                  <a:pt x="2507" y="11362"/>
                  <a:pt x="2530" y="11485"/>
                </a:cubicBezTo>
                <a:cubicBezTo>
                  <a:pt x="2530" y="11501"/>
                  <a:pt x="2530" y="11518"/>
                  <a:pt x="2530" y="11534"/>
                </a:cubicBezTo>
                <a:cubicBezTo>
                  <a:pt x="2560" y="11485"/>
                  <a:pt x="2570" y="11399"/>
                  <a:pt x="2555" y="11336"/>
                </a:cubicBezTo>
                <a:cubicBezTo>
                  <a:pt x="2534" y="11248"/>
                  <a:pt x="2497" y="11155"/>
                  <a:pt x="2480" y="11063"/>
                </a:cubicBezTo>
                <a:cubicBezTo>
                  <a:pt x="2467" y="10989"/>
                  <a:pt x="2438" y="10892"/>
                  <a:pt x="2456" y="10815"/>
                </a:cubicBezTo>
                <a:cubicBezTo>
                  <a:pt x="2472" y="10746"/>
                  <a:pt x="2540" y="10704"/>
                  <a:pt x="2604" y="10691"/>
                </a:cubicBezTo>
                <a:cubicBezTo>
                  <a:pt x="2684" y="10675"/>
                  <a:pt x="2758" y="10707"/>
                  <a:pt x="2828" y="10740"/>
                </a:cubicBezTo>
                <a:cubicBezTo>
                  <a:pt x="2844" y="10748"/>
                  <a:pt x="2861" y="10757"/>
                  <a:pt x="2877" y="10765"/>
                </a:cubicBezTo>
              </a:path>
              <a:path w="3870" h="2457">
                <a:moveTo>
                  <a:pt x="2902" y="11137"/>
                </a:moveTo>
                <a:cubicBezTo>
                  <a:pt x="2872" y="11167"/>
                  <a:pt x="2858" y="11172"/>
                  <a:pt x="2828" y="11137"/>
                </a:cubicBezTo>
                <a:cubicBezTo>
                  <a:pt x="2837" y="11076"/>
                  <a:pt x="2857" y="11037"/>
                  <a:pt x="2902" y="10988"/>
                </a:cubicBezTo>
                <a:cubicBezTo>
                  <a:pt x="2953" y="10932"/>
                  <a:pt x="3002" y="10918"/>
                  <a:pt x="3076" y="10964"/>
                </a:cubicBezTo>
                <a:cubicBezTo>
                  <a:pt x="3154" y="11012"/>
                  <a:pt x="3166" y="11132"/>
                  <a:pt x="3175" y="11212"/>
                </a:cubicBezTo>
                <a:cubicBezTo>
                  <a:pt x="3189" y="11335"/>
                  <a:pt x="3135" y="11416"/>
                  <a:pt x="3076" y="11509"/>
                </a:cubicBezTo>
                <a:cubicBezTo>
                  <a:pt x="3033" y="11578"/>
                  <a:pt x="2968" y="11645"/>
                  <a:pt x="2877" y="11633"/>
                </a:cubicBezTo>
                <a:cubicBezTo>
                  <a:pt x="2829" y="11626"/>
                  <a:pt x="2783" y="11564"/>
                  <a:pt x="2753" y="11534"/>
                </a:cubicBezTo>
                <a:cubicBezTo>
                  <a:pt x="2816" y="11462"/>
                  <a:pt x="2857" y="11454"/>
                  <a:pt x="2952" y="11485"/>
                </a:cubicBezTo>
                <a:cubicBezTo>
                  <a:pt x="3045" y="11515"/>
                  <a:pt x="3115" y="11569"/>
                  <a:pt x="3200" y="11609"/>
                </a:cubicBezTo>
                <a:cubicBezTo>
                  <a:pt x="3240" y="11629"/>
                  <a:pt x="3247" y="11637"/>
                  <a:pt x="3274" y="11633"/>
                </a:cubicBezTo>
              </a:path>
              <a:path w="3870" h="2457">
                <a:moveTo>
                  <a:pt x="3473" y="11733"/>
                </a:moveTo>
                <a:cubicBezTo>
                  <a:pt x="3329" y="11799"/>
                  <a:pt x="3252" y="11786"/>
                  <a:pt x="3101" y="11807"/>
                </a:cubicBezTo>
                <a:cubicBezTo>
                  <a:pt x="2950" y="11828"/>
                  <a:pt x="2808" y="11832"/>
                  <a:pt x="2654" y="11832"/>
                </a:cubicBezTo>
                <a:cubicBezTo>
                  <a:pt x="2459" y="11832"/>
                  <a:pt x="2249" y="11837"/>
                  <a:pt x="2059" y="11881"/>
                </a:cubicBezTo>
                <a:cubicBezTo>
                  <a:pt x="2024" y="11916"/>
                  <a:pt x="2029" y="11929"/>
                  <a:pt x="2108" y="11931"/>
                </a:cubicBezTo>
              </a:path>
              <a:path w="3870" h="2457">
                <a:moveTo>
                  <a:pt x="2654" y="12080"/>
                </a:moveTo>
                <a:cubicBezTo>
                  <a:pt x="2630" y="12020"/>
                  <a:pt x="2655" y="12005"/>
                  <a:pt x="2704" y="11956"/>
                </a:cubicBezTo>
                <a:cubicBezTo>
                  <a:pt x="2763" y="11897"/>
                  <a:pt x="2838" y="11951"/>
                  <a:pt x="2902" y="11981"/>
                </a:cubicBezTo>
                <a:cubicBezTo>
                  <a:pt x="2980" y="12018"/>
                  <a:pt x="3014" y="12120"/>
                  <a:pt x="3026" y="12204"/>
                </a:cubicBezTo>
                <a:cubicBezTo>
                  <a:pt x="3041" y="12303"/>
                  <a:pt x="2986" y="12426"/>
                  <a:pt x="2927" y="12502"/>
                </a:cubicBezTo>
                <a:cubicBezTo>
                  <a:pt x="2868" y="12578"/>
                  <a:pt x="2788" y="12631"/>
                  <a:pt x="2704" y="12675"/>
                </a:cubicBezTo>
                <a:cubicBezTo>
                  <a:pt x="2647" y="12705"/>
                  <a:pt x="2557" y="12708"/>
                  <a:pt x="2505" y="12675"/>
                </a:cubicBezTo>
                <a:cubicBezTo>
                  <a:pt x="2489" y="12659"/>
                  <a:pt x="2472" y="12642"/>
                  <a:pt x="2456" y="12626"/>
                </a:cubicBezTo>
                <a:cubicBezTo>
                  <a:pt x="2503" y="12559"/>
                  <a:pt x="2542" y="12530"/>
                  <a:pt x="2629" y="12526"/>
                </a:cubicBezTo>
                <a:cubicBezTo>
                  <a:pt x="2728" y="12522"/>
                  <a:pt x="2805" y="12562"/>
                  <a:pt x="2877" y="12626"/>
                </a:cubicBezTo>
                <a:cubicBezTo>
                  <a:pt x="2937" y="12679"/>
                  <a:pt x="2994" y="12754"/>
                  <a:pt x="3051" y="12799"/>
                </a:cubicBezTo>
                <a:cubicBezTo>
                  <a:pt x="3095" y="12821"/>
                  <a:pt x="3106" y="12834"/>
                  <a:pt x="3125" y="12799"/>
                </a:cubicBezTo>
              </a:path>
              <a:path w="3870" h="2457">
                <a:moveTo>
                  <a:pt x="3795" y="11782"/>
                </a:moveTo>
                <a:cubicBezTo>
                  <a:pt x="3790" y="11922"/>
                  <a:pt x="3770" y="12044"/>
                  <a:pt x="3770" y="12179"/>
                </a:cubicBezTo>
                <a:cubicBezTo>
                  <a:pt x="3770" y="12221"/>
                  <a:pt x="3762" y="12237"/>
                  <a:pt x="3795" y="12229"/>
                </a:cubicBezTo>
              </a:path>
              <a:path w="3870" h="2457">
                <a:moveTo>
                  <a:pt x="3845" y="11336"/>
                </a:moveTo>
                <a:cubicBezTo>
                  <a:pt x="3938" y="11296"/>
                  <a:pt x="4040" y="11255"/>
                  <a:pt x="4142" y="11237"/>
                </a:cubicBezTo>
                <a:cubicBezTo>
                  <a:pt x="4201" y="11237"/>
                  <a:pt x="4227" y="11234"/>
                  <a:pt x="4266" y="11212"/>
                </a:cubicBezTo>
              </a:path>
              <a:path w="3870" h="2457">
                <a:moveTo>
                  <a:pt x="4390" y="10840"/>
                </a:moveTo>
                <a:cubicBezTo>
                  <a:pt x="4476" y="10797"/>
                  <a:pt x="4566" y="10755"/>
                  <a:pt x="4663" y="10815"/>
                </a:cubicBezTo>
                <a:cubicBezTo>
                  <a:pt x="4742" y="10864"/>
                  <a:pt x="4787" y="10915"/>
                  <a:pt x="4762" y="11013"/>
                </a:cubicBezTo>
                <a:cubicBezTo>
                  <a:pt x="4736" y="11117"/>
                  <a:pt x="4677" y="11124"/>
                  <a:pt x="4589" y="11162"/>
                </a:cubicBezTo>
                <a:cubicBezTo>
                  <a:pt x="4517" y="11193"/>
                  <a:pt x="4468" y="11227"/>
                  <a:pt x="4390" y="11237"/>
                </a:cubicBezTo>
                <a:cubicBezTo>
                  <a:pt x="4471" y="11237"/>
                  <a:pt x="4562" y="11237"/>
                  <a:pt x="4638" y="11261"/>
                </a:cubicBezTo>
                <a:cubicBezTo>
                  <a:pt x="4734" y="11291"/>
                  <a:pt x="4738" y="11388"/>
                  <a:pt x="4762" y="11460"/>
                </a:cubicBezTo>
                <a:cubicBezTo>
                  <a:pt x="4793" y="11552"/>
                  <a:pt x="4758" y="11592"/>
                  <a:pt x="4713" y="11658"/>
                </a:cubicBezTo>
                <a:cubicBezTo>
                  <a:pt x="4666" y="11727"/>
                  <a:pt x="4626" y="11752"/>
                  <a:pt x="4539" y="11757"/>
                </a:cubicBezTo>
                <a:cubicBezTo>
                  <a:pt x="4462" y="11761"/>
                  <a:pt x="4350" y="11725"/>
                  <a:pt x="4366" y="11633"/>
                </a:cubicBezTo>
                <a:cubicBezTo>
                  <a:pt x="4374" y="11608"/>
                  <a:pt x="4382" y="11584"/>
                  <a:pt x="4390" y="115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Ink 13"/>
          <p:cNvSpPr/>
          <p:nvPr/>
        </p:nvSpPr>
        <p:spPr>
          <a:xfrm>
            <a:off x="2536920" y="3803760"/>
            <a:ext cx="955440" cy="689040"/>
          </a:xfrm>
          <a:custGeom>
            <a:avLst/>
            <a:gdLst/>
            <a:ahLst/>
            <a:rect l="l" t="t" r="r" b="b"/>
            <a:pathLst>
              <a:path w="2655" h="1911">
                <a:moveTo>
                  <a:pt x="7714" y="10567"/>
                </a:moveTo>
                <a:cubicBezTo>
                  <a:pt x="7642" y="10626"/>
                  <a:pt x="7579" y="10678"/>
                  <a:pt x="7491" y="10716"/>
                </a:cubicBezTo>
                <a:cubicBezTo>
                  <a:pt x="7402" y="10754"/>
                  <a:pt x="7307" y="10777"/>
                  <a:pt x="7218" y="10815"/>
                </a:cubicBezTo>
                <a:cubicBezTo>
                  <a:pt x="7169" y="10836"/>
                  <a:pt x="7106" y="10859"/>
                  <a:pt x="7069" y="10889"/>
                </a:cubicBezTo>
                <a:cubicBezTo>
                  <a:pt x="6983" y="10959"/>
                  <a:pt x="7172" y="11024"/>
                  <a:pt x="7218" y="11038"/>
                </a:cubicBezTo>
                <a:cubicBezTo>
                  <a:pt x="7342" y="11077"/>
                  <a:pt x="7451" y="11128"/>
                  <a:pt x="7565" y="11187"/>
                </a:cubicBezTo>
                <a:cubicBezTo>
                  <a:pt x="7640" y="11226"/>
                  <a:pt x="7763" y="11287"/>
                  <a:pt x="7813" y="11361"/>
                </a:cubicBezTo>
                <a:cubicBezTo>
                  <a:pt x="7813" y="11369"/>
                  <a:pt x="7813" y="11377"/>
                  <a:pt x="7813" y="11385"/>
                </a:cubicBezTo>
              </a:path>
              <a:path w="2655" h="1911">
                <a:moveTo>
                  <a:pt x="8210" y="11633"/>
                </a:moveTo>
                <a:cubicBezTo>
                  <a:pt x="8332" y="11790"/>
                  <a:pt x="8456" y="11971"/>
                  <a:pt x="8607" y="12105"/>
                </a:cubicBezTo>
                <a:cubicBezTo>
                  <a:pt x="8709" y="12195"/>
                  <a:pt x="8841" y="12252"/>
                  <a:pt x="8954" y="12328"/>
                </a:cubicBezTo>
              </a:path>
              <a:path w="2655" h="1911">
                <a:moveTo>
                  <a:pt x="8706" y="11509"/>
                </a:moveTo>
                <a:cubicBezTo>
                  <a:pt x="8594" y="11621"/>
                  <a:pt x="8481" y="11733"/>
                  <a:pt x="8384" y="11857"/>
                </a:cubicBezTo>
                <a:cubicBezTo>
                  <a:pt x="8313" y="11948"/>
                  <a:pt x="8226" y="12034"/>
                  <a:pt x="8161" y="12129"/>
                </a:cubicBezTo>
                <a:cubicBezTo>
                  <a:pt x="8123" y="12184"/>
                  <a:pt x="8114" y="12185"/>
                  <a:pt x="8136" y="12229"/>
                </a:cubicBezTo>
              </a:path>
              <a:path w="2655" h="1911">
                <a:moveTo>
                  <a:pt x="9079" y="11509"/>
                </a:moveTo>
                <a:cubicBezTo>
                  <a:pt x="9160" y="11480"/>
                  <a:pt x="9182" y="11495"/>
                  <a:pt x="9252" y="11509"/>
                </a:cubicBezTo>
                <a:cubicBezTo>
                  <a:pt x="9319" y="11522"/>
                  <a:pt x="9415" y="11531"/>
                  <a:pt x="9475" y="11559"/>
                </a:cubicBezTo>
                <a:cubicBezTo>
                  <a:pt x="9526" y="11583"/>
                  <a:pt x="9548" y="11646"/>
                  <a:pt x="9500" y="11683"/>
                </a:cubicBezTo>
                <a:cubicBezTo>
                  <a:pt x="9458" y="11715"/>
                  <a:pt x="9370" y="11749"/>
                  <a:pt x="9327" y="11757"/>
                </a:cubicBezTo>
                <a:cubicBezTo>
                  <a:pt x="9289" y="11764"/>
                  <a:pt x="9242" y="11757"/>
                  <a:pt x="9203" y="11757"/>
                </a:cubicBezTo>
                <a:cubicBezTo>
                  <a:pt x="9267" y="11719"/>
                  <a:pt x="9327" y="11729"/>
                  <a:pt x="9401" y="11757"/>
                </a:cubicBezTo>
                <a:cubicBezTo>
                  <a:pt x="9472" y="11784"/>
                  <a:pt x="9523" y="11854"/>
                  <a:pt x="9575" y="11906"/>
                </a:cubicBezTo>
                <a:cubicBezTo>
                  <a:pt x="9640" y="11971"/>
                  <a:pt x="9685" y="12086"/>
                  <a:pt x="9699" y="12179"/>
                </a:cubicBezTo>
                <a:cubicBezTo>
                  <a:pt x="9709" y="12245"/>
                  <a:pt x="9703" y="12353"/>
                  <a:pt x="9649" y="12402"/>
                </a:cubicBezTo>
                <a:cubicBezTo>
                  <a:pt x="9585" y="12461"/>
                  <a:pt x="9502" y="12477"/>
                  <a:pt x="9426" y="12452"/>
                </a:cubicBezTo>
                <a:cubicBezTo>
                  <a:pt x="9345" y="12425"/>
                  <a:pt x="9316" y="12406"/>
                  <a:pt x="9252" y="12353"/>
                </a:cubicBezTo>
                <a:cubicBezTo>
                  <a:pt x="9201" y="12311"/>
                  <a:pt x="9170" y="12251"/>
                  <a:pt x="9103" y="12229"/>
                </a:cubicBezTo>
                <a:cubicBezTo>
                  <a:pt x="9095" y="12229"/>
                  <a:pt x="9087" y="12229"/>
                  <a:pt x="9079" y="122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nk 14"/>
          <p:cNvSpPr/>
          <p:nvPr/>
        </p:nvSpPr>
        <p:spPr>
          <a:xfrm>
            <a:off x="384120" y="3884760"/>
            <a:ext cx="2152800" cy="2724120"/>
          </a:xfrm>
          <a:custGeom>
            <a:avLst/>
            <a:gdLst/>
            <a:ahLst/>
            <a:rect l="l" t="t" r="r" b="b"/>
            <a:pathLst>
              <a:path w="5979" h="7566">
                <a:moveTo>
                  <a:pt x="4986" y="11162"/>
                </a:moveTo>
                <a:cubicBezTo>
                  <a:pt x="5006" y="11283"/>
                  <a:pt x="5011" y="11387"/>
                  <a:pt x="5011" y="11509"/>
                </a:cubicBezTo>
                <a:cubicBezTo>
                  <a:pt x="5011" y="11591"/>
                  <a:pt x="5035" y="11682"/>
                  <a:pt x="5060" y="11757"/>
                </a:cubicBezTo>
                <a:cubicBezTo>
                  <a:pt x="5068" y="11774"/>
                  <a:pt x="5077" y="11790"/>
                  <a:pt x="5085" y="11807"/>
                </a:cubicBezTo>
                <a:cubicBezTo>
                  <a:pt x="5085" y="11655"/>
                  <a:pt x="5073" y="11510"/>
                  <a:pt x="5060" y="11361"/>
                </a:cubicBezTo>
                <a:cubicBezTo>
                  <a:pt x="5051" y="11257"/>
                  <a:pt x="5080" y="11136"/>
                  <a:pt x="5110" y="11038"/>
                </a:cubicBezTo>
                <a:cubicBezTo>
                  <a:pt x="5158" y="10878"/>
                  <a:pt x="5273" y="10846"/>
                  <a:pt x="5407" y="10815"/>
                </a:cubicBezTo>
                <a:cubicBezTo>
                  <a:pt x="5477" y="10799"/>
                  <a:pt x="5511" y="10790"/>
                  <a:pt x="5581" y="10790"/>
                </a:cubicBezTo>
              </a:path>
              <a:path w="5979" h="7566">
                <a:moveTo>
                  <a:pt x="5482" y="11187"/>
                </a:moveTo>
                <a:cubicBezTo>
                  <a:pt x="5474" y="11204"/>
                  <a:pt x="5465" y="11220"/>
                  <a:pt x="5457" y="11237"/>
                </a:cubicBezTo>
                <a:cubicBezTo>
                  <a:pt x="5457" y="11161"/>
                  <a:pt x="5463" y="11079"/>
                  <a:pt x="5507" y="11013"/>
                </a:cubicBezTo>
                <a:cubicBezTo>
                  <a:pt x="5555" y="10941"/>
                  <a:pt x="5605" y="10919"/>
                  <a:pt x="5680" y="10964"/>
                </a:cubicBezTo>
                <a:cubicBezTo>
                  <a:pt x="5751" y="11007"/>
                  <a:pt x="5794" y="11136"/>
                  <a:pt x="5804" y="11212"/>
                </a:cubicBezTo>
                <a:cubicBezTo>
                  <a:pt x="5821" y="11333"/>
                  <a:pt x="5790" y="11391"/>
                  <a:pt x="5730" y="11485"/>
                </a:cubicBezTo>
                <a:cubicBezTo>
                  <a:pt x="5672" y="11577"/>
                  <a:pt x="5637" y="11639"/>
                  <a:pt x="5531" y="11683"/>
                </a:cubicBezTo>
                <a:cubicBezTo>
                  <a:pt x="5439" y="11722"/>
                  <a:pt x="5388" y="11712"/>
                  <a:pt x="5308" y="11658"/>
                </a:cubicBezTo>
                <a:cubicBezTo>
                  <a:pt x="5360" y="11586"/>
                  <a:pt x="5410" y="11564"/>
                  <a:pt x="5507" y="11584"/>
                </a:cubicBezTo>
                <a:cubicBezTo>
                  <a:pt x="5569" y="11597"/>
                  <a:pt x="5624" y="11630"/>
                  <a:pt x="5680" y="11658"/>
                </a:cubicBezTo>
              </a:path>
              <a:path w="5979" h="7566">
                <a:moveTo>
                  <a:pt x="6003" y="11981"/>
                </a:moveTo>
                <a:cubicBezTo>
                  <a:pt x="5809" y="11998"/>
                  <a:pt x="5626" y="12005"/>
                  <a:pt x="5432" y="12005"/>
                </a:cubicBezTo>
                <a:cubicBezTo>
                  <a:pt x="5224" y="12005"/>
                  <a:pt x="5019" y="12026"/>
                  <a:pt x="4812" y="12030"/>
                </a:cubicBezTo>
                <a:cubicBezTo>
                  <a:pt x="4680" y="12033"/>
                  <a:pt x="4544" y="12027"/>
                  <a:pt x="4415" y="12055"/>
                </a:cubicBezTo>
                <a:cubicBezTo>
                  <a:pt x="4314" y="12077"/>
                  <a:pt x="4307" y="12083"/>
                  <a:pt x="4366" y="12129"/>
                </a:cubicBezTo>
              </a:path>
              <a:path w="5979" h="7566">
                <a:moveTo>
                  <a:pt x="5135" y="12303"/>
                </a:moveTo>
                <a:cubicBezTo>
                  <a:pt x="5083" y="12324"/>
                  <a:pt x="5085" y="12318"/>
                  <a:pt x="5035" y="12278"/>
                </a:cubicBezTo>
                <a:cubicBezTo>
                  <a:pt x="5057" y="12242"/>
                  <a:pt x="5064" y="12150"/>
                  <a:pt x="5135" y="12154"/>
                </a:cubicBezTo>
                <a:cubicBezTo>
                  <a:pt x="5211" y="12159"/>
                  <a:pt x="5308" y="12188"/>
                  <a:pt x="5358" y="12254"/>
                </a:cubicBezTo>
                <a:cubicBezTo>
                  <a:pt x="5458" y="12386"/>
                  <a:pt x="5507" y="12509"/>
                  <a:pt x="5482" y="12675"/>
                </a:cubicBezTo>
                <a:cubicBezTo>
                  <a:pt x="5462" y="12805"/>
                  <a:pt x="5411" y="12892"/>
                  <a:pt x="5308" y="12973"/>
                </a:cubicBezTo>
                <a:cubicBezTo>
                  <a:pt x="5240" y="13027"/>
                  <a:pt x="5124" y="13086"/>
                  <a:pt x="5035" y="13072"/>
                </a:cubicBezTo>
                <a:cubicBezTo>
                  <a:pt x="4941" y="13057"/>
                  <a:pt x="4916" y="13008"/>
                  <a:pt x="4911" y="12923"/>
                </a:cubicBezTo>
                <a:cubicBezTo>
                  <a:pt x="4908" y="12868"/>
                  <a:pt x="4898" y="12750"/>
                  <a:pt x="4986" y="12750"/>
                </a:cubicBezTo>
                <a:cubicBezTo>
                  <a:pt x="5155" y="12749"/>
                  <a:pt x="5255" y="12918"/>
                  <a:pt x="5383" y="12998"/>
                </a:cubicBezTo>
                <a:cubicBezTo>
                  <a:pt x="5477" y="13057"/>
                  <a:pt x="5576" y="13089"/>
                  <a:pt x="5680" y="13122"/>
                </a:cubicBezTo>
              </a:path>
              <a:path w="5979" h="7566">
                <a:moveTo>
                  <a:pt x="6201" y="11112"/>
                </a:moveTo>
                <a:cubicBezTo>
                  <a:pt x="6352" y="11180"/>
                  <a:pt x="6465" y="11261"/>
                  <a:pt x="6598" y="11361"/>
                </a:cubicBezTo>
                <a:cubicBezTo>
                  <a:pt x="6715" y="11449"/>
                  <a:pt x="6835" y="11538"/>
                  <a:pt x="6945" y="11633"/>
                </a:cubicBezTo>
                <a:cubicBezTo>
                  <a:pt x="6980" y="11663"/>
                  <a:pt x="7012" y="11700"/>
                  <a:pt x="7045" y="11733"/>
                </a:cubicBezTo>
                <a:cubicBezTo>
                  <a:pt x="6983" y="11830"/>
                  <a:pt x="6895" y="11891"/>
                  <a:pt x="6821" y="11981"/>
                </a:cubicBezTo>
                <a:cubicBezTo>
                  <a:pt x="6672" y="12163"/>
                  <a:pt x="6502" y="12364"/>
                  <a:pt x="6400" y="12576"/>
                </a:cubicBezTo>
                <a:cubicBezTo>
                  <a:pt x="6276" y="12834"/>
                  <a:pt x="6190" y="13124"/>
                  <a:pt x="6102" y="13395"/>
                </a:cubicBezTo>
              </a:path>
              <a:path w="5979" h="7566">
                <a:moveTo>
                  <a:pt x="2307" y="13593"/>
                </a:moveTo>
                <a:cubicBezTo>
                  <a:pt x="2284" y="13724"/>
                  <a:pt x="2271" y="13853"/>
                  <a:pt x="2282" y="13990"/>
                </a:cubicBezTo>
                <a:cubicBezTo>
                  <a:pt x="2307" y="14291"/>
                  <a:pt x="2350" y="14582"/>
                  <a:pt x="2381" y="14883"/>
                </a:cubicBezTo>
                <a:cubicBezTo>
                  <a:pt x="2421" y="15266"/>
                  <a:pt x="2439" y="15664"/>
                  <a:pt x="2431" y="16049"/>
                </a:cubicBezTo>
                <a:cubicBezTo>
                  <a:pt x="2419" y="16589"/>
                  <a:pt x="2395" y="17128"/>
                  <a:pt x="2307" y="17661"/>
                </a:cubicBezTo>
                <a:cubicBezTo>
                  <a:pt x="2268" y="17896"/>
                  <a:pt x="2218" y="18125"/>
                  <a:pt x="2158" y="18355"/>
                </a:cubicBezTo>
              </a:path>
              <a:path w="5979" h="7566">
                <a:moveTo>
                  <a:pt x="1067" y="15776"/>
                </a:moveTo>
                <a:cubicBezTo>
                  <a:pt x="1178" y="15776"/>
                  <a:pt x="1281" y="15759"/>
                  <a:pt x="1389" y="15751"/>
                </a:cubicBezTo>
                <a:cubicBezTo>
                  <a:pt x="1695" y="15728"/>
                  <a:pt x="2003" y="15765"/>
                  <a:pt x="2307" y="15776"/>
                </a:cubicBezTo>
                <a:cubicBezTo>
                  <a:pt x="2615" y="15787"/>
                  <a:pt x="2917" y="15834"/>
                  <a:pt x="3225" y="15850"/>
                </a:cubicBezTo>
                <a:cubicBezTo>
                  <a:pt x="3514" y="15865"/>
                  <a:pt x="3804" y="15889"/>
                  <a:pt x="4093" y="15900"/>
                </a:cubicBezTo>
                <a:cubicBezTo>
                  <a:pt x="4393" y="15911"/>
                  <a:pt x="4687" y="15958"/>
                  <a:pt x="4986" y="15974"/>
                </a:cubicBezTo>
                <a:cubicBezTo>
                  <a:pt x="5218" y="15986"/>
                  <a:pt x="5449" y="16010"/>
                  <a:pt x="5680" y="16024"/>
                </a:cubicBezTo>
                <a:cubicBezTo>
                  <a:pt x="5822" y="16033"/>
                  <a:pt x="5961" y="16041"/>
                  <a:pt x="6102" y="16049"/>
                </a:cubicBezTo>
                <a:cubicBezTo>
                  <a:pt x="6168" y="16049"/>
                  <a:pt x="6185" y="16049"/>
                  <a:pt x="6226" y="16049"/>
                </a:cubicBezTo>
              </a:path>
              <a:path w="5979" h="7566">
                <a:moveTo>
                  <a:pt x="2902" y="15900"/>
                </a:moveTo>
                <a:cubicBezTo>
                  <a:pt x="2848" y="15993"/>
                  <a:pt x="2799" y="16082"/>
                  <a:pt x="2828" y="16197"/>
                </a:cubicBezTo>
                <a:cubicBezTo>
                  <a:pt x="2836" y="16214"/>
                  <a:pt x="2845" y="16230"/>
                  <a:pt x="2853" y="16247"/>
                </a:cubicBezTo>
              </a:path>
              <a:path w="5979" h="7566">
                <a:moveTo>
                  <a:pt x="3324" y="15825"/>
                </a:moveTo>
                <a:cubicBezTo>
                  <a:pt x="3324" y="15925"/>
                  <a:pt x="3313" y="15972"/>
                  <a:pt x="3373" y="16049"/>
                </a:cubicBezTo>
              </a:path>
              <a:path w="5979" h="7566">
                <a:moveTo>
                  <a:pt x="3671" y="15875"/>
                </a:moveTo>
                <a:cubicBezTo>
                  <a:pt x="3703" y="15939"/>
                  <a:pt x="3718" y="15997"/>
                  <a:pt x="3770" y="16024"/>
                </a:cubicBezTo>
              </a:path>
              <a:path w="5979" h="7566">
                <a:moveTo>
                  <a:pt x="4266" y="15900"/>
                </a:moveTo>
                <a:cubicBezTo>
                  <a:pt x="4368" y="15959"/>
                  <a:pt x="4396" y="15966"/>
                  <a:pt x="4514" y="15974"/>
                </a:cubicBezTo>
              </a:path>
              <a:path w="5979" h="7566">
                <a:moveTo>
                  <a:pt x="4986" y="15999"/>
                </a:moveTo>
                <a:cubicBezTo>
                  <a:pt x="5094" y="16025"/>
                  <a:pt x="5122" y="16046"/>
                  <a:pt x="5209" y="16024"/>
                </a:cubicBezTo>
              </a:path>
              <a:path w="5979" h="7566">
                <a:moveTo>
                  <a:pt x="5779" y="16049"/>
                </a:moveTo>
                <a:cubicBezTo>
                  <a:pt x="5875" y="16049"/>
                  <a:pt x="5914" y="16048"/>
                  <a:pt x="6003" y="16024"/>
                </a:cubicBezTo>
              </a:path>
              <a:path w="5979" h="7566">
                <a:moveTo>
                  <a:pt x="6176" y="16024"/>
                </a:moveTo>
                <a:cubicBezTo>
                  <a:pt x="6176" y="15982"/>
                  <a:pt x="6176" y="15974"/>
                  <a:pt x="6176" y="15949"/>
                </a:cubicBezTo>
              </a:path>
              <a:path w="5979" h="7566">
                <a:moveTo>
                  <a:pt x="6152" y="15925"/>
                </a:moveTo>
                <a:cubicBezTo>
                  <a:pt x="6189" y="15868"/>
                  <a:pt x="6218" y="15823"/>
                  <a:pt x="6226" y="15751"/>
                </a:cubicBezTo>
                <a:cubicBezTo>
                  <a:pt x="6242" y="15595"/>
                  <a:pt x="6266" y="15440"/>
                  <a:pt x="6276" y="15280"/>
                </a:cubicBezTo>
                <a:cubicBezTo>
                  <a:pt x="6285" y="15130"/>
                  <a:pt x="6313" y="14983"/>
                  <a:pt x="6325" y="14833"/>
                </a:cubicBezTo>
                <a:cubicBezTo>
                  <a:pt x="6337" y="14672"/>
                  <a:pt x="6358" y="14468"/>
                  <a:pt x="6350" y="14312"/>
                </a:cubicBezTo>
                <a:cubicBezTo>
                  <a:pt x="6344" y="14181"/>
                  <a:pt x="6343" y="14021"/>
                  <a:pt x="6325" y="13891"/>
                </a:cubicBezTo>
                <a:cubicBezTo>
                  <a:pt x="6310" y="13781"/>
                  <a:pt x="6280" y="13679"/>
                  <a:pt x="6276" y="13568"/>
                </a:cubicBezTo>
                <a:cubicBezTo>
                  <a:pt x="6273" y="13477"/>
                  <a:pt x="6278" y="13381"/>
                  <a:pt x="6251" y="13295"/>
                </a:cubicBezTo>
                <a:cubicBezTo>
                  <a:pt x="6241" y="13265"/>
                  <a:pt x="6195" y="12980"/>
                  <a:pt x="6176" y="12973"/>
                </a:cubicBezTo>
                <a:cubicBezTo>
                  <a:pt x="6160" y="12981"/>
                  <a:pt x="6143" y="12990"/>
                  <a:pt x="6127" y="12998"/>
                </a:cubicBezTo>
              </a:path>
              <a:path w="5979" h="7566">
                <a:moveTo>
                  <a:pt x="2480" y="15776"/>
                </a:moveTo>
                <a:cubicBezTo>
                  <a:pt x="2422" y="15799"/>
                  <a:pt x="2293" y="15868"/>
                  <a:pt x="2232" y="15875"/>
                </a:cubicBezTo>
                <a:cubicBezTo>
                  <a:pt x="2224" y="15867"/>
                  <a:pt x="2216" y="15858"/>
                  <a:pt x="2208" y="15850"/>
                </a:cubicBezTo>
                <a:cubicBezTo>
                  <a:pt x="2316" y="15789"/>
                  <a:pt x="2421" y="15708"/>
                  <a:pt x="2530" y="15652"/>
                </a:cubicBezTo>
                <a:cubicBezTo>
                  <a:pt x="2852" y="15487"/>
                  <a:pt x="3181" y="15335"/>
                  <a:pt x="3497" y="15156"/>
                </a:cubicBezTo>
                <a:cubicBezTo>
                  <a:pt x="3737" y="15020"/>
                  <a:pt x="3966" y="14867"/>
                  <a:pt x="4192" y="14709"/>
                </a:cubicBezTo>
                <a:cubicBezTo>
                  <a:pt x="4430" y="14542"/>
                  <a:pt x="4653" y="14359"/>
                  <a:pt x="4887" y="14188"/>
                </a:cubicBezTo>
                <a:cubicBezTo>
                  <a:pt x="5160" y="13988"/>
                  <a:pt x="5433" y="13799"/>
                  <a:pt x="5680" y="13568"/>
                </a:cubicBezTo>
                <a:cubicBezTo>
                  <a:pt x="5822" y="13435"/>
                  <a:pt x="5994" y="13312"/>
                  <a:pt x="6127" y="13171"/>
                </a:cubicBezTo>
                <a:cubicBezTo>
                  <a:pt x="6209" y="13084"/>
                  <a:pt x="6290" y="13008"/>
                  <a:pt x="6375" y="12923"/>
                </a:cubicBezTo>
                <a:cubicBezTo>
                  <a:pt x="6383" y="12915"/>
                  <a:pt x="6392" y="12906"/>
                  <a:pt x="6400" y="12898"/>
                </a:cubicBezTo>
                <a:cubicBezTo>
                  <a:pt x="6314" y="12927"/>
                  <a:pt x="6237" y="12961"/>
                  <a:pt x="6152" y="12998"/>
                </a:cubicBezTo>
                <a:cubicBezTo>
                  <a:pt x="6029" y="13052"/>
                  <a:pt x="5909" y="13088"/>
                  <a:pt x="5779" y="13122"/>
                </a:cubicBezTo>
                <a:cubicBezTo>
                  <a:pt x="5650" y="13156"/>
                  <a:pt x="5507" y="13163"/>
                  <a:pt x="5383" y="13196"/>
                </a:cubicBezTo>
                <a:cubicBezTo>
                  <a:pt x="5339" y="13208"/>
                  <a:pt x="5296" y="13235"/>
                  <a:pt x="5259" y="13246"/>
                </a:cubicBezTo>
                <a:cubicBezTo>
                  <a:pt x="5337" y="13207"/>
                  <a:pt x="5395" y="13177"/>
                  <a:pt x="5482" y="13146"/>
                </a:cubicBezTo>
                <a:cubicBezTo>
                  <a:pt x="5631" y="13094"/>
                  <a:pt x="5777" y="13052"/>
                  <a:pt x="5928" y="13022"/>
                </a:cubicBezTo>
                <a:cubicBezTo>
                  <a:pt x="5991" y="13009"/>
                  <a:pt x="6073" y="12966"/>
                  <a:pt x="6127" y="13022"/>
                </a:cubicBezTo>
                <a:cubicBezTo>
                  <a:pt x="6168" y="13064"/>
                  <a:pt x="6158" y="13162"/>
                  <a:pt x="6176" y="13221"/>
                </a:cubicBezTo>
                <a:cubicBezTo>
                  <a:pt x="6219" y="13362"/>
                  <a:pt x="6288" y="13508"/>
                  <a:pt x="6325" y="13643"/>
                </a:cubicBezTo>
                <a:cubicBezTo>
                  <a:pt x="6333" y="13692"/>
                  <a:pt x="6342" y="13742"/>
                  <a:pt x="6350" y="13791"/>
                </a:cubicBezTo>
              </a:path>
              <a:path w="5979" h="7566">
                <a:moveTo>
                  <a:pt x="4242" y="15776"/>
                </a:moveTo>
                <a:cubicBezTo>
                  <a:pt x="4265" y="15915"/>
                  <a:pt x="4265" y="15959"/>
                  <a:pt x="4242" y="16098"/>
                </a:cubicBezTo>
              </a:path>
              <a:path w="5979" h="7566">
                <a:moveTo>
                  <a:pt x="2629" y="16321"/>
                </a:moveTo>
                <a:cubicBezTo>
                  <a:pt x="2604" y="16321"/>
                  <a:pt x="2580" y="16321"/>
                  <a:pt x="2555" y="16321"/>
                </a:cubicBezTo>
              </a:path>
              <a:path w="5979" h="7566">
                <a:moveTo>
                  <a:pt x="2282" y="16148"/>
                </a:moveTo>
                <a:cubicBezTo>
                  <a:pt x="2378" y="16191"/>
                  <a:pt x="2477" y="16224"/>
                  <a:pt x="2580" y="16247"/>
                </a:cubicBezTo>
                <a:cubicBezTo>
                  <a:pt x="2621" y="16255"/>
                  <a:pt x="2663" y="16264"/>
                  <a:pt x="2704" y="16272"/>
                </a:cubicBezTo>
              </a:path>
              <a:path w="5979" h="7566">
                <a:moveTo>
                  <a:pt x="2505" y="16520"/>
                </a:moveTo>
                <a:cubicBezTo>
                  <a:pt x="2580" y="16545"/>
                  <a:pt x="2604" y="16553"/>
                  <a:pt x="2654" y="16570"/>
                </a:cubicBezTo>
              </a:path>
              <a:path w="5979" h="7566">
                <a:moveTo>
                  <a:pt x="2356" y="16768"/>
                </a:moveTo>
                <a:lnTo>
                  <a:pt x="2356" y="16768"/>
                </a:lnTo>
              </a:path>
              <a:path w="5979" h="7566">
                <a:moveTo>
                  <a:pt x="2332" y="17041"/>
                </a:moveTo>
                <a:cubicBezTo>
                  <a:pt x="2420" y="17109"/>
                  <a:pt x="2490" y="17136"/>
                  <a:pt x="2604" y="17140"/>
                </a:cubicBezTo>
                <a:cubicBezTo>
                  <a:pt x="2687" y="17140"/>
                  <a:pt x="2720" y="17140"/>
                  <a:pt x="2778" y="17140"/>
                </a:cubicBezTo>
              </a:path>
              <a:path w="5979" h="7566">
                <a:moveTo>
                  <a:pt x="2431" y="15999"/>
                </a:moveTo>
                <a:cubicBezTo>
                  <a:pt x="2412" y="15925"/>
                  <a:pt x="2404" y="15918"/>
                  <a:pt x="2406" y="15875"/>
                </a:cubicBezTo>
              </a:path>
              <a:path w="5979" h="7566">
                <a:moveTo>
                  <a:pt x="2406" y="15801"/>
                </a:moveTo>
                <a:cubicBezTo>
                  <a:pt x="2466" y="15818"/>
                  <a:pt x="2501" y="15851"/>
                  <a:pt x="2555" y="15900"/>
                </a:cubicBezTo>
                <a:cubicBezTo>
                  <a:pt x="2600" y="15941"/>
                  <a:pt x="2633" y="15982"/>
                  <a:pt x="2679" y="16024"/>
                </a:cubicBezTo>
                <a:cubicBezTo>
                  <a:pt x="2752" y="16091"/>
                  <a:pt x="2813" y="16151"/>
                  <a:pt x="2877" y="16222"/>
                </a:cubicBezTo>
                <a:cubicBezTo>
                  <a:pt x="2945" y="16297"/>
                  <a:pt x="3028" y="16382"/>
                  <a:pt x="3101" y="16446"/>
                </a:cubicBezTo>
                <a:cubicBezTo>
                  <a:pt x="3198" y="16531"/>
                  <a:pt x="3304" y="16603"/>
                  <a:pt x="3398" y="16694"/>
                </a:cubicBezTo>
                <a:cubicBezTo>
                  <a:pt x="3448" y="16743"/>
                  <a:pt x="3497" y="16793"/>
                  <a:pt x="3547" y="16842"/>
                </a:cubicBezTo>
              </a:path>
              <a:path w="5979" h="7566">
                <a:moveTo>
                  <a:pt x="3969" y="17214"/>
                </a:moveTo>
                <a:cubicBezTo>
                  <a:pt x="4001" y="17238"/>
                  <a:pt x="4171" y="17394"/>
                  <a:pt x="4242" y="17388"/>
                </a:cubicBezTo>
                <a:cubicBezTo>
                  <a:pt x="4250" y="17380"/>
                  <a:pt x="4258" y="17371"/>
                  <a:pt x="4266" y="17363"/>
                </a:cubicBezTo>
              </a:path>
              <a:path w="5979" h="7566">
                <a:moveTo>
                  <a:pt x="4167" y="16867"/>
                </a:moveTo>
                <a:cubicBezTo>
                  <a:pt x="4107" y="16807"/>
                  <a:pt x="4203" y="16938"/>
                  <a:pt x="4217" y="16966"/>
                </a:cubicBezTo>
                <a:cubicBezTo>
                  <a:pt x="4248" y="17028"/>
                  <a:pt x="4273" y="17111"/>
                  <a:pt x="4316" y="17165"/>
                </a:cubicBezTo>
                <a:cubicBezTo>
                  <a:pt x="4371" y="17235"/>
                  <a:pt x="4395" y="17289"/>
                  <a:pt x="4440" y="17363"/>
                </a:cubicBezTo>
                <a:cubicBezTo>
                  <a:pt x="4470" y="17393"/>
                  <a:pt x="4481" y="17407"/>
                  <a:pt x="4490" y="17438"/>
                </a:cubicBezTo>
                <a:cubicBezTo>
                  <a:pt x="4413" y="17409"/>
                  <a:pt x="4350" y="17413"/>
                  <a:pt x="4266" y="17413"/>
                </a:cubicBezTo>
                <a:cubicBezTo>
                  <a:pt x="4181" y="17413"/>
                  <a:pt x="4123" y="17449"/>
                  <a:pt x="4043" y="17462"/>
                </a:cubicBezTo>
                <a:cubicBezTo>
                  <a:pt x="3994" y="17462"/>
                  <a:pt x="3977" y="17462"/>
                  <a:pt x="3944" y="174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Ink 15"/>
          <p:cNvSpPr/>
          <p:nvPr/>
        </p:nvSpPr>
        <p:spPr>
          <a:xfrm>
            <a:off x="4464000" y="2340000"/>
            <a:ext cx="2162160" cy="106200"/>
          </a:xfrm>
          <a:custGeom>
            <a:avLst/>
            <a:gdLst/>
            <a:ahLst/>
            <a:rect l="l" t="t" r="r" b="b"/>
            <a:pathLst>
              <a:path w="6004" h="298">
                <a:moveTo>
                  <a:pt x="12402" y="6796"/>
                </a:moveTo>
                <a:cubicBezTo>
                  <a:pt x="12486" y="6725"/>
                  <a:pt x="12550" y="6696"/>
                  <a:pt x="12650" y="6648"/>
                </a:cubicBezTo>
                <a:cubicBezTo>
                  <a:pt x="12868" y="6542"/>
                  <a:pt x="13104" y="6504"/>
                  <a:pt x="13345" y="6499"/>
                </a:cubicBezTo>
                <a:cubicBezTo>
                  <a:pt x="13534" y="6495"/>
                  <a:pt x="13756" y="6489"/>
                  <a:pt x="13940" y="6524"/>
                </a:cubicBezTo>
                <a:cubicBezTo>
                  <a:pt x="14246" y="6582"/>
                  <a:pt x="14551" y="6665"/>
                  <a:pt x="14858" y="6722"/>
                </a:cubicBezTo>
                <a:cubicBezTo>
                  <a:pt x="15052" y="6758"/>
                  <a:pt x="15257" y="6768"/>
                  <a:pt x="15453" y="6772"/>
                </a:cubicBezTo>
                <a:cubicBezTo>
                  <a:pt x="15631" y="6775"/>
                  <a:pt x="15799" y="6759"/>
                  <a:pt x="15974" y="6747"/>
                </a:cubicBezTo>
                <a:cubicBezTo>
                  <a:pt x="16158" y="6735"/>
                  <a:pt x="16317" y="6695"/>
                  <a:pt x="16495" y="6648"/>
                </a:cubicBezTo>
                <a:cubicBezTo>
                  <a:pt x="16575" y="6627"/>
                  <a:pt x="16631" y="6625"/>
                  <a:pt x="16718" y="6623"/>
                </a:cubicBezTo>
                <a:cubicBezTo>
                  <a:pt x="16985" y="6618"/>
                  <a:pt x="17245" y="6644"/>
                  <a:pt x="17512" y="6648"/>
                </a:cubicBezTo>
                <a:cubicBezTo>
                  <a:pt x="17709" y="6651"/>
                  <a:pt x="17913" y="6662"/>
                  <a:pt x="18107" y="6697"/>
                </a:cubicBezTo>
                <a:cubicBezTo>
                  <a:pt x="18200" y="6714"/>
                  <a:pt x="18308" y="6744"/>
                  <a:pt x="18380" y="6722"/>
                </a:cubicBezTo>
                <a:cubicBezTo>
                  <a:pt x="18388" y="6705"/>
                  <a:pt x="18397" y="6689"/>
                  <a:pt x="18405" y="66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Ink 16"/>
          <p:cNvSpPr/>
          <p:nvPr/>
        </p:nvSpPr>
        <p:spPr>
          <a:xfrm>
            <a:off x="1589040" y="1500120"/>
            <a:ext cx="2260800" cy="1268640"/>
          </a:xfrm>
          <a:custGeom>
            <a:avLst/>
            <a:gdLst/>
            <a:ahLst/>
            <a:rect l="l" t="t" r="r" b="b"/>
            <a:pathLst>
              <a:path w="6277" h="3523">
                <a:moveTo>
                  <a:pt x="10344" y="4862"/>
                </a:moveTo>
                <a:cubicBezTo>
                  <a:pt x="9942" y="4664"/>
                  <a:pt x="9551" y="4467"/>
                  <a:pt x="9103" y="4390"/>
                </a:cubicBezTo>
                <a:cubicBezTo>
                  <a:pt x="8718" y="4324"/>
                  <a:pt x="8325" y="4338"/>
                  <a:pt x="7938" y="4366"/>
                </a:cubicBezTo>
                <a:cubicBezTo>
                  <a:pt x="7513" y="4397"/>
                  <a:pt x="7143" y="4517"/>
                  <a:pt x="6747" y="4663"/>
                </a:cubicBezTo>
                <a:cubicBezTo>
                  <a:pt x="6390" y="4794"/>
                  <a:pt x="6089" y="4964"/>
                  <a:pt x="5779" y="5184"/>
                </a:cubicBezTo>
                <a:cubicBezTo>
                  <a:pt x="5514" y="5372"/>
                  <a:pt x="5312" y="5579"/>
                  <a:pt x="5110" y="5829"/>
                </a:cubicBezTo>
                <a:cubicBezTo>
                  <a:pt x="4940" y="6040"/>
                  <a:pt x="4782" y="6291"/>
                  <a:pt x="4762" y="6573"/>
                </a:cubicBezTo>
                <a:cubicBezTo>
                  <a:pt x="4743" y="6838"/>
                  <a:pt x="4901" y="7009"/>
                  <a:pt x="5110" y="7144"/>
                </a:cubicBezTo>
                <a:cubicBezTo>
                  <a:pt x="5310" y="7273"/>
                  <a:pt x="5497" y="7288"/>
                  <a:pt x="5730" y="7317"/>
                </a:cubicBezTo>
                <a:cubicBezTo>
                  <a:pt x="6197" y="7376"/>
                  <a:pt x="6649" y="7392"/>
                  <a:pt x="7119" y="7392"/>
                </a:cubicBezTo>
                <a:cubicBezTo>
                  <a:pt x="7544" y="7392"/>
                  <a:pt x="7967" y="7347"/>
                  <a:pt x="8384" y="7268"/>
                </a:cubicBezTo>
                <a:cubicBezTo>
                  <a:pt x="8754" y="7198"/>
                  <a:pt x="9147" y="7083"/>
                  <a:pt x="9475" y="6896"/>
                </a:cubicBezTo>
                <a:cubicBezTo>
                  <a:pt x="9755" y="6736"/>
                  <a:pt x="10049" y="6560"/>
                  <a:pt x="10294" y="6350"/>
                </a:cubicBezTo>
                <a:cubicBezTo>
                  <a:pt x="10504" y="6170"/>
                  <a:pt x="10688" y="5893"/>
                  <a:pt x="10691" y="5606"/>
                </a:cubicBezTo>
                <a:cubicBezTo>
                  <a:pt x="10695" y="5228"/>
                  <a:pt x="10394" y="4922"/>
                  <a:pt x="10120" y="4713"/>
                </a:cubicBezTo>
                <a:cubicBezTo>
                  <a:pt x="9618" y="4329"/>
                  <a:pt x="8980" y="4180"/>
                  <a:pt x="8359" y="4167"/>
                </a:cubicBezTo>
                <a:cubicBezTo>
                  <a:pt x="7987" y="4159"/>
                  <a:pt x="7654" y="4217"/>
                  <a:pt x="7293" y="4291"/>
                </a:cubicBezTo>
                <a:cubicBezTo>
                  <a:pt x="6942" y="4363"/>
                  <a:pt x="6587" y="4476"/>
                  <a:pt x="6276" y="4663"/>
                </a:cubicBezTo>
                <a:cubicBezTo>
                  <a:pt x="5903" y="4887"/>
                  <a:pt x="5459" y="5153"/>
                  <a:pt x="5159" y="5482"/>
                </a:cubicBezTo>
                <a:cubicBezTo>
                  <a:pt x="4974" y="5685"/>
                  <a:pt x="4741" y="5955"/>
                  <a:pt x="4614" y="6201"/>
                </a:cubicBezTo>
                <a:cubicBezTo>
                  <a:pt x="4525" y="6374"/>
                  <a:pt x="4439" y="6626"/>
                  <a:pt x="4415" y="6821"/>
                </a:cubicBezTo>
                <a:cubicBezTo>
                  <a:pt x="4383" y="7076"/>
                  <a:pt x="4434" y="7137"/>
                  <a:pt x="4564" y="7317"/>
                </a:cubicBezTo>
                <a:cubicBezTo>
                  <a:pt x="4666" y="7459"/>
                  <a:pt x="4831" y="7574"/>
                  <a:pt x="4961" y="76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Ink 17"/>
          <p:cNvSpPr/>
          <p:nvPr/>
        </p:nvSpPr>
        <p:spPr>
          <a:xfrm>
            <a:off x="2660760" y="3875040"/>
            <a:ext cx="3564000" cy="1098720"/>
          </a:xfrm>
          <a:custGeom>
            <a:avLst/>
            <a:gdLst/>
            <a:ahLst/>
            <a:rect l="l" t="t" r="r" b="b"/>
            <a:pathLst>
              <a:path w="9898" h="3052">
                <a:moveTo>
                  <a:pt x="17264" y="13791"/>
                </a:moveTo>
                <a:cubicBezTo>
                  <a:pt x="17214" y="13760"/>
                  <a:pt x="17209" y="13806"/>
                  <a:pt x="17165" y="13767"/>
                </a:cubicBezTo>
                <a:cubicBezTo>
                  <a:pt x="17035" y="13651"/>
                  <a:pt x="16943" y="13515"/>
                  <a:pt x="16818" y="13395"/>
                </a:cubicBezTo>
                <a:cubicBezTo>
                  <a:pt x="16733" y="13313"/>
                  <a:pt x="16631" y="13251"/>
                  <a:pt x="16545" y="13171"/>
                </a:cubicBezTo>
                <a:cubicBezTo>
                  <a:pt x="16439" y="13073"/>
                  <a:pt x="16337" y="12968"/>
                  <a:pt x="16222" y="12874"/>
                </a:cubicBezTo>
                <a:cubicBezTo>
                  <a:pt x="16081" y="12758"/>
                  <a:pt x="15928" y="12631"/>
                  <a:pt x="15776" y="12526"/>
                </a:cubicBezTo>
                <a:cubicBezTo>
                  <a:pt x="15595" y="12401"/>
                  <a:pt x="15393" y="12296"/>
                  <a:pt x="15205" y="12179"/>
                </a:cubicBezTo>
                <a:cubicBezTo>
                  <a:pt x="14927" y="12007"/>
                  <a:pt x="14660" y="11843"/>
                  <a:pt x="14362" y="11708"/>
                </a:cubicBezTo>
                <a:cubicBezTo>
                  <a:pt x="13852" y="11477"/>
                  <a:pt x="13271" y="11266"/>
                  <a:pt x="12725" y="11137"/>
                </a:cubicBezTo>
                <a:cubicBezTo>
                  <a:pt x="12441" y="11070"/>
                  <a:pt x="12146" y="11024"/>
                  <a:pt x="11857" y="10988"/>
                </a:cubicBezTo>
                <a:cubicBezTo>
                  <a:pt x="11266" y="10915"/>
                  <a:pt x="10691" y="10889"/>
                  <a:pt x="10096" y="10889"/>
                </a:cubicBezTo>
                <a:cubicBezTo>
                  <a:pt x="9822" y="10889"/>
                  <a:pt x="9550" y="10899"/>
                  <a:pt x="9277" y="10914"/>
                </a:cubicBezTo>
                <a:cubicBezTo>
                  <a:pt x="9046" y="10927"/>
                  <a:pt x="8813" y="10948"/>
                  <a:pt x="8582" y="10964"/>
                </a:cubicBezTo>
                <a:cubicBezTo>
                  <a:pt x="8352" y="10980"/>
                  <a:pt x="7697" y="11109"/>
                  <a:pt x="7491" y="10964"/>
                </a:cubicBezTo>
                <a:cubicBezTo>
                  <a:pt x="7367" y="10877"/>
                  <a:pt x="7438" y="10956"/>
                  <a:pt x="7392" y="10840"/>
                </a:cubicBezTo>
                <a:cubicBezTo>
                  <a:pt x="7387" y="10827"/>
                  <a:pt x="7467" y="10780"/>
                  <a:pt x="7466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he direction angle is calculated by </a:t>
            </a:r>
            <a:r>
              <a:rPr b="0" lang="en-US" sz="5500" spc="-1" strike="noStrike">
                <a:solidFill>
                  <a:srgbClr val="dfd293"/>
                </a:solidFill>
                <a:latin typeface="Arial"/>
              </a:rPr>
              <a:t>Tan </a:t>
            </a:r>
            <a:r>
              <a:rPr b="0" lang="el-GR" sz="5500" spc="-1" strike="noStrike">
                <a:solidFill>
                  <a:srgbClr val="dfd293"/>
                </a:solidFill>
                <a:latin typeface="Arial"/>
                <a:ea typeface="Arial"/>
              </a:rPr>
              <a:t>Θ</a:t>
            </a:r>
            <a:r>
              <a:rPr b="0" lang="en-US" sz="5500" spc="-1" strike="noStrike">
                <a:solidFill>
                  <a:srgbClr val="dfd293"/>
                </a:solidFill>
                <a:latin typeface="Arial"/>
                <a:ea typeface="Arial"/>
              </a:rPr>
              <a:t> =y/x </a:t>
            </a:r>
            <a:endParaRPr b="0" lang="en-US" sz="55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Find the direction angle for            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= 3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+ 3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0" name="Ink 5"/>
          <p:cNvSpPr/>
          <p:nvPr/>
        </p:nvSpPr>
        <p:spPr>
          <a:xfrm>
            <a:off x="3732120" y="1847880"/>
            <a:ext cx="1679760" cy="662040"/>
          </a:xfrm>
          <a:custGeom>
            <a:avLst/>
            <a:gdLst/>
            <a:ahLst/>
            <a:rect l="l" t="t" r="r" b="b"/>
            <a:pathLst>
              <a:path w="4665" h="1836">
                <a:moveTo>
                  <a:pt x="11509" y="5135"/>
                </a:moveTo>
                <a:cubicBezTo>
                  <a:pt x="11446" y="5230"/>
                  <a:pt x="11378" y="5316"/>
                  <a:pt x="11311" y="5407"/>
                </a:cubicBezTo>
                <a:cubicBezTo>
                  <a:pt x="11218" y="5533"/>
                  <a:pt x="11098" y="5641"/>
                  <a:pt x="10988" y="5755"/>
                </a:cubicBezTo>
                <a:cubicBezTo>
                  <a:pt x="10883" y="5864"/>
                  <a:pt x="10767" y="5949"/>
                  <a:pt x="10641" y="6028"/>
                </a:cubicBezTo>
                <a:cubicBezTo>
                  <a:pt x="10564" y="6077"/>
                  <a:pt x="10487" y="6144"/>
                  <a:pt x="10418" y="6201"/>
                </a:cubicBezTo>
                <a:cubicBezTo>
                  <a:pt x="10393" y="6226"/>
                  <a:pt x="10385" y="6234"/>
                  <a:pt x="10368" y="6251"/>
                </a:cubicBezTo>
                <a:cubicBezTo>
                  <a:pt x="10419" y="6265"/>
                  <a:pt x="10487" y="6276"/>
                  <a:pt x="10542" y="6300"/>
                </a:cubicBezTo>
                <a:cubicBezTo>
                  <a:pt x="10666" y="6355"/>
                  <a:pt x="10775" y="6398"/>
                  <a:pt x="10889" y="6474"/>
                </a:cubicBezTo>
                <a:cubicBezTo>
                  <a:pt x="10980" y="6535"/>
                  <a:pt x="11068" y="6590"/>
                  <a:pt x="11162" y="6648"/>
                </a:cubicBezTo>
                <a:cubicBezTo>
                  <a:pt x="11221" y="6684"/>
                  <a:pt x="11247" y="6731"/>
                  <a:pt x="11311" y="6747"/>
                </a:cubicBezTo>
                <a:cubicBezTo>
                  <a:pt x="11336" y="6772"/>
                  <a:pt x="11344" y="6780"/>
                  <a:pt x="11361" y="6747"/>
                </a:cubicBezTo>
              </a:path>
              <a:path w="4665" h="1836">
                <a:moveTo>
                  <a:pt x="11633" y="5705"/>
                </a:moveTo>
                <a:cubicBezTo>
                  <a:pt x="11723" y="5622"/>
                  <a:pt x="11775" y="5583"/>
                  <a:pt x="11881" y="5531"/>
                </a:cubicBezTo>
                <a:cubicBezTo>
                  <a:pt x="11973" y="5486"/>
                  <a:pt x="12041" y="5514"/>
                  <a:pt x="12129" y="5556"/>
                </a:cubicBezTo>
                <a:cubicBezTo>
                  <a:pt x="12263" y="5620"/>
                  <a:pt x="12200" y="5757"/>
                  <a:pt x="12129" y="5854"/>
                </a:cubicBezTo>
                <a:cubicBezTo>
                  <a:pt x="12072" y="5931"/>
                  <a:pt x="11964" y="5938"/>
                  <a:pt x="11881" y="5978"/>
                </a:cubicBezTo>
                <a:cubicBezTo>
                  <a:pt x="11827" y="6004"/>
                  <a:pt x="11781" y="6003"/>
                  <a:pt x="11733" y="6028"/>
                </a:cubicBezTo>
                <a:cubicBezTo>
                  <a:pt x="11782" y="5998"/>
                  <a:pt x="11843" y="5982"/>
                  <a:pt x="11906" y="5978"/>
                </a:cubicBezTo>
                <a:cubicBezTo>
                  <a:pt x="11983" y="5974"/>
                  <a:pt x="12064" y="5980"/>
                  <a:pt x="12129" y="6028"/>
                </a:cubicBezTo>
                <a:cubicBezTo>
                  <a:pt x="12185" y="6069"/>
                  <a:pt x="12284" y="6157"/>
                  <a:pt x="12303" y="6226"/>
                </a:cubicBezTo>
                <a:cubicBezTo>
                  <a:pt x="12326" y="6311"/>
                  <a:pt x="12283" y="6367"/>
                  <a:pt x="12229" y="6424"/>
                </a:cubicBezTo>
                <a:cubicBezTo>
                  <a:pt x="12157" y="6501"/>
                  <a:pt x="12054" y="6516"/>
                  <a:pt x="11956" y="6548"/>
                </a:cubicBezTo>
                <a:cubicBezTo>
                  <a:pt x="11906" y="6564"/>
                  <a:pt x="11757" y="6606"/>
                  <a:pt x="11708" y="6598"/>
                </a:cubicBezTo>
                <a:cubicBezTo>
                  <a:pt x="11683" y="6573"/>
                  <a:pt x="11675" y="6565"/>
                  <a:pt x="11658" y="6548"/>
                </a:cubicBezTo>
              </a:path>
              <a:path w="4665" h="1836">
                <a:moveTo>
                  <a:pt x="12551" y="6623"/>
                </a:moveTo>
                <a:cubicBezTo>
                  <a:pt x="12534" y="6701"/>
                  <a:pt x="12456" y="6863"/>
                  <a:pt x="12477" y="6945"/>
                </a:cubicBezTo>
                <a:cubicBezTo>
                  <a:pt x="12485" y="6953"/>
                  <a:pt x="12494" y="6962"/>
                  <a:pt x="12502" y="6970"/>
                </a:cubicBezTo>
              </a:path>
              <a:path w="4665" h="1836">
                <a:moveTo>
                  <a:pt x="12998" y="5606"/>
                </a:moveTo>
                <a:cubicBezTo>
                  <a:pt x="13077" y="5520"/>
                  <a:pt x="13145" y="5451"/>
                  <a:pt x="13271" y="5432"/>
                </a:cubicBezTo>
                <a:cubicBezTo>
                  <a:pt x="13351" y="5420"/>
                  <a:pt x="13427" y="5436"/>
                  <a:pt x="13494" y="5482"/>
                </a:cubicBezTo>
                <a:cubicBezTo>
                  <a:pt x="13578" y="5540"/>
                  <a:pt x="13499" y="5675"/>
                  <a:pt x="13469" y="5730"/>
                </a:cubicBezTo>
                <a:cubicBezTo>
                  <a:pt x="13432" y="5797"/>
                  <a:pt x="13363" y="5841"/>
                  <a:pt x="13295" y="5879"/>
                </a:cubicBezTo>
                <a:cubicBezTo>
                  <a:pt x="13237" y="5911"/>
                  <a:pt x="13172" y="5928"/>
                  <a:pt x="13122" y="5953"/>
                </a:cubicBezTo>
                <a:cubicBezTo>
                  <a:pt x="13114" y="5961"/>
                  <a:pt x="13105" y="5970"/>
                  <a:pt x="13097" y="5978"/>
                </a:cubicBezTo>
                <a:cubicBezTo>
                  <a:pt x="13192" y="5978"/>
                  <a:pt x="13283" y="5966"/>
                  <a:pt x="13370" y="6003"/>
                </a:cubicBezTo>
                <a:cubicBezTo>
                  <a:pt x="13475" y="6048"/>
                  <a:pt x="13557" y="6158"/>
                  <a:pt x="13618" y="6251"/>
                </a:cubicBezTo>
                <a:cubicBezTo>
                  <a:pt x="13663" y="6320"/>
                  <a:pt x="13688" y="6401"/>
                  <a:pt x="13643" y="6474"/>
                </a:cubicBezTo>
                <a:cubicBezTo>
                  <a:pt x="13607" y="6534"/>
                  <a:pt x="13565" y="6564"/>
                  <a:pt x="13494" y="6573"/>
                </a:cubicBezTo>
                <a:cubicBezTo>
                  <a:pt x="13393" y="6586"/>
                  <a:pt x="13338" y="6543"/>
                  <a:pt x="13246" y="6524"/>
                </a:cubicBezTo>
                <a:cubicBezTo>
                  <a:pt x="13194" y="6524"/>
                  <a:pt x="13176" y="6522"/>
                  <a:pt x="13171" y="6474"/>
                </a:cubicBezTo>
              </a:path>
              <a:path w="4665" h="1836">
                <a:moveTo>
                  <a:pt x="13791" y="5234"/>
                </a:moveTo>
                <a:cubicBezTo>
                  <a:pt x="13902" y="5244"/>
                  <a:pt x="13965" y="5280"/>
                  <a:pt x="14064" y="5333"/>
                </a:cubicBezTo>
                <a:cubicBezTo>
                  <a:pt x="14192" y="5401"/>
                  <a:pt x="14337" y="5430"/>
                  <a:pt x="14461" y="5507"/>
                </a:cubicBezTo>
                <a:cubicBezTo>
                  <a:pt x="14586" y="5585"/>
                  <a:pt x="14705" y="5638"/>
                  <a:pt x="14833" y="5705"/>
                </a:cubicBezTo>
                <a:cubicBezTo>
                  <a:pt x="14904" y="5742"/>
                  <a:pt x="14958" y="5792"/>
                  <a:pt x="15032" y="5829"/>
                </a:cubicBezTo>
                <a:cubicBezTo>
                  <a:pt x="14991" y="5865"/>
                  <a:pt x="14948" y="5894"/>
                  <a:pt x="14908" y="5928"/>
                </a:cubicBezTo>
                <a:cubicBezTo>
                  <a:pt x="14825" y="5997"/>
                  <a:pt x="14755" y="6075"/>
                  <a:pt x="14684" y="6152"/>
                </a:cubicBezTo>
                <a:cubicBezTo>
                  <a:pt x="14513" y="6337"/>
                  <a:pt x="14320" y="6499"/>
                  <a:pt x="14163" y="66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Ink 6"/>
          <p:cNvSpPr/>
          <p:nvPr/>
        </p:nvSpPr>
        <p:spPr>
          <a:xfrm>
            <a:off x="3652920" y="2724120"/>
            <a:ext cx="2286000" cy="955800"/>
          </a:xfrm>
          <a:custGeom>
            <a:avLst/>
            <a:gdLst/>
            <a:ahLst/>
            <a:rect l="l" t="t" r="r" b="b"/>
            <a:pathLst>
              <a:path w="6351" h="2656">
                <a:moveTo>
                  <a:pt x="10666" y="7615"/>
                </a:moveTo>
                <a:cubicBezTo>
                  <a:pt x="10642" y="7759"/>
                  <a:pt x="10641" y="7890"/>
                  <a:pt x="10641" y="8037"/>
                </a:cubicBezTo>
                <a:cubicBezTo>
                  <a:pt x="10641" y="8189"/>
                  <a:pt x="10616" y="8329"/>
                  <a:pt x="10616" y="8483"/>
                </a:cubicBezTo>
                <a:cubicBezTo>
                  <a:pt x="10616" y="8645"/>
                  <a:pt x="10612" y="8797"/>
                  <a:pt x="10592" y="8954"/>
                </a:cubicBezTo>
                <a:cubicBezTo>
                  <a:pt x="10585" y="9013"/>
                  <a:pt x="10598" y="9048"/>
                  <a:pt x="10567" y="9079"/>
                </a:cubicBezTo>
              </a:path>
              <a:path w="6351" h="2656">
                <a:moveTo>
                  <a:pt x="10145" y="8260"/>
                </a:moveTo>
                <a:cubicBezTo>
                  <a:pt x="10265" y="8260"/>
                  <a:pt x="10375" y="8275"/>
                  <a:pt x="10492" y="8285"/>
                </a:cubicBezTo>
                <a:cubicBezTo>
                  <a:pt x="10597" y="8294"/>
                  <a:pt x="10709" y="8285"/>
                  <a:pt x="10815" y="8285"/>
                </a:cubicBezTo>
              </a:path>
              <a:path w="6351" h="2656">
                <a:moveTo>
                  <a:pt x="11361" y="8434"/>
                </a:moveTo>
                <a:cubicBezTo>
                  <a:pt x="11361" y="8528"/>
                  <a:pt x="11382" y="8549"/>
                  <a:pt x="11336" y="8582"/>
                </a:cubicBezTo>
                <a:cubicBezTo>
                  <a:pt x="11311" y="8533"/>
                  <a:pt x="11323" y="8444"/>
                  <a:pt x="11261" y="8409"/>
                </a:cubicBezTo>
                <a:cubicBezTo>
                  <a:pt x="11219" y="8385"/>
                  <a:pt x="11208" y="8317"/>
                  <a:pt x="11137" y="8334"/>
                </a:cubicBezTo>
                <a:cubicBezTo>
                  <a:pt x="11078" y="8348"/>
                  <a:pt x="11000" y="8436"/>
                  <a:pt x="10964" y="8483"/>
                </a:cubicBezTo>
                <a:cubicBezTo>
                  <a:pt x="10912" y="8551"/>
                  <a:pt x="10869" y="8645"/>
                  <a:pt x="10864" y="8731"/>
                </a:cubicBezTo>
                <a:cubicBezTo>
                  <a:pt x="10860" y="8795"/>
                  <a:pt x="10856" y="8885"/>
                  <a:pt x="10914" y="8930"/>
                </a:cubicBezTo>
                <a:cubicBezTo>
                  <a:pt x="10998" y="8996"/>
                  <a:pt x="11107" y="8891"/>
                  <a:pt x="11137" y="8855"/>
                </a:cubicBezTo>
                <a:cubicBezTo>
                  <a:pt x="11194" y="8788"/>
                  <a:pt x="11236" y="8747"/>
                  <a:pt x="11261" y="8657"/>
                </a:cubicBezTo>
                <a:cubicBezTo>
                  <a:pt x="11274" y="8609"/>
                  <a:pt x="11261" y="8533"/>
                  <a:pt x="11261" y="8483"/>
                </a:cubicBezTo>
                <a:cubicBezTo>
                  <a:pt x="11232" y="8587"/>
                  <a:pt x="11201" y="8675"/>
                  <a:pt x="11237" y="8781"/>
                </a:cubicBezTo>
                <a:cubicBezTo>
                  <a:pt x="11263" y="8858"/>
                  <a:pt x="11334" y="8899"/>
                  <a:pt x="11385" y="8930"/>
                </a:cubicBezTo>
                <a:cubicBezTo>
                  <a:pt x="11441" y="8964"/>
                  <a:pt x="11479" y="8962"/>
                  <a:pt x="11534" y="8930"/>
                </a:cubicBezTo>
              </a:path>
              <a:path w="6351" h="2656">
                <a:moveTo>
                  <a:pt x="11559" y="8558"/>
                </a:moveTo>
                <a:cubicBezTo>
                  <a:pt x="11559" y="8695"/>
                  <a:pt x="11559" y="8801"/>
                  <a:pt x="11584" y="8930"/>
                </a:cubicBezTo>
                <a:cubicBezTo>
                  <a:pt x="11584" y="8965"/>
                  <a:pt x="11589" y="8982"/>
                  <a:pt x="11609" y="9004"/>
                </a:cubicBezTo>
                <a:cubicBezTo>
                  <a:pt x="11617" y="8911"/>
                  <a:pt x="11633" y="8826"/>
                  <a:pt x="11633" y="8731"/>
                </a:cubicBezTo>
                <a:cubicBezTo>
                  <a:pt x="11633" y="8642"/>
                  <a:pt x="11648" y="8568"/>
                  <a:pt x="11658" y="8483"/>
                </a:cubicBezTo>
                <a:cubicBezTo>
                  <a:pt x="11658" y="8415"/>
                  <a:pt x="11655" y="8396"/>
                  <a:pt x="11683" y="8359"/>
                </a:cubicBezTo>
                <a:cubicBezTo>
                  <a:pt x="11751" y="8336"/>
                  <a:pt x="11808" y="8373"/>
                  <a:pt x="11857" y="8434"/>
                </a:cubicBezTo>
                <a:cubicBezTo>
                  <a:pt x="11919" y="8512"/>
                  <a:pt x="11950" y="8612"/>
                  <a:pt x="11981" y="8706"/>
                </a:cubicBezTo>
                <a:cubicBezTo>
                  <a:pt x="12007" y="8786"/>
                  <a:pt x="12026" y="8878"/>
                  <a:pt x="12055" y="8954"/>
                </a:cubicBezTo>
                <a:cubicBezTo>
                  <a:pt x="12075" y="8995"/>
                  <a:pt x="12073" y="9011"/>
                  <a:pt x="12105" y="9004"/>
                </a:cubicBezTo>
              </a:path>
              <a:path w="6351" h="2656">
                <a:moveTo>
                  <a:pt x="12030" y="8161"/>
                </a:moveTo>
                <a:cubicBezTo>
                  <a:pt x="12114" y="8133"/>
                  <a:pt x="12187" y="8136"/>
                  <a:pt x="12278" y="8136"/>
                </a:cubicBezTo>
                <a:cubicBezTo>
                  <a:pt x="12337" y="8136"/>
                  <a:pt x="12363" y="8133"/>
                  <a:pt x="12402" y="8111"/>
                </a:cubicBezTo>
              </a:path>
              <a:path w="6351" h="2656">
                <a:moveTo>
                  <a:pt x="12601" y="7665"/>
                </a:moveTo>
                <a:cubicBezTo>
                  <a:pt x="12574" y="7788"/>
                  <a:pt x="12584" y="7820"/>
                  <a:pt x="12601" y="7938"/>
                </a:cubicBezTo>
                <a:cubicBezTo>
                  <a:pt x="12610" y="8001"/>
                  <a:pt x="12604" y="8103"/>
                  <a:pt x="12626" y="8161"/>
                </a:cubicBezTo>
                <a:cubicBezTo>
                  <a:pt x="12640" y="8198"/>
                  <a:pt x="12650" y="8214"/>
                  <a:pt x="12650" y="8260"/>
                </a:cubicBezTo>
              </a:path>
              <a:path w="6351" h="2656">
                <a:moveTo>
                  <a:pt x="13519" y="7565"/>
                </a:moveTo>
                <a:cubicBezTo>
                  <a:pt x="13475" y="7642"/>
                  <a:pt x="13420" y="7714"/>
                  <a:pt x="13370" y="7789"/>
                </a:cubicBezTo>
                <a:cubicBezTo>
                  <a:pt x="13276" y="7930"/>
                  <a:pt x="13215" y="8055"/>
                  <a:pt x="13146" y="8210"/>
                </a:cubicBezTo>
                <a:cubicBezTo>
                  <a:pt x="13083" y="8351"/>
                  <a:pt x="13032" y="8498"/>
                  <a:pt x="13047" y="8657"/>
                </a:cubicBezTo>
                <a:cubicBezTo>
                  <a:pt x="13062" y="8820"/>
                  <a:pt x="13112" y="8969"/>
                  <a:pt x="13196" y="9103"/>
                </a:cubicBezTo>
                <a:cubicBezTo>
                  <a:pt x="13276" y="9231"/>
                  <a:pt x="13306" y="9288"/>
                  <a:pt x="13419" y="9376"/>
                </a:cubicBezTo>
              </a:path>
              <a:path w="6351" h="2656">
                <a:moveTo>
                  <a:pt x="13618" y="8483"/>
                </a:moveTo>
                <a:cubicBezTo>
                  <a:pt x="13628" y="8600"/>
                  <a:pt x="13653" y="8680"/>
                  <a:pt x="13717" y="8781"/>
                </a:cubicBezTo>
                <a:cubicBezTo>
                  <a:pt x="13786" y="8890"/>
                  <a:pt x="13864" y="8966"/>
                  <a:pt x="13965" y="9029"/>
                </a:cubicBezTo>
                <a:cubicBezTo>
                  <a:pt x="14069" y="9094"/>
                  <a:pt x="14064" y="9153"/>
                  <a:pt x="14188" y="9153"/>
                </a:cubicBezTo>
              </a:path>
              <a:path w="6351" h="2656">
                <a:moveTo>
                  <a:pt x="14263" y="8409"/>
                </a:moveTo>
                <a:cubicBezTo>
                  <a:pt x="14236" y="8618"/>
                  <a:pt x="14203" y="8803"/>
                  <a:pt x="14139" y="9004"/>
                </a:cubicBezTo>
                <a:cubicBezTo>
                  <a:pt x="14078" y="9196"/>
                  <a:pt x="14005" y="9370"/>
                  <a:pt x="13915" y="9550"/>
                </a:cubicBezTo>
                <a:cubicBezTo>
                  <a:pt x="13835" y="9710"/>
                  <a:pt x="13776" y="9877"/>
                  <a:pt x="13717" y="10046"/>
                </a:cubicBezTo>
                <a:cubicBezTo>
                  <a:pt x="13692" y="10117"/>
                  <a:pt x="13691" y="10123"/>
                  <a:pt x="13667" y="10195"/>
                </a:cubicBezTo>
              </a:path>
              <a:path w="6351" h="2656">
                <a:moveTo>
                  <a:pt x="15156" y="7789"/>
                </a:moveTo>
                <a:cubicBezTo>
                  <a:pt x="15132" y="7895"/>
                  <a:pt x="15059" y="7985"/>
                  <a:pt x="15007" y="8086"/>
                </a:cubicBezTo>
                <a:cubicBezTo>
                  <a:pt x="14925" y="8245"/>
                  <a:pt x="14854" y="8395"/>
                  <a:pt x="14784" y="8558"/>
                </a:cubicBezTo>
                <a:cubicBezTo>
                  <a:pt x="14720" y="8706"/>
                  <a:pt x="14664" y="8852"/>
                  <a:pt x="14610" y="9004"/>
                </a:cubicBezTo>
                <a:cubicBezTo>
                  <a:pt x="14580" y="9089"/>
                  <a:pt x="14548" y="9176"/>
                  <a:pt x="14511" y="9252"/>
                </a:cubicBezTo>
                <a:cubicBezTo>
                  <a:pt x="14503" y="9269"/>
                  <a:pt x="14494" y="9285"/>
                  <a:pt x="14486" y="9302"/>
                </a:cubicBezTo>
              </a:path>
              <a:path w="6351" h="2656">
                <a:moveTo>
                  <a:pt x="15180" y="8434"/>
                </a:moveTo>
                <a:cubicBezTo>
                  <a:pt x="15233" y="8496"/>
                  <a:pt x="15260" y="8563"/>
                  <a:pt x="15329" y="8632"/>
                </a:cubicBezTo>
                <a:cubicBezTo>
                  <a:pt x="15405" y="8708"/>
                  <a:pt x="15487" y="8787"/>
                  <a:pt x="15577" y="8855"/>
                </a:cubicBezTo>
                <a:cubicBezTo>
                  <a:pt x="15688" y="8938"/>
                  <a:pt x="15784" y="9028"/>
                  <a:pt x="15900" y="9103"/>
                </a:cubicBezTo>
                <a:cubicBezTo>
                  <a:pt x="15956" y="9141"/>
                  <a:pt x="15959" y="9158"/>
                  <a:pt x="15999" y="9153"/>
                </a:cubicBezTo>
              </a:path>
              <a:path w="6351" h="2656">
                <a:moveTo>
                  <a:pt x="15553" y="8508"/>
                </a:moveTo>
                <a:cubicBezTo>
                  <a:pt x="15443" y="8673"/>
                  <a:pt x="15335" y="8836"/>
                  <a:pt x="15230" y="9004"/>
                </a:cubicBezTo>
                <a:cubicBezTo>
                  <a:pt x="15189" y="9070"/>
                  <a:pt x="15150" y="9180"/>
                  <a:pt x="15131" y="9103"/>
                </a:cubicBezTo>
              </a:path>
              <a:path w="6351" h="2656">
                <a:moveTo>
                  <a:pt x="15974" y="7590"/>
                </a:moveTo>
                <a:cubicBezTo>
                  <a:pt x="16106" y="7696"/>
                  <a:pt x="16226" y="7802"/>
                  <a:pt x="16297" y="7962"/>
                </a:cubicBezTo>
                <a:cubicBezTo>
                  <a:pt x="16372" y="8129"/>
                  <a:pt x="16471" y="8323"/>
                  <a:pt x="16495" y="8508"/>
                </a:cubicBezTo>
                <a:cubicBezTo>
                  <a:pt x="16518" y="8682"/>
                  <a:pt x="16513" y="8909"/>
                  <a:pt x="16470" y="9079"/>
                </a:cubicBezTo>
                <a:cubicBezTo>
                  <a:pt x="16425" y="9257"/>
                  <a:pt x="16354" y="9377"/>
                  <a:pt x="16197" y="9475"/>
                </a:cubicBezTo>
                <a:cubicBezTo>
                  <a:pt x="16164" y="9492"/>
                  <a:pt x="16131" y="9508"/>
                  <a:pt x="16098" y="95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Ink 7"/>
          <p:cNvSpPr/>
          <p:nvPr/>
        </p:nvSpPr>
        <p:spPr>
          <a:xfrm>
            <a:off x="3606840" y="3456000"/>
            <a:ext cx="3270240" cy="785880"/>
          </a:xfrm>
          <a:custGeom>
            <a:avLst/>
            <a:gdLst/>
            <a:ahLst/>
            <a:rect l="l" t="t" r="r" b="b"/>
            <a:pathLst>
              <a:path w="9080" h="2184">
                <a:moveTo>
                  <a:pt x="10616" y="9748"/>
                </a:moveTo>
                <a:cubicBezTo>
                  <a:pt x="10561" y="9832"/>
                  <a:pt x="10549" y="9947"/>
                  <a:pt x="10542" y="10046"/>
                </a:cubicBezTo>
                <a:cubicBezTo>
                  <a:pt x="10529" y="10229"/>
                  <a:pt x="10517" y="10408"/>
                  <a:pt x="10517" y="10592"/>
                </a:cubicBezTo>
                <a:cubicBezTo>
                  <a:pt x="10517" y="10769"/>
                  <a:pt x="10528" y="11023"/>
                  <a:pt x="10492" y="11187"/>
                </a:cubicBezTo>
                <a:cubicBezTo>
                  <a:pt x="10468" y="11212"/>
                  <a:pt x="10460" y="11220"/>
                  <a:pt x="10443" y="11187"/>
                </a:cubicBezTo>
              </a:path>
              <a:path w="9080" h="2184">
                <a:moveTo>
                  <a:pt x="10021" y="10344"/>
                </a:moveTo>
                <a:cubicBezTo>
                  <a:pt x="10106" y="10344"/>
                  <a:pt x="10186" y="10337"/>
                  <a:pt x="10269" y="10368"/>
                </a:cubicBezTo>
                <a:cubicBezTo>
                  <a:pt x="10436" y="10430"/>
                  <a:pt x="10563" y="10399"/>
                  <a:pt x="10740" y="10418"/>
                </a:cubicBezTo>
                <a:cubicBezTo>
                  <a:pt x="10883" y="10433"/>
                  <a:pt x="11016" y="10443"/>
                  <a:pt x="11162" y="10443"/>
                </a:cubicBezTo>
                <a:cubicBezTo>
                  <a:pt x="11286" y="10443"/>
                  <a:pt x="11256" y="10458"/>
                  <a:pt x="11137" y="10492"/>
                </a:cubicBezTo>
                <a:cubicBezTo>
                  <a:pt x="11020" y="10525"/>
                  <a:pt x="10979" y="10591"/>
                  <a:pt x="10914" y="10691"/>
                </a:cubicBezTo>
                <a:cubicBezTo>
                  <a:pt x="10839" y="10806"/>
                  <a:pt x="10781" y="10876"/>
                  <a:pt x="10864" y="11013"/>
                </a:cubicBezTo>
                <a:cubicBezTo>
                  <a:pt x="10913" y="11094"/>
                  <a:pt x="10978" y="11108"/>
                  <a:pt x="11063" y="11112"/>
                </a:cubicBezTo>
                <a:cubicBezTo>
                  <a:pt x="11151" y="11116"/>
                  <a:pt x="11179" y="11109"/>
                  <a:pt x="11237" y="11038"/>
                </a:cubicBezTo>
                <a:cubicBezTo>
                  <a:pt x="11299" y="10962"/>
                  <a:pt x="11286" y="10855"/>
                  <a:pt x="11286" y="10765"/>
                </a:cubicBezTo>
                <a:cubicBezTo>
                  <a:pt x="11286" y="10699"/>
                  <a:pt x="11286" y="10633"/>
                  <a:pt x="11286" y="10567"/>
                </a:cubicBezTo>
                <a:cubicBezTo>
                  <a:pt x="11272" y="10599"/>
                  <a:pt x="11248" y="10691"/>
                  <a:pt x="11261" y="10765"/>
                </a:cubicBezTo>
                <a:cubicBezTo>
                  <a:pt x="11290" y="10924"/>
                  <a:pt x="11308" y="11059"/>
                  <a:pt x="11410" y="11187"/>
                </a:cubicBezTo>
                <a:cubicBezTo>
                  <a:pt x="11464" y="11255"/>
                  <a:pt x="11495" y="11281"/>
                  <a:pt x="11559" y="11212"/>
                </a:cubicBezTo>
                <a:cubicBezTo>
                  <a:pt x="11559" y="11195"/>
                  <a:pt x="11559" y="11179"/>
                  <a:pt x="11559" y="11162"/>
                </a:cubicBezTo>
              </a:path>
              <a:path w="9080" h="2184">
                <a:moveTo>
                  <a:pt x="11584" y="10592"/>
                </a:moveTo>
                <a:cubicBezTo>
                  <a:pt x="11584" y="10770"/>
                  <a:pt x="11590" y="10940"/>
                  <a:pt x="11609" y="11112"/>
                </a:cubicBezTo>
                <a:cubicBezTo>
                  <a:pt x="11620" y="11210"/>
                  <a:pt x="11610" y="11227"/>
                  <a:pt x="11658" y="11311"/>
                </a:cubicBezTo>
                <a:cubicBezTo>
                  <a:pt x="11667" y="11217"/>
                  <a:pt x="11697" y="11132"/>
                  <a:pt x="11708" y="11038"/>
                </a:cubicBezTo>
                <a:cubicBezTo>
                  <a:pt x="11719" y="10944"/>
                  <a:pt x="11713" y="10832"/>
                  <a:pt x="11733" y="10740"/>
                </a:cubicBezTo>
                <a:cubicBezTo>
                  <a:pt x="11746" y="10683"/>
                  <a:pt x="11766" y="10626"/>
                  <a:pt x="11782" y="10567"/>
                </a:cubicBezTo>
                <a:cubicBezTo>
                  <a:pt x="11930" y="10583"/>
                  <a:pt x="11925" y="10613"/>
                  <a:pt x="11981" y="10740"/>
                </a:cubicBezTo>
                <a:cubicBezTo>
                  <a:pt x="12032" y="10856"/>
                  <a:pt x="12067" y="10967"/>
                  <a:pt x="12105" y="11088"/>
                </a:cubicBezTo>
                <a:cubicBezTo>
                  <a:pt x="12109" y="11100"/>
                  <a:pt x="12153" y="11287"/>
                  <a:pt x="12154" y="11286"/>
                </a:cubicBezTo>
                <a:cubicBezTo>
                  <a:pt x="12154" y="11270"/>
                  <a:pt x="12154" y="11253"/>
                  <a:pt x="12154" y="11237"/>
                </a:cubicBezTo>
              </a:path>
              <a:path w="9080" h="2184">
                <a:moveTo>
                  <a:pt x="12030" y="10344"/>
                </a:moveTo>
                <a:cubicBezTo>
                  <a:pt x="12134" y="10259"/>
                  <a:pt x="12145" y="10269"/>
                  <a:pt x="12278" y="10269"/>
                </a:cubicBezTo>
                <a:cubicBezTo>
                  <a:pt x="12353" y="10269"/>
                  <a:pt x="12377" y="10269"/>
                  <a:pt x="12427" y="10269"/>
                </a:cubicBezTo>
              </a:path>
              <a:path w="9080" h="2184">
                <a:moveTo>
                  <a:pt x="12650" y="9897"/>
                </a:moveTo>
                <a:cubicBezTo>
                  <a:pt x="12650" y="9964"/>
                  <a:pt x="12613" y="10422"/>
                  <a:pt x="12675" y="10443"/>
                </a:cubicBezTo>
              </a:path>
              <a:path w="9080" h="2184">
                <a:moveTo>
                  <a:pt x="13072" y="9674"/>
                </a:moveTo>
                <a:cubicBezTo>
                  <a:pt x="13038" y="9835"/>
                  <a:pt x="12943" y="9966"/>
                  <a:pt x="12898" y="10120"/>
                </a:cubicBezTo>
                <a:cubicBezTo>
                  <a:pt x="12852" y="10275"/>
                  <a:pt x="12811" y="10480"/>
                  <a:pt x="12799" y="10641"/>
                </a:cubicBezTo>
                <a:cubicBezTo>
                  <a:pt x="12785" y="10833"/>
                  <a:pt x="12809" y="11002"/>
                  <a:pt x="12849" y="11187"/>
                </a:cubicBezTo>
                <a:cubicBezTo>
                  <a:pt x="12889" y="11373"/>
                  <a:pt x="12934" y="11430"/>
                  <a:pt x="13097" y="11534"/>
                </a:cubicBezTo>
              </a:path>
              <a:path w="9080" h="2184">
                <a:moveTo>
                  <a:pt x="13345" y="10418"/>
                </a:moveTo>
                <a:cubicBezTo>
                  <a:pt x="13554" y="10196"/>
                  <a:pt x="13434" y="10271"/>
                  <a:pt x="13618" y="10344"/>
                </a:cubicBezTo>
                <a:cubicBezTo>
                  <a:pt x="13668" y="10364"/>
                  <a:pt x="13731" y="10417"/>
                  <a:pt x="13717" y="10492"/>
                </a:cubicBezTo>
                <a:cubicBezTo>
                  <a:pt x="13700" y="10582"/>
                  <a:pt x="13630" y="10629"/>
                  <a:pt x="13568" y="10691"/>
                </a:cubicBezTo>
                <a:cubicBezTo>
                  <a:pt x="13520" y="10739"/>
                  <a:pt x="13419" y="10784"/>
                  <a:pt x="13345" y="10765"/>
                </a:cubicBezTo>
                <a:cubicBezTo>
                  <a:pt x="13337" y="10757"/>
                  <a:pt x="13328" y="10748"/>
                  <a:pt x="13320" y="10740"/>
                </a:cubicBezTo>
                <a:cubicBezTo>
                  <a:pt x="13384" y="10719"/>
                  <a:pt x="13473" y="10697"/>
                  <a:pt x="13543" y="10716"/>
                </a:cubicBezTo>
                <a:cubicBezTo>
                  <a:pt x="13632" y="10740"/>
                  <a:pt x="13720" y="10815"/>
                  <a:pt x="13767" y="10889"/>
                </a:cubicBezTo>
                <a:cubicBezTo>
                  <a:pt x="13809" y="10955"/>
                  <a:pt x="13886" y="11091"/>
                  <a:pt x="13816" y="11162"/>
                </a:cubicBezTo>
                <a:cubicBezTo>
                  <a:pt x="13746" y="11233"/>
                  <a:pt x="13666" y="11259"/>
                  <a:pt x="13568" y="11261"/>
                </a:cubicBezTo>
                <a:cubicBezTo>
                  <a:pt x="13462" y="11263"/>
                  <a:pt x="13374" y="11284"/>
                  <a:pt x="13295" y="11212"/>
                </a:cubicBezTo>
                <a:cubicBezTo>
                  <a:pt x="13248" y="11169"/>
                  <a:pt x="13277" y="11138"/>
                  <a:pt x="13295" y="11088"/>
                </a:cubicBezTo>
              </a:path>
              <a:path w="9080" h="2184">
                <a:moveTo>
                  <a:pt x="14362" y="10120"/>
                </a:moveTo>
                <a:cubicBezTo>
                  <a:pt x="14331" y="10252"/>
                  <a:pt x="14303" y="10361"/>
                  <a:pt x="14263" y="10492"/>
                </a:cubicBezTo>
                <a:cubicBezTo>
                  <a:pt x="14205" y="10683"/>
                  <a:pt x="14144" y="10871"/>
                  <a:pt x="14089" y="11063"/>
                </a:cubicBezTo>
                <a:cubicBezTo>
                  <a:pt x="14059" y="11166"/>
                  <a:pt x="14020" y="11279"/>
                  <a:pt x="14015" y="11385"/>
                </a:cubicBezTo>
                <a:cubicBezTo>
                  <a:pt x="14015" y="11426"/>
                  <a:pt x="14006" y="11443"/>
                  <a:pt x="14039" y="11435"/>
                </a:cubicBezTo>
              </a:path>
              <a:path w="9080" h="2184">
                <a:moveTo>
                  <a:pt x="14660" y="10492"/>
                </a:moveTo>
                <a:cubicBezTo>
                  <a:pt x="14745" y="10471"/>
                  <a:pt x="14937" y="10400"/>
                  <a:pt x="15007" y="10492"/>
                </a:cubicBezTo>
                <a:cubicBezTo>
                  <a:pt x="15071" y="10575"/>
                  <a:pt x="15022" y="10704"/>
                  <a:pt x="14957" y="10765"/>
                </a:cubicBezTo>
                <a:cubicBezTo>
                  <a:pt x="14912" y="10807"/>
                  <a:pt x="14803" y="10892"/>
                  <a:pt x="14734" y="10889"/>
                </a:cubicBezTo>
                <a:cubicBezTo>
                  <a:pt x="14717" y="10881"/>
                  <a:pt x="14701" y="10872"/>
                  <a:pt x="14684" y="10864"/>
                </a:cubicBezTo>
                <a:cubicBezTo>
                  <a:pt x="14767" y="10864"/>
                  <a:pt x="14832" y="10876"/>
                  <a:pt x="14908" y="10889"/>
                </a:cubicBezTo>
                <a:cubicBezTo>
                  <a:pt x="14983" y="10902"/>
                  <a:pt x="15041" y="10945"/>
                  <a:pt x="15081" y="11013"/>
                </a:cubicBezTo>
                <a:cubicBezTo>
                  <a:pt x="15156" y="11140"/>
                  <a:pt x="15111" y="11312"/>
                  <a:pt x="14982" y="11385"/>
                </a:cubicBezTo>
                <a:cubicBezTo>
                  <a:pt x="14927" y="11416"/>
                  <a:pt x="14770" y="11435"/>
                  <a:pt x="14709" y="11410"/>
                </a:cubicBezTo>
                <a:cubicBezTo>
                  <a:pt x="14632" y="11378"/>
                  <a:pt x="14544" y="11288"/>
                  <a:pt x="14511" y="11212"/>
                </a:cubicBezTo>
                <a:cubicBezTo>
                  <a:pt x="14503" y="11187"/>
                  <a:pt x="14494" y="11162"/>
                  <a:pt x="14486" y="11137"/>
                </a:cubicBezTo>
              </a:path>
              <a:path w="9080" h="2184">
                <a:moveTo>
                  <a:pt x="15280" y="10046"/>
                </a:moveTo>
                <a:cubicBezTo>
                  <a:pt x="15414" y="10348"/>
                  <a:pt x="15478" y="10546"/>
                  <a:pt x="15528" y="10864"/>
                </a:cubicBezTo>
                <a:cubicBezTo>
                  <a:pt x="15557" y="11050"/>
                  <a:pt x="15548" y="11235"/>
                  <a:pt x="15478" y="11410"/>
                </a:cubicBezTo>
                <a:cubicBezTo>
                  <a:pt x="15422" y="11551"/>
                  <a:pt x="15270" y="11691"/>
                  <a:pt x="15106" y="11683"/>
                </a:cubicBezTo>
                <a:cubicBezTo>
                  <a:pt x="15081" y="11658"/>
                  <a:pt x="15073" y="11650"/>
                  <a:pt x="15056" y="11633"/>
                </a:cubicBezTo>
              </a:path>
              <a:path w="9080" h="2184">
                <a:moveTo>
                  <a:pt x="15949" y="10641"/>
                </a:moveTo>
                <a:cubicBezTo>
                  <a:pt x="16092" y="10641"/>
                  <a:pt x="16233" y="10614"/>
                  <a:pt x="16346" y="10691"/>
                </a:cubicBezTo>
              </a:path>
              <a:path w="9080" h="2184">
                <a:moveTo>
                  <a:pt x="15925" y="10939"/>
                </a:moveTo>
                <a:cubicBezTo>
                  <a:pt x="16077" y="11005"/>
                  <a:pt x="16205" y="11013"/>
                  <a:pt x="16371" y="11013"/>
                </a:cubicBezTo>
              </a:path>
              <a:path w="9080" h="2184">
                <a:moveTo>
                  <a:pt x="16917" y="10418"/>
                </a:moveTo>
                <a:cubicBezTo>
                  <a:pt x="16864" y="10471"/>
                  <a:pt x="16786" y="10539"/>
                  <a:pt x="16743" y="10592"/>
                </a:cubicBezTo>
                <a:cubicBezTo>
                  <a:pt x="16721" y="10619"/>
                  <a:pt x="16666" y="10741"/>
                  <a:pt x="16669" y="10765"/>
                </a:cubicBezTo>
                <a:cubicBezTo>
                  <a:pt x="16680" y="10846"/>
                  <a:pt x="16942" y="10855"/>
                  <a:pt x="17016" y="10864"/>
                </a:cubicBezTo>
                <a:cubicBezTo>
                  <a:pt x="17104" y="10874"/>
                  <a:pt x="17182" y="10840"/>
                  <a:pt x="17264" y="10815"/>
                </a:cubicBezTo>
              </a:path>
              <a:path w="9080" h="2184">
                <a:moveTo>
                  <a:pt x="17314" y="9971"/>
                </a:moveTo>
                <a:cubicBezTo>
                  <a:pt x="17243" y="10253"/>
                  <a:pt x="17226" y="10370"/>
                  <a:pt x="17239" y="10641"/>
                </a:cubicBezTo>
                <a:cubicBezTo>
                  <a:pt x="17252" y="10899"/>
                  <a:pt x="17269" y="11153"/>
                  <a:pt x="17289" y="11410"/>
                </a:cubicBezTo>
                <a:cubicBezTo>
                  <a:pt x="17299" y="11532"/>
                  <a:pt x="17289" y="11659"/>
                  <a:pt x="17289" y="11782"/>
                </a:cubicBezTo>
              </a:path>
              <a:path w="9080" h="2184">
                <a:moveTo>
                  <a:pt x="17785" y="10269"/>
                </a:moveTo>
                <a:cubicBezTo>
                  <a:pt x="17991" y="10224"/>
                  <a:pt x="18214" y="10217"/>
                  <a:pt x="18405" y="10145"/>
                </a:cubicBezTo>
              </a:path>
              <a:path w="9080" h="2184">
                <a:moveTo>
                  <a:pt x="17835" y="10195"/>
                </a:moveTo>
                <a:cubicBezTo>
                  <a:pt x="17799" y="10249"/>
                  <a:pt x="17651" y="10409"/>
                  <a:pt x="17636" y="10492"/>
                </a:cubicBezTo>
                <a:cubicBezTo>
                  <a:pt x="17623" y="10564"/>
                  <a:pt x="17645" y="10632"/>
                  <a:pt x="17686" y="10691"/>
                </a:cubicBezTo>
                <a:cubicBezTo>
                  <a:pt x="17735" y="10762"/>
                  <a:pt x="17773" y="10729"/>
                  <a:pt x="17835" y="10716"/>
                </a:cubicBezTo>
                <a:cubicBezTo>
                  <a:pt x="17936" y="10695"/>
                  <a:pt x="17923" y="10626"/>
                  <a:pt x="18008" y="10592"/>
                </a:cubicBezTo>
                <a:cubicBezTo>
                  <a:pt x="18188" y="10521"/>
                  <a:pt x="18224" y="10663"/>
                  <a:pt x="18281" y="10815"/>
                </a:cubicBezTo>
                <a:cubicBezTo>
                  <a:pt x="18338" y="10969"/>
                  <a:pt x="18317" y="11082"/>
                  <a:pt x="18306" y="11237"/>
                </a:cubicBezTo>
                <a:cubicBezTo>
                  <a:pt x="18295" y="11386"/>
                  <a:pt x="18300" y="11532"/>
                  <a:pt x="18207" y="11658"/>
                </a:cubicBezTo>
                <a:cubicBezTo>
                  <a:pt x="18138" y="11751"/>
                  <a:pt x="18070" y="11778"/>
                  <a:pt x="17959" y="11782"/>
                </a:cubicBezTo>
                <a:cubicBezTo>
                  <a:pt x="17852" y="11786"/>
                  <a:pt x="17759" y="11737"/>
                  <a:pt x="17686" y="11658"/>
                </a:cubicBezTo>
                <a:cubicBezTo>
                  <a:pt x="17628" y="11595"/>
                  <a:pt x="17613" y="11514"/>
                  <a:pt x="17587" y="11435"/>
                </a:cubicBezTo>
              </a:path>
              <a:path w="9080" h="2184">
                <a:moveTo>
                  <a:pt x="18628" y="9897"/>
                </a:moveTo>
                <a:cubicBezTo>
                  <a:pt x="18660" y="9928"/>
                  <a:pt x="18641" y="9991"/>
                  <a:pt x="18678" y="10046"/>
                </a:cubicBezTo>
                <a:cubicBezTo>
                  <a:pt x="18740" y="10139"/>
                  <a:pt x="18758" y="10159"/>
                  <a:pt x="18852" y="10195"/>
                </a:cubicBezTo>
                <a:cubicBezTo>
                  <a:pt x="18899" y="10213"/>
                  <a:pt x="19007" y="10254"/>
                  <a:pt x="19050" y="10195"/>
                </a:cubicBezTo>
                <a:cubicBezTo>
                  <a:pt x="19097" y="10130"/>
                  <a:pt x="19112" y="10043"/>
                  <a:pt x="19075" y="9971"/>
                </a:cubicBezTo>
                <a:cubicBezTo>
                  <a:pt x="19029" y="9882"/>
                  <a:pt x="18920" y="9715"/>
                  <a:pt x="18827" y="9674"/>
                </a:cubicBezTo>
                <a:cubicBezTo>
                  <a:pt x="18758" y="9644"/>
                  <a:pt x="18645" y="9567"/>
                  <a:pt x="18554" y="9599"/>
                </a:cubicBezTo>
                <a:cubicBezTo>
                  <a:pt x="18519" y="9634"/>
                  <a:pt x="18506" y="9656"/>
                  <a:pt x="18504" y="96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Ink 8"/>
          <p:cNvSpPr/>
          <p:nvPr/>
        </p:nvSpPr>
        <p:spPr>
          <a:xfrm>
            <a:off x="1401840" y="2089080"/>
            <a:ext cx="36360" cy="2455920"/>
          </a:xfrm>
          <a:custGeom>
            <a:avLst/>
            <a:gdLst/>
            <a:ahLst/>
            <a:rect l="l" t="t" r="r" b="b"/>
            <a:pathLst>
              <a:path w="101" h="6823">
                <a:moveTo>
                  <a:pt x="3969" y="5804"/>
                </a:moveTo>
                <a:cubicBezTo>
                  <a:pt x="3979" y="5916"/>
                  <a:pt x="3974" y="5988"/>
                  <a:pt x="3969" y="6102"/>
                </a:cubicBezTo>
                <a:cubicBezTo>
                  <a:pt x="3962" y="6277"/>
                  <a:pt x="3947" y="6448"/>
                  <a:pt x="3944" y="6623"/>
                </a:cubicBezTo>
                <a:cubicBezTo>
                  <a:pt x="3940" y="6855"/>
                  <a:pt x="3919" y="7083"/>
                  <a:pt x="3919" y="7317"/>
                </a:cubicBezTo>
                <a:cubicBezTo>
                  <a:pt x="3919" y="7617"/>
                  <a:pt x="3912" y="7912"/>
                  <a:pt x="3919" y="8210"/>
                </a:cubicBezTo>
                <a:cubicBezTo>
                  <a:pt x="3927" y="8547"/>
                  <a:pt x="3925" y="8890"/>
                  <a:pt x="3944" y="9227"/>
                </a:cubicBezTo>
                <a:cubicBezTo>
                  <a:pt x="3963" y="9575"/>
                  <a:pt x="3969" y="9920"/>
                  <a:pt x="3969" y="10269"/>
                </a:cubicBezTo>
                <a:cubicBezTo>
                  <a:pt x="3969" y="10626"/>
                  <a:pt x="3990" y="10980"/>
                  <a:pt x="3994" y="11336"/>
                </a:cubicBezTo>
                <a:cubicBezTo>
                  <a:pt x="3997" y="11644"/>
                  <a:pt x="3974" y="11947"/>
                  <a:pt x="3969" y="12254"/>
                </a:cubicBezTo>
                <a:cubicBezTo>
                  <a:pt x="3967" y="12389"/>
                  <a:pt x="3961" y="12498"/>
                  <a:pt x="3944" y="126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Ink 9"/>
          <p:cNvSpPr/>
          <p:nvPr/>
        </p:nvSpPr>
        <p:spPr>
          <a:xfrm>
            <a:off x="660240" y="3170160"/>
            <a:ext cx="2214720" cy="71640"/>
          </a:xfrm>
          <a:custGeom>
            <a:avLst/>
            <a:gdLst/>
            <a:ahLst/>
            <a:rect l="l" t="t" r="r" b="b"/>
            <a:pathLst>
              <a:path w="6152" h="199">
                <a:moveTo>
                  <a:pt x="1836" y="8806"/>
                </a:moveTo>
                <a:cubicBezTo>
                  <a:pt x="1926" y="8836"/>
                  <a:pt x="1977" y="8851"/>
                  <a:pt x="2084" y="8855"/>
                </a:cubicBezTo>
                <a:cubicBezTo>
                  <a:pt x="2283" y="8862"/>
                  <a:pt x="2480" y="8877"/>
                  <a:pt x="2679" y="8880"/>
                </a:cubicBezTo>
                <a:cubicBezTo>
                  <a:pt x="2956" y="8884"/>
                  <a:pt x="3216" y="8930"/>
                  <a:pt x="3497" y="8930"/>
                </a:cubicBezTo>
                <a:cubicBezTo>
                  <a:pt x="4036" y="8930"/>
                  <a:pt x="4572" y="8939"/>
                  <a:pt x="5110" y="8954"/>
                </a:cubicBezTo>
                <a:cubicBezTo>
                  <a:pt x="5560" y="8967"/>
                  <a:pt x="6004" y="8974"/>
                  <a:pt x="6449" y="9004"/>
                </a:cubicBezTo>
                <a:cubicBezTo>
                  <a:pt x="6828" y="9029"/>
                  <a:pt x="7225" y="9014"/>
                  <a:pt x="7590" y="8954"/>
                </a:cubicBezTo>
                <a:cubicBezTo>
                  <a:pt x="7727" y="8931"/>
                  <a:pt x="7885" y="8968"/>
                  <a:pt x="7987" y="8880"/>
                </a:cubicBezTo>
                <a:cubicBezTo>
                  <a:pt x="7971" y="8872"/>
                  <a:pt x="7954" y="8863"/>
                  <a:pt x="7938" y="88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Ink 10"/>
          <p:cNvSpPr/>
          <p:nvPr/>
        </p:nvSpPr>
        <p:spPr>
          <a:xfrm>
            <a:off x="1616040" y="3081240"/>
            <a:ext cx="19080" cy="241560"/>
          </a:xfrm>
          <a:custGeom>
            <a:avLst/>
            <a:gdLst/>
            <a:ahLst/>
            <a:rect l="l" t="t" r="r" b="b"/>
            <a:pathLst>
              <a:path w="50" h="670">
                <a:moveTo>
                  <a:pt x="4514" y="8558"/>
                </a:moveTo>
                <a:cubicBezTo>
                  <a:pt x="4546" y="8663"/>
                  <a:pt x="4526" y="8699"/>
                  <a:pt x="4514" y="8806"/>
                </a:cubicBezTo>
                <a:cubicBezTo>
                  <a:pt x="4502" y="8910"/>
                  <a:pt x="4479" y="9094"/>
                  <a:pt x="4490" y="9178"/>
                </a:cubicBezTo>
                <a:cubicBezTo>
                  <a:pt x="4498" y="9194"/>
                  <a:pt x="4506" y="9211"/>
                  <a:pt x="4514" y="92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Ink 11"/>
          <p:cNvSpPr/>
          <p:nvPr/>
        </p:nvSpPr>
        <p:spPr>
          <a:xfrm>
            <a:off x="1857240" y="3116160"/>
            <a:ext cx="1800" cy="206640"/>
          </a:xfrm>
          <a:custGeom>
            <a:avLst/>
            <a:gdLst/>
            <a:ahLst/>
            <a:rect l="l" t="t" r="r" b="b"/>
            <a:pathLst>
              <a:path w="1" h="571">
                <a:moveTo>
                  <a:pt x="5159" y="8657"/>
                </a:moveTo>
                <a:cubicBezTo>
                  <a:pt x="5159" y="8847"/>
                  <a:pt x="5159" y="9037"/>
                  <a:pt x="5159" y="92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Ink 12"/>
          <p:cNvSpPr/>
          <p:nvPr/>
        </p:nvSpPr>
        <p:spPr>
          <a:xfrm>
            <a:off x="2071800" y="3106800"/>
            <a:ext cx="9360" cy="243000"/>
          </a:xfrm>
          <a:custGeom>
            <a:avLst/>
            <a:gdLst/>
            <a:ahLst/>
            <a:rect l="l" t="t" r="r" b="b"/>
            <a:pathLst>
              <a:path w="25" h="671">
                <a:moveTo>
                  <a:pt x="5755" y="8632"/>
                </a:moveTo>
                <a:cubicBezTo>
                  <a:pt x="5755" y="8815"/>
                  <a:pt x="5763" y="9009"/>
                  <a:pt x="5779" y="9178"/>
                </a:cubicBezTo>
                <a:cubicBezTo>
                  <a:pt x="5779" y="9219"/>
                  <a:pt x="5779" y="9261"/>
                  <a:pt x="5779" y="93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Ink 13"/>
          <p:cNvSpPr/>
          <p:nvPr/>
        </p:nvSpPr>
        <p:spPr>
          <a:xfrm>
            <a:off x="1339920" y="3000240"/>
            <a:ext cx="160200" cy="1800"/>
          </a:xfrm>
          <a:custGeom>
            <a:avLst/>
            <a:gdLst/>
            <a:ahLst/>
            <a:rect l="l" t="t" r="r" b="b"/>
            <a:pathLst>
              <a:path w="447" h="1">
                <a:moveTo>
                  <a:pt x="3721" y="8334"/>
                </a:moveTo>
                <a:cubicBezTo>
                  <a:pt x="3870" y="8334"/>
                  <a:pt x="4018" y="8334"/>
                  <a:pt x="4167" y="83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Ink 14"/>
          <p:cNvSpPr/>
          <p:nvPr/>
        </p:nvSpPr>
        <p:spPr>
          <a:xfrm>
            <a:off x="1347840" y="2813040"/>
            <a:ext cx="171360" cy="17640"/>
          </a:xfrm>
          <a:custGeom>
            <a:avLst/>
            <a:gdLst/>
            <a:ahLst/>
            <a:rect l="l" t="t" r="r" b="b"/>
            <a:pathLst>
              <a:path w="472" h="51">
                <a:moveTo>
                  <a:pt x="3746" y="7863"/>
                </a:moveTo>
                <a:cubicBezTo>
                  <a:pt x="3841" y="7855"/>
                  <a:pt x="3949" y="7855"/>
                  <a:pt x="4043" y="7838"/>
                </a:cubicBezTo>
                <a:cubicBezTo>
                  <a:pt x="4112" y="7825"/>
                  <a:pt x="4147" y="7813"/>
                  <a:pt x="4217" y="78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Ink 15"/>
          <p:cNvSpPr/>
          <p:nvPr/>
        </p:nvSpPr>
        <p:spPr>
          <a:xfrm>
            <a:off x="1366920" y="2660760"/>
            <a:ext cx="152280" cy="19080"/>
          </a:xfrm>
          <a:custGeom>
            <a:avLst/>
            <a:gdLst/>
            <a:ahLst/>
            <a:rect l="l" t="t" r="r" b="b"/>
            <a:pathLst>
              <a:path w="423" h="50">
                <a:moveTo>
                  <a:pt x="3795" y="7441"/>
                </a:moveTo>
                <a:cubicBezTo>
                  <a:pt x="4052" y="7405"/>
                  <a:pt x="4082" y="7360"/>
                  <a:pt x="4217" y="74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Ink 16"/>
          <p:cNvSpPr/>
          <p:nvPr/>
        </p:nvSpPr>
        <p:spPr>
          <a:xfrm>
            <a:off x="1411200" y="2660760"/>
            <a:ext cx="812880" cy="536400"/>
          </a:xfrm>
          <a:custGeom>
            <a:avLst/>
            <a:gdLst/>
            <a:ahLst/>
            <a:rect l="l" t="t" r="r" b="b"/>
            <a:pathLst>
              <a:path w="2258" h="1489">
                <a:moveTo>
                  <a:pt x="3919" y="8880"/>
                </a:moveTo>
                <a:cubicBezTo>
                  <a:pt x="3964" y="8852"/>
                  <a:pt x="3998" y="8818"/>
                  <a:pt x="4043" y="8781"/>
                </a:cubicBezTo>
                <a:cubicBezTo>
                  <a:pt x="4104" y="8732"/>
                  <a:pt x="4175" y="8692"/>
                  <a:pt x="4242" y="8632"/>
                </a:cubicBezTo>
                <a:cubicBezTo>
                  <a:pt x="4334" y="8551"/>
                  <a:pt x="4441" y="8492"/>
                  <a:pt x="4539" y="8409"/>
                </a:cubicBezTo>
                <a:cubicBezTo>
                  <a:pt x="4687" y="8284"/>
                  <a:pt x="4875" y="8217"/>
                  <a:pt x="5035" y="8111"/>
                </a:cubicBezTo>
                <a:cubicBezTo>
                  <a:pt x="5170" y="8022"/>
                  <a:pt x="5299" y="7928"/>
                  <a:pt x="5432" y="7838"/>
                </a:cubicBezTo>
                <a:cubicBezTo>
                  <a:pt x="5548" y="7760"/>
                  <a:pt x="5664" y="7663"/>
                  <a:pt x="5779" y="7590"/>
                </a:cubicBezTo>
                <a:cubicBezTo>
                  <a:pt x="5834" y="7555"/>
                  <a:pt x="5879" y="7534"/>
                  <a:pt x="5928" y="7491"/>
                </a:cubicBezTo>
                <a:cubicBezTo>
                  <a:pt x="5936" y="7483"/>
                  <a:pt x="5945" y="7474"/>
                  <a:pt x="5953" y="7466"/>
                </a:cubicBezTo>
                <a:cubicBezTo>
                  <a:pt x="5920" y="7469"/>
                  <a:pt x="5863" y="7479"/>
                  <a:pt x="5804" y="7491"/>
                </a:cubicBezTo>
                <a:cubicBezTo>
                  <a:pt x="5706" y="7511"/>
                  <a:pt x="5606" y="7515"/>
                  <a:pt x="5507" y="7541"/>
                </a:cubicBezTo>
                <a:cubicBezTo>
                  <a:pt x="5394" y="7570"/>
                  <a:pt x="5275" y="7575"/>
                  <a:pt x="5159" y="7590"/>
                </a:cubicBezTo>
                <a:cubicBezTo>
                  <a:pt x="5222" y="7563"/>
                  <a:pt x="5288" y="7532"/>
                  <a:pt x="5358" y="7516"/>
                </a:cubicBezTo>
                <a:cubicBezTo>
                  <a:pt x="5438" y="7498"/>
                  <a:pt x="5525" y="7486"/>
                  <a:pt x="5606" y="7466"/>
                </a:cubicBezTo>
                <a:cubicBezTo>
                  <a:pt x="5692" y="7445"/>
                  <a:pt x="5766" y="7403"/>
                  <a:pt x="5854" y="7392"/>
                </a:cubicBezTo>
                <a:cubicBezTo>
                  <a:pt x="5910" y="7385"/>
                  <a:pt x="6006" y="7378"/>
                  <a:pt x="6052" y="7417"/>
                </a:cubicBezTo>
                <a:cubicBezTo>
                  <a:pt x="6066" y="7429"/>
                  <a:pt x="6094" y="7565"/>
                  <a:pt x="6102" y="7590"/>
                </a:cubicBezTo>
                <a:cubicBezTo>
                  <a:pt x="6121" y="7654"/>
                  <a:pt x="6165" y="7728"/>
                  <a:pt x="6176" y="7789"/>
                </a:cubicBezTo>
                <a:cubicBezTo>
                  <a:pt x="6176" y="7847"/>
                  <a:pt x="6176" y="7872"/>
                  <a:pt x="6176" y="79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Find the magnitude and direction angle for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= 4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– 5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3" name="Ink 5"/>
          <p:cNvSpPr/>
          <p:nvPr/>
        </p:nvSpPr>
        <p:spPr>
          <a:xfrm>
            <a:off x="4483080" y="1919160"/>
            <a:ext cx="3562200" cy="804960"/>
          </a:xfrm>
          <a:custGeom>
            <a:avLst/>
            <a:gdLst/>
            <a:ahLst/>
            <a:rect l="l" t="t" r="r" b="b"/>
            <a:pathLst>
              <a:path w="9898" h="2233">
                <a:moveTo>
                  <a:pt x="12973" y="5854"/>
                </a:moveTo>
                <a:cubicBezTo>
                  <a:pt x="12973" y="6216"/>
                  <a:pt x="12951" y="6590"/>
                  <a:pt x="12998" y="6945"/>
                </a:cubicBezTo>
                <a:cubicBezTo>
                  <a:pt x="13006" y="7008"/>
                  <a:pt x="13011" y="7094"/>
                  <a:pt x="12973" y="7119"/>
                </a:cubicBezTo>
              </a:path>
              <a:path w="9898" h="2233">
                <a:moveTo>
                  <a:pt x="12452" y="6548"/>
                </a:moveTo>
                <a:cubicBezTo>
                  <a:pt x="12647" y="6548"/>
                  <a:pt x="12830" y="6537"/>
                  <a:pt x="13022" y="6524"/>
                </a:cubicBezTo>
                <a:cubicBezTo>
                  <a:pt x="13188" y="6513"/>
                  <a:pt x="13354" y="6504"/>
                  <a:pt x="13519" y="6499"/>
                </a:cubicBezTo>
                <a:cubicBezTo>
                  <a:pt x="13585" y="6497"/>
                  <a:pt x="13651" y="6499"/>
                  <a:pt x="13717" y="6499"/>
                </a:cubicBezTo>
                <a:cubicBezTo>
                  <a:pt x="13653" y="6550"/>
                  <a:pt x="13581" y="6593"/>
                  <a:pt x="13519" y="6648"/>
                </a:cubicBezTo>
                <a:cubicBezTo>
                  <a:pt x="13429" y="6727"/>
                  <a:pt x="13332" y="6829"/>
                  <a:pt x="13295" y="6945"/>
                </a:cubicBezTo>
                <a:cubicBezTo>
                  <a:pt x="13260" y="7054"/>
                  <a:pt x="13374" y="7066"/>
                  <a:pt x="13444" y="7069"/>
                </a:cubicBezTo>
                <a:cubicBezTo>
                  <a:pt x="13508" y="7072"/>
                  <a:pt x="13603" y="6998"/>
                  <a:pt x="13643" y="6945"/>
                </a:cubicBezTo>
                <a:cubicBezTo>
                  <a:pt x="13684" y="6891"/>
                  <a:pt x="13713" y="6812"/>
                  <a:pt x="13717" y="6747"/>
                </a:cubicBezTo>
                <a:cubicBezTo>
                  <a:pt x="13720" y="6690"/>
                  <a:pt x="13719" y="6667"/>
                  <a:pt x="13692" y="6623"/>
                </a:cubicBezTo>
                <a:cubicBezTo>
                  <a:pt x="13692" y="6709"/>
                  <a:pt x="13711" y="6743"/>
                  <a:pt x="13742" y="6821"/>
                </a:cubicBezTo>
                <a:cubicBezTo>
                  <a:pt x="13782" y="6923"/>
                  <a:pt x="13837" y="6987"/>
                  <a:pt x="13965" y="6970"/>
                </a:cubicBezTo>
                <a:cubicBezTo>
                  <a:pt x="13982" y="6962"/>
                  <a:pt x="13998" y="6953"/>
                  <a:pt x="14015" y="6945"/>
                </a:cubicBezTo>
              </a:path>
              <a:path w="9898" h="2233">
                <a:moveTo>
                  <a:pt x="14039" y="6573"/>
                </a:moveTo>
                <a:cubicBezTo>
                  <a:pt x="14039" y="6727"/>
                  <a:pt x="14039" y="6874"/>
                  <a:pt x="14064" y="7020"/>
                </a:cubicBezTo>
                <a:cubicBezTo>
                  <a:pt x="14064" y="7064"/>
                  <a:pt x="14061" y="7078"/>
                  <a:pt x="14089" y="7094"/>
                </a:cubicBezTo>
                <a:cubicBezTo>
                  <a:pt x="14089" y="6965"/>
                  <a:pt x="14054" y="6765"/>
                  <a:pt x="14114" y="6648"/>
                </a:cubicBezTo>
                <a:cubicBezTo>
                  <a:pt x="14146" y="6586"/>
                  <a:pt x="14223" y="6521"/>
                  <a:pt x="14288" y="6573"/>
                </a:cubicBezTo>
                <a:cubicBezTo>
                  <a:pt x="14355" y="6628"/>
                  <a:pt x="14386" y="6741"/>
                  <a:pt x="14412" y="6821"/>
                </a:cubicBezTo>
                <a:cubicBezTo>
                  <a:pt x="14420" y="6846"/>
                  <a:pt x="14474" y="7012"/>
                  <a:pt x="14511" y="7020"/>
                </a:cubicBezTo>
                <a:cubicBezTo>
                  <a:pt x="14519" y="7012"/>
                  <a:pt x="14528" y="7003"/>
                  <a:pt x="14536" y="6995"/>
                </a:cubicBezTo>
              </a:path>
              <a:path w="9898" h="2233">
                <a:moveTo>
                  <a:pt x="14536" y="6300"/>
                </a:moveTo>
                <a:cubicBezTo>
                  <a:pt x="14621" y="6282"/>
                  <a:pt x="14702" y="6273"/>
                  <a:pt x="14784" y="6251"/>
                </a:cubicBezTo>
              </a:path>
              <a:path w="9898" h="2233">
                <a:moveTo>
                  <a:pt x="15081" y="5904"/>
                </a:moveTo>
                <a:cubicBezTo>
                  <a:pt x="15096" y="6012"/>
                  <a:pt x="15081" y="6091"/>
                  <a:pt x="15081" y="6201"/>
                </a:cubicBezTo>
                <a:cubicBezTo>
                  <a:pt x="15081" y="6259"/>
                  <a:pt x="15078" y="6279"/>
                  <a:pt x="15106" y="6325"/>
                </a:cubicBezTo>
              </a:path>
              <a:path w="9898" h="2233">
                <a:moveTo>
                  <a:pt x="16049" y="5407"/>
                </a:moveTo>
                <a:cubicBezTo>
                  <a:pt x="16002" y="5500"/>
                  <a:pt x="15943" y="5585"/>
                  <a:pt x="15900" y="5680"/>
                </a:cubicBezTo>
                <a:cubicBezTo>
                  <a:pt x="15827" y="5842"/>
                  <a:pt x="15750" y="6030"/>
                  <a:pt x="15701" y="6201"/>
                </a:cubicBezTo>
                <a:cubicBezTo>
                  <a:pt x="15637" y="6424"/>
                  <a:pt x="15664" y="6694"/>
                  <a:pt x="15701" y="6921"/>
                </a:cubicBezTo>
                <a:cubicBezTo>
                  <a:pt x="15727" y="7080"/>
                  <a:pt x="15790" y="7231"/>
                  <a:pt x="15875" y="7367"/>
                </a:cubicBezTo>
                <a:cubicBezTo>
                  <a:pt x="15923" y="7438"/>
                  <a:pt x="15936" y="7461"/>
                  <a:pt x="15999" y="7466"/>
                </a:cubicBezTo>
              </a:path>
              <a:path w="9898" h="2233">
                <a:moveTo>
                  <a:pt x="16123" y="6325"/>
                </a:moveTo>
                <a:cubicBezTo>
                  <a:pt x="16297" y="6325"/>
                  <a:pt x="16470" y="6325"/>
                  <a:pt x="16644" y="6325"/>
                </a:cubicBezTo>
              </a:path>
              <a:path w="9898" h="2233">
                <a:moveTo>
                  <a:pt x="17041" y="5953"/>
                </a:moveTo>
                <a:cubicBezTo>
                  <a:pt x="17170" y="5965"/>
                  <a:pt x="17267" y="5978"/>
                  <a:pt x="17388" y="5978"/>
                </a:cubicBezTo>
              </a:path>
              <a:path w="9898" h="2233">
                <a:moveTo>
                  <a:pt x="16867" y="6077"/>
                </a:moveTo>
                <a:cubicBezTo>
                  <a:pt x="16795" y="6208"/>
                  <a:pt x="16746" y="6260"/>
                  <a:pt x="16793" y="6400"/>
                </a:cubicBezTo>
                <a:cubicBezTo>
                  <a:pt x="16852" y="6370"/>
                  <a:pt x="16906" y="6324"/>
                  <a:pt x="16966" y="6300"/>
                </a:cubicBezTo>
                <a:cubicBezTo>
                  <a:pt x="17071" y="6258"/>
                  <a:pt x="17112" y="6276"/>
                  <a:pt x="17190" y="6350"/>
                </a:cubicBezTo>
                <a:cubicBezTo>
                  <a:pt x="17255" y="6412"/>
                  <a:pt x="17323" y="6507"/>
                  <a:pt x="17338" y="6598"/>
                </a:cubicBezTo>
                <a:cubicBezTo>
                  <a:pt x="17357" y="6717"/>
                  <a:pt x="17288" y="6771"/>
                  <a:pt x="17214" y="6846"/>
                </a:cubicBezTo>
                <a:cubicBezTo>
                  <a:pt x="17132" y="6929"/>
                  <a:pt x="17031" y="6942"/>
                  <a:pt x="16917" y="6945"/>
                </a:cubicBezTo>
                <a:cubicBezTo>
                  <a:pt x="16827" y="6948"/>
                  <a:pt x="16775" y="6937"/>
                  <a:pt x="16694" y="6921"/>
                </a:cubicBezTo>
              </a:path>
              <a:path w="9898" h="2233">
                <a:moveTo>
                  <a:pt x="18033" y="5854"/>
                </a:moveTo>
                <a:cubicBezTo>
                  <a:pt x="17944" y="6096"/>
                  <a:pt x="17861" y="6325"/>
                  <a:pt x="17735" y="6548"/>
                </a:cubicBezTo>
                <a:cubicBezTo>
                  <a:pt x="17648" y="6702"/>
                  <a:pt x="17583" y="6871"/>
                  <a:pt x="17487" y="7020"/>
                </a:cubicBezTo>
                <a:cubicBezTo>
                  <a:pt x="17436" y="7098"/>
                  <a:pt x="17371" y="7170"/>
                  <a:pt x="17314" y="7243"/>
                </a:cubicBezTo>
              </a:path>
              <a:path w="9898" h="2233">
                <a:moveTo>
                  <a:pt x="18083" y="6350"/>
                </a:moveTo>
                <a:cubicBezTo>
                  <a:pt x="18022" y="6441"/>
                  <a:pt x="17985" y="6497"/>
                  <a:pt x="17909" y="6573"/>
                </a:cubicBezTo>
                <a:cubicBezTo>
                  <a:pt x="18000" y="6625"/>
                  <a:pt x="18077" y="6623"/>
                  <a:pt x="18182" y="6623"/>
                </a:cubicBezTo>
                <a:cubicBezTo>
                  <a:pt x="18304" y="6623"/>
                  <a:pt x="18409" y="6606"/>
                  <a:pt x="18504" y="6548"/>
                </a:cubicBezTo>
              </a:path>
              <a:path w="9898" h="2233">
                <a:moveTo>
                  <a:pt x="18455" y="6028"/>
                </a:moveTo>
                <a:cubicBezTo>
                  <a:pt x="18415" y="6235"/>
                  <a:pt x="18360" y="6438"/>
                  <a:pt x="18355" y="6648"/>
                </a:cubicBezTo>
                <a:cubicBezTo>
                  <a:pt x="18350" y="6829"/>
                  <a:pt x="18355" y="7011"/>
                  <a:pt x="18355" y="7193"/>
                </a:cubicBezTo>
              </a:path>
              <a:path w="9898" h="2233">
                <a:moveTo>
                  <a:pt x="18430" y="5333"/>
                </a:moveTo>
                <a:cubicBezTo>
                  <a:pt x="18583" y="5555"/>
                  <a:pt x="18734" y="5773"/>
                  <a:pt x="18827" y="6028"/>
                </a:cubicBezTo>
                <a:cubicBezTo>
                  <a:pt x="18900" y="6228"/>
                  <a:pt x="18942" y="6484"/>
                  <a:pt x="18926" y="6697"/>
                </a:cubicBezTo>
                <a:cubicBezTo>
                  <a:pt x="18913" y="6874"/>
                  <a:pt x="18844" y="7091"/>
                  <a:pt x="18752" y="7243"/>
                </a:cubicBezTo>
                <a:cubicBezTo>
                  <a:pt x="18691" y="7344"/>
                  <a:pt x="18590" y="7425"/>
                  <a:pt x="18554" y="7541"/>
                </a:cubicBezTo>
                <a:cubicBezTo>
                  <a:pt x="18554" y="7549"/>
                  <a:pt x="18554" y="7557"/>
                  <a:pt x="18554" y="7565"/>
                </a:cubicBezTo>
              </a:path>
              <a:path w="9898" h="2233">
                <a:moveTo>
                  <a:pt x="19224" y="6424"/>
                </a:moveTo>
                <a:cubicBezTo>
                  <a:pt x="19340" y="6424"/>
                  <a:pt x="19455" y="6424"/>
                  <a:pt x="19571" y="6424"/>
                </a:cubicBezTo>
              </a:path>
              <a:path w="9898" h="2233">
                <a:moveTo>
                  <a:pt x="19323" y="6722"/>
                </a:moveTo>
                <a:cubicBezTo>
                  <a:pt x="19453" y="6763"/>
                  <a:pt x="19537" y="6788"/>
                  <a:pt x="19670" y="6796"/>
                </a:cubicBezTo>
              </a:path>
              <a:path w="9898" h="2233">
                <a:moveTo>
                  <a:pt x="19943" y="6127"/>
                </a:moveTo>
                <a:cubicBezTo>
                  <a:pt x="20114" y="6108"/>
                  <a:pt x="20206" y="6121"/>
                  <a:pt x="20365" y="6127"/>
                </a:cubicBezTo>
                <a:cubicBezTo>
                  <a:pt x="20390" y="6127"/>
                  <a:pt x="20414" y="6127"/>
                  <a:pt x="20439" y="6127"/>
                </a:cubicBezTo>
              </a:path>
              <a:path w="9898" h="2233">
                <a:moveTo>
                  <a:pt x="21084" y="5829"/>
                </a:moveTo>
                <a:cubicBezTo>
                  <a:pt x="21217" y="5842"/>
                  <a:pt x="21326" y="5854"/>
                  <a:pt x="21456" y="5854"/>
                </a:cubicBezTo>
              </a:path>
              <a:path w="9898" h="2233">
                <a:moveTo>
                  <a:pt x="21010" y="5879"/>
                </a:moveTo>
                <a:cubicBezTo>
                  <a:pt x="20949" y="5963"/>
                  <a:pt x="20860" y="6068"/>
                  <a:pt x="20836" y="6176"/>
                </a:cubicBezTo>
                <a:cubicBezTo>
                  <a:pt x="20823" y="6233"/>
                  <a:pt x="20839" y="6281"/>
                  <a:pt x="20861" y="6325"/>
                </a:cubicBezTo>
                <a:cubicBezTo>
                  <a:pt x="20869" y="6261"/>
                  <a:pt x="20890" y="6160"/>
                  <a:pt x="20960" y="6127"/>
                </a:cubicBezTo>
                <a:cubicBezTo>
                  <a:pt x="21013" y="6102"/>
                  <a:pt x="21127" y="6190"/>
                  <a:pt x="21158" y="6226"/>
                </a:cubicBezTo>
                <a:cubicBezTo>
                  <a:pt x="21242" y="6323"/>
                  <a:pt x="21293" y="6471"/>
                  <a:pt x="21307" y="6598"/>
                </a:cubicBezTo>
                <a:cubicBezTo>
                  <a:pt x="21322" y="6733"/>
                  <a:pt x="21301" y="6863"/>
                  <a:pt x="21208" y="6970"/>
                </a:cubicBezTo>
                <a:cubicBezTo>
                  <a:pt x="21148" y="7039"/>
                  <a:pt x="21032" y="7023"/>
                  <a:pt x="20960" y="6995"/>
                </a:cubicBezTo>
                <a:cubicBezTo>
                  <a:pt x="20896" y="6970"/>
                  <a:pt x="20890" y="6929"/>
                  <a:pt x="20861" y="6871"/>
                </a:cubicBezTo>
              </a:path>
              <a:path w="9898" h="2233">
                <a:moveTo>
                  <a:pt x="21654" y="5904"/>
                </a:moveTo>
                <a:cubicBezTo>
                  <a:pt x="21713" y="6059"/>
                  <a:pt x="21704" y="6181"/>
                  <a:pt x="21704" y="6350"/>
                </a:cubicBezTo>
                <a:cubicBezTo>
                  <a:pt x="21704" y="6490"/>
                  <a:pt x="21700" y="6636"/>
                  <a:pt x="21729" y="6772"/>
                </a:cubicBezTo>
                <a:cubicBezTo>
                  <a:pt x="21745" y="6844"/>
                  <a:pt x="21754" y="6895"/>
                  <a:pt x="21754" y="6970"/>
                </a:cubicBezTo>
              </a:path>
              <a:path w="9898" h="2233">
                <a:moveTo>
                  <a:pt x="22051" y="5928"/>
                </a:moveTo>
                <a:cubicBezTo>
                  <a:pt x="22072" y="6033"/>
                  <a:pt x="22091" y="6040"/>
                  <a:pt x="22200" y="6003"/>
                </a:cubicBezTo>
                <a:cubicBezTo>
                  <a:pt x="22281" y="5976"/>
                  <a:pt x="22296" y="5949"/>
                  <a:pt x="22324" y="5879"/>
                </a:cubicBezTo>
                <a:cubicBezTo>
                  <a:pt x="22338" y="5845"/>
                  <a:pt x="22348" y="5763"/>
                  <a:pt x="22275" y="5779"/>
                </a:cubicBezTo>
                <a:cubicBezTo>
                  <a:pt x="22202" y="5803"/>
                  <a:pt x="22178" y="5812"/>
                  <a:pt x="22126" y="58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Ink 6"/>
          <p:cNvSpPr/>
          <p:nvPr/>
        </p:nvSpPr>
        <p:spPr>
          <a:xfrm>
            <a:off x="2581200" y="3187800"/>
            <a:ext cx="17640" cy="428400"/>
          </a:xfrm>
          <a:custGeom>
            <a:avLst/>
            <a:gdLst/>
            <a:ahLst/>
            <a:rect l="l" t="t" r="r" b="b"/>
            <a:pathLst>
              <a:path w="50" h="1192">
                <a:moveTo>
                  <a:pt x="7193" y="8855"/>
                </a:moveTo>
                <a:cubicBezTo>
                  <a:pt x="7193" y="9032"/>
                  <a:pt x="7181" y="9201"/>
                  <a:pt x="7169" y="9376"/>
                </a:cubicBezTo>
                <a:cubicBezTo>
                  <a:pt x="7157" y="9559"/>
                  <a:pt x="7170" y="9744"/>
                  <a:pt x="7193" y="9922"/>
                </a:cubicBezTo>
                <a:cubicBezTo>
                  <a:pt x="7193" y="9981"/>
                  <a:pt x="7196" y="10007"/>
                  <a:pt x="7218" y="100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Ink 7"/>
          <p:cNvSpPr/>
          <p:nvPr/>
        </p:nvSpPr>
        <p:spPr>
          <a:xfrm>
            <a:off x="2786040" y="3295800"/>
            <a:ext cx="44640" cy="268200"/>
          </a:xfrm>
          <a:custGeom>
            <a:avLst/>
            <a:gdLst/>
            <a:ahLst/>
            <a:rect l="l" t="t" r="r" b="b"/>
            <a:pathLst>
              <a:path w="125" h="745">
                <a:moveTo>
                  <a:pt x="7789" y="9153"/>
                </a:moveTo>
                <a:cubicBezTo>
                  <a:pt x="7760" y="9360"/>
                  <a:pt x="7710" y="9567"/>
                  <a:pt x="7764" y="9773"/>
                </a:cubicBezTo>
                <a:cubicBezTo>
                  <a:pt x="7785" y="9853"/>
                  <a:pt x="7803" y="9872"/>
                  <a:pt x="7863" y="98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Ink 8"/>
          <p:cNvSpPr/>
          <p:nvPr/>
        </p:nvSpPr>
        <p:spPr>
          <a:xfrm>
            <a:off x="3027240" y="3241800"/>
            <a:ext cx="27000" cy="250560"/>
          </a:xfrm>
          <a:custGeom>
            <a:avLst/>
            <a:gdLst/>
            <a:ahLst/>
            <a:rect l="l" t="t" r="r" b="b"/>
            <a:pathLst>
              <a:path w="75" h="696">
                <a:moveTo>
                  <a:pt x="8434" y="9004"/>
                </a:moveTo>
                <a:cubicBezTo>
                  <a:pt x="8434" y="9132"/>
                  <a:pt x="8413" y="9249"/>
                  <a:pt x="8409" y="9376"/>
                </a:cubicBezTo>
                <a:cubicBezTo>
                  <a:pt x="8407" y="9442"/>
                  <a:pt x="8417" y="9563"/>
                  <a:pt x="8434" y="9624"/>
                </a:cubicBezTo>
                <a:cubicBezTo>
                  <a:pt x="8448" y="9674"/>
                  <a:pt x="8451" y="9688"/>
                  <a:pt x="8483" y="96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Ink 9"/>
          <p:cNvSpPr/>
          <p:nvPr/>
        </p:nvSpPr>
        <p:spPr>
          <a:xfrm>
            <a:off x="3330720" y="3224160"/>
            <a:ext cx="27000" cy="285840"/>
          </a:xfrm>
          <a:custGeom>
            <a:avLst/>
            <a:gdLst/>
            <a:ahLst/>
            <a:rect l="l" t="t" r="r" b="b"/>
            <a:pathLst>
              <a:path w="76" h="795">
                <a:moveTo>
                  <a:pt x="9252" y="8954"/>
                </a:moveTo>
                <a:cubicBezTo>
                  <a:pt x="9252" y="9143"/>
                  <a:pt x="9231" y="9342"/>
                  <a:pt x="9277" y="9525"/>
                </a:cubicBezTo>
                <a:cubicBezTo>
                  <a:pt x="9304" y="9632"/>
                  <a:pt x="9314" y="9673"/>
                  <a:pt x="9327" y="97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Ink 10"/>
          <p:cNvSpPr/>
          <p:nvPr/>
        </p:nvSpPr>
        <p:spPr>
          <a:xfrm>
            <a:off x="2232000" y="3375000"/>
            <a:ext cx="1982880" cy="1143000"/>
          </a:xfrm>
          <a:custGeom>
            <a:avLst/>
            <a:gdLst/>
            <a:ahLst/>
            <a:rect l="l" t="t" r="r" b="b"/>
            <a:pathLst>
              <a:path w="5508" h="3176">
                <a:moveTo>
                  <a:pt x="6276" y="9922"/>
                </a:moveTo>
                <a:cubicBezTo>
                  <a:pt x="6409" y="9877"/>
                  <a:pt x="6555" y="9897"/>
                  <a:pt x="6697" y="9897"/>
                </a:cubicBezTo>
                <a:cubicBezTo>
                  <a:pt x="6788" y="9897"/>
                  <a:pt x="6813" y="9897"/>
                  <a:pt x="6871" y="9897"/>
                </a:cubicBezTo>
              </a:path>
              <a:path w="5508" h="3176">
                <a:moveTo>
                  <a:pt x="6201" y="10269"/>
                </a:moveTo>
                <a:cubicBezTo>
                  <a:pt x="6495" y="10269"/>
                  <a:pt x="6806" y="10239"/>
                  <a:pt x="7094" y="10294"/>
                </a:cubicBezTo>
              </a:path>
              <a:path w="5508" h="3176">
                <a:moveTo>
                  <a:pt x="6276" y="10567"/>
                </a:moveTo>
                <a:cubicBezTo>
                  <a:pt x="6492" y="10567"/>
                  <a:pt x="6734" y="10543"/>
                  <a:pt x="6945" y="10592"/>
                </a:cubicBezTo>
                <a:cubicBezTo>
                  <a:pt x="6978" y="10608"/>
                  <a:pt x="7012" y="10625"/>
                  <a:pt x="7045" y="10641"/>
                </a:cubicBezTo>
              </a:path>
              <a:path w="5508" h="3176">
                <a:moveTo>
                  <a:pt x="6350" y="10889"/>
                </a:moveTo>
                <a:cubicBezTo>
                  <a:pt x="6480" y="10900"/>
                  <a:pt x="6616" y="10898"/>
                  <a:pt x="6747" y="10914"/>
                </a:cubicBezTo>
                <a:cubicBezTo>
                  <a:pt x="6854" y="10941"/>
                  <a:pt x="6895" y="10951"/>
                  <a:pt x="6970" y="10964"/>
                </a:cubicBezTo>
              </a:path>
              <a:path w="5508" h="3176">
                <a:moveTo>
                  <a:pt x="6325" y="11485"/>
                </a:moveTo>
                <a:cubicBezTo>
                  <a:pt x="6567" y="11522"/>
                  <a:pt x="6805" y="11561"/>
                  <a:pt x="7045" y="11609"/>
                </a:cubicBezTo>
              </a:path>
              <a:path w="5508" h="3176">
                <a:moveTo>
                  <a:pt x="6449" y="9376"/>
                </a:moveTo>
                <a:cubicBezTo>
                  <a:pt x="6512" y="9415"/>
                  <a:pt x="6582" y="9448"/>
                  <a:pt x="6648" y="9500"/>
                </a:cubicBezTo>
                <a:cubicBezTo>
                  <a:pt x="6745" y="9576"/>
                  <a:pt x="6834" y="9660"/>
                  <a:pt x="6921" y="9748"/>
                </a:cubicBezTo>
                <a:cubicBezTo>
                  <a:pt x="7044" y="9872"/>
                  <a:pt x="7191" y="9951"/>
                  <a:pt x="7317" y="10071"/>
                </a:cubicBezTo>
                <a:cubicBezTo>
                  <a:pt x="7504" y="10250"/>
                  <a:pt x="7705" y="10410"/>
                  <a:pt x="7888" y="10592"/>
                </a:cubicBezTo>
                <a:cubicBezTo>
                  <a:pt x="8095" y="10798"/>
                  <a:pt x="8299" y="11007"/>
                  <a:pt x="8508" y="11212"/>
                </a:cubicBezTo>
                <a:cubicBezTo>
                  <a:pt x="8744" y="11444"/>
                  <a:pt x="9004" y="11662"/>
                  <a:pt x="9227" y="11906"/>
                </a:cubicBezTo>
                <a:cubicBezTo>
                  <a:pt x="9347" y="12037"/>
                  <a:pt x="9437" y="12164"/>
                  <a:pt x="9575" y="12278"/>
                </a:cubicBezTo>
                <a:cubicBezTo>
                  <a:pt x="9606" y="12303"/>
                  <a:pt x="9587" y="12263"/>
                  <a:pt x="9624" y="12278"/>
                </a:cubicBezTo>
              </a:path>
              <a:path w="5508" h="3176">
                <a:moveTo>
                  <a:pt x="9302" y="11460"/>
                </a:moveTo>
                <a:cubicBezTo>
                  <a:pt x="9285" y="11443"/>
                  <a:pt x="9269" y="11427"/>
                  <a:pt x="9252" y="11410"/>
                </a:cubicBezTo>
                <a:cubicBezTo>
                  <a:pt x="9262" y="11516"/>
                  <a:pt x="9291" y="11567"/>
                  <a:pt x="9351" y="11658"/>
                </a:cubicBezTo>
                <a:cubicBezTo>
                  <a:pt x="9450" y="11810"/>
                  <a:pt x="9529" y="11975"/>
                  <a:pt x="9624" y="12129"/>
                </a:cubicBezTo>
                <a:cubicBezTo>
                  <a:pt x="9693" y="12242"/>
                  <a:pt x="9743" y="12368"/>
                  <a:pt x="9798" y="12477"/>
                </a:cubicBezTo>
                <a:cubicBezTo>
                  <a:pt x="9828" y="12507"/>
                  <a:pt x="9839" y="12521"/>
                  <a:pt x="9847" y="12551"/>
                </a:cubicBezTo>
                <a:cubicBezTo>
                  <a:pt x="9804" y="12497"/>
                  <a:pt x="9790" y="12457"/>
                  <a:pt x="9723" y="12427"/>
                </a:cubicBezTo>
                <a:cubicBezTo>
                  <a:pt x="9452" y="12307"/>
                  <a:pt x="9174" y="12244"/>
                  <a:pt x="8905" y="12129"/>
                </a:cubicBezTo>
                <a:cubicBezTo>
                  <a:pt x="8815" y="12085"/>
                  <a:pt x="8792" y="12072"/>
                  <a:pt x="8731" y="12055"/>
                </a:cubicBezTo>
              </a:path>
              <a:path w="5508" h="3176">
                <a:moveTo>
                  <a:pt x="10145" y="9699"/>
                </a:moveTo>
                <a:cubicBezTo>
                  <a:pt x="10266" y="9721"/>
                  <a:pt x="10295" y="9761"/>
                  <a:pt x="10269" y="9897"/>
                </a:cubicBezTo>
                <a:cubicBezTo>
                  <a:pt x="10214" y="10189"/>
                  <a:pt x="10045" y="10443"/>
                  <a:pt x="9947" y="10716"/>
                </a:cubicBezTo>
                <a:cubicBezTo>
                  <a:pt x="9883" y="10893"/>
                  <a:pt x="9808" y="11045"/>
                  <a:pt x="9723" y="11212"/>
                </a:cubicBezTo>
                <a:cubicBezTo>
                  <a:pt x="9674" y="11307"/>
                  <a:pt x="9643" y="11404"/>
                  <a:pt x="9575" y="11485"/>
                </a:cubicBezTo>
                <a:cubicBezTo>
                  <a:pt x="9551" y="11514"/>
                  <a:pt x="9521" y="11518"/>
                  <a:pt x="9500" y="11534"/>
                </a:cubicBezTo>
              </a:path>
              <a:path w="5508" h="3176">
                <a:moveTo>
                  <a:pt x="9426" y="11212"/>
                </a:moveTo>
                <a:cubicBezTo>
                  <a:pt x="9426" y="11315"/>
                  <a:pt x="9437" y="11387"/>
                  <a:pt x="9451" y="11485"/>
                </a:cubicBezTo>
                <a:cubicBezTo>
                  <a:pt x="9464" y="11574"/>
                  <a:pt x="9494" y="11647"/>
                  <a:pt x="9525" y="11733"/>
                </a:cubicBezTo>
                <a:cubicBezTo>
                  <a:pt x="9615" y="11699"/>
                  <a:pt x="9622" y="11644"/>
                  <a:pt x="9674" y="11559"/>
                </a:cubicBezTo>
                <a:cubicBezTo>
                  <a:pt x="9721" y="11481"/>
                  <a:pt x="9783" y="11425"/>
                  <a:pt x="9847" y="11361"/>
                </a:cubicBezTo>
              </a:path>
              <a:path w="5508" h="3176">
                <a:moveTo>
                  <a:pt x="10195" y="10790"/>
                </a:moveTo>
                <a:cubicBezTo>
                  <a:pt x="10277" y="10818"/>
                  <a:pt x="10356" y="10836"/>
                  <a:pt x="10443" y="10840"/>
                </a:cubicBezTo>
                <a:cubicBezTo>
                  <a:pt x="10459" y="10840"/>
                  <a:pt x="10476" y="10840"/>
                  <a:pt x="10492" y="10840"/>
                </a:cubicBezTo>
              </a:path>
              <a:path w="5508" h="3176">
                <a:moveTo>
                  <a:pt x="10840" y="10567"/>
                </a:moveTo>
                <a:cubicBezTo>
                  <a:pt x="10940" y="10567"/>
                  <a:pt x="11018" y="10580"/>
                  <a:pt x="11112" y="10592"/>
                </a:cubicBezTo>
              </a:path>
              <a:path w="5508" h="3176">
                <a:moveTo>
                  <a:pt x="10765" y="10567"/>
                </a:moveTo>
                <a:cubicBezTo>
                  <a:pt x="10697" y="10616"/>
                  <a:pt x="10658" y="10659"/>
                  <a:pt x="10716" y="10740"/>
                </a:cubicBezTo>
                <a:cubicBezTo>
                  <a:pt x="10761" y="10803"/>
                  <a:pt x="10893" y="10747"/>
                  <a:pt x="10964" y="10790"/>
                </a:cubicBezTo>
                <a:cubicBezTo>
                  <a:pt x="11029" y="10829"/>
                  <a:pt x="11077" y="10940"/>
                  <a:pt x="11063" y="11013"/>
                </a:cubicBezTo>
                <a:cubicBezTo>
                  <a:pt x="11050" y="11083"/>
                  <a:pt x="10984" y="11150"/>
                  <a:pt x="10914" y="11162"/>
                </a:cubicBezTo>
                <a:cubicBezTo>
                  <a:pt x="10850" y="11173"/>
                  <a:pt x="10699" y="11202"/>
                  <a:pt x="10641" y="11162"/>
                </a:cubicBezTo>
                <a:cubicBezTo>
                  <a:pt x="10604" y="11137"/>
                  <a:pt x="10557" y="11031"/>
                  <a:pt x="10567" y="10988"/>
                </a:cubicBezTo>
                <a:cubicBezTo>
                  <a:pt x="10575" y="10972"/>
                  <a:pt x="10584" y="10955"/>
                  <a:pt x="10592" y="10939"/>
                </a:cubicBezTo>
              </a:path>
              <a:path w="5508" h="3176">
                <a:moveTo>
                  <a:pt x="11261" y="10567"/>
                </a:moveTo>
                <a:cubicBezTo>
                  <a:pt x="11226" y="10741"/>
                  <a:pt x="11187" y="10889"/>
                  <a:pt x="11187" y="11063"/>
                </a:cubicBezTo>
                <a:cubicBezTo>
                  <a:pt x="11187" y="11110"/>
                  <a:pt x="11181" y="11226"/>
                  <a:pt x="11212" y="11261"/>
                </a:cubicBezTo>
                <a:cubicBezTo>
                  <a:pt x="11220" y="11261"/>
                  <a:pt x="11229" y="11261"/>
                  <a:pt x="11237" y="11261"/>
                </a:cubicBezTo>
              </a:path>
              <a:path w="5508" h="3176">
                <a:moveTo>
                  <a:pt x="11559" y="10492"/>
                </a:moveTo>
                <a:cubicBezTo>
                  <a:pt x="11518" y="10492"/>
                  <a:pt x="11510" y="10492"/>
                  <a:pt x="11485" y="10492"/>
                </a:cubicBezTo>
                <a:cubicBezTo>
                  <a:pt x="11563" y="10572"/>
                  <a:pt x="11582" y="10594"/>
                  <a:pt x="11658" y="10517"/>
                </a:cubicBezTo>
                <a:cubicBezTo>
                  <a:pt x="11688" y="10487"/>
                  <a:pt x="11699" y="10473"/>
                  <a:pt x="11708" y="10443"/>
                </a:cubicBezTo>
                <a:cubicBezTo>
                  <a:pt x="11661" y="10408"/>
                  <a:pt x="11613" y="10377"/>
                  <a:pt x="11559" y="103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Ink 11"/>
          <p:cNvSpPr/>
          <p:nvPr/>
        </p:nvSpPr>
        <p:spPr>
          <a:xfrm>
            <a:off x="5126040" y="3143160"/>
            <a:ext cx="2768760" cy="731880"/>
          </a:xfrm>
          <a:custGeom>
            <a:avLst/>
            <a:gdLst/>
            <a:ahLst/>
            <a:rect l="l" t="t" r="r" b="b"/>
            <a:pathLst>
              <a:path w="7690" h="2035">
                <a:moveTo>
                  <a:pt x="14238" y="9376"/>
                </a:moveTo>
                <a:cubicBezTo>
                  <a:pt x="14371" y="9605"/>
                  <a:pt x="14470" y="9879"/>
                  <a:pt x="14511" y="10145"/>
                </a:cubicBezTo>
                <a:cubicBezTo>
                  <a:pt x="14533" y="10289"/>
                  <a:pt x="14533" y="10445"/>
                  <a:pt x="14536" y="10592"/>
                </a:cubicBezTo>
                <a:cubicBezTo>
                  <a:pt x="14536" y="10674"/>
                  <a:pt x="14536" y="10691"/>
                  <a:pt x="14536" y="10740"/>
                </a:cubicBezTo>
                <a:cubicBezTo>
                  <a:pt x="14536" y="10661"/>
                  <a:pt x="14536" y="10646"/>
                  <a:pt x="14536" y="10567"/>
                </a:cubicBezTo>
                <a:cubicBezTo>
                  <a:pt x="14536" y="9965"/>
                  <a:pt x="14478" y="9321"/>
                  <a:pt x="14560" y="8731"/>
                </a:cubicBezTo>
                <a:cubicBezTo>
                  <a:pt x="14665" y="8741"/>
                  <a:pt x="14732" y="8768"/>
                  <a:pt x="14833" y="8781"/>
                </a:cubicBezTo>
                <a:cubicBezTo>
                  <a:pt x="16325" y="8969"/>
                  <a:pt x="18105" y="8384"/>
                  <a:pt x="19546" y="8806"/>
                </a:cubicBezTo>
                <a:cubicBezTo>
                  <a:pt x="19740" y="8863"/>
                  <a:pt x="19502" y="8838"/>
                  <a:pt x="19496" y="8855"/>
                </a:cubicBezTo>
              </a:path>
              <a:path w="7690" h="2035">
                <a:moveTo>
                  <a:pt x="15255" y="9451"/>
                </a:moveTo>
                <a:cubicBezTo>
                  <a:pt x="15212" y="9580"/>
                  <a:pt x="15161" y="9659"/>
                  <a:pt x="15106" y="9773"/>
                </a:cubicBezTo>
                <a:cubicBezTo>
                  <a:pt x="15059" y="9871"/>
                  <a:pt x="15028" y="9897"/>
                  <a:pt x="15081" y="9971"/>
                </a:cubicBezTo>
                <a:cubicBezTo>
                  <a:pt x="15153" y="9918"/>
                  <a:pt x="15235" y="9906"/>
                  <a:pt x="15329" y="9897"/>
                </a:cubicBezTo>
                <a:cubicBezTo>
                  <a:pt x="15435" y="9887"/>
                  <a:pt x="15479" y="9863"/>
                  <a:pt x="15577" y="9823"/>
                </a:cubicBezTo>
              </a:path>
              <a:path w="7690" h="2035">
                <a:moveTo>
                  <a:pt x="15627" y="9302"/>
                </a:moveTo>
                <a:cubicBezTo>
                  <a:pt x="15556" y="9514"/>
                  <a:pt x="15530" y="9701"/>
                  <a:pt x="15503" y="9922"/>
                </a:cubicBezTo>
                <a:cubicBezTo>
                  <a:pt x="15482" y="10095"/>
                  <a:pt x="15457" y="10268"/>
                  <a:pt x="15453" y="10443"/>
                </a:cubicBezTo>
                <a:cubicBezTo>
                  <a:pt x="15451" y="10531"/>
                  <a:pt x="15418" y="10713"/>
                  <a:pt x="15503" y="10691"/>
                </a:cubicBezTo>
                <a:cubicBezTo>
                  <a:pt x="15531" y="10636"/>
                  <a:pt x="15539" y="10613"/>
                  <a:pt x="15528" y="10567"/>
                </a:cubicBezTo>
              </a:path>
              <a:path w="7690" h="2035">
                <a:moveTo>
                  <a:pt x="15850" y="9178"/>
                </a:moveTo>
                <a:cubicBezTo>
                  <a:pt x="15993" y="9264"/>
                  <a:pt x="16083" y="9290"/>
                  <a:pt x="16049" y="9475"/>
                </a:cubicBezTo>
                <a:cubicBezTo>
                  <a:pt x="16026" y="9601"/>
                  <a:pt x="15957" y="9571"/>
                  <a:pt x="15900" y="9624"/>
                </a:cubicBezTo>
                <a:cubicBezTo>
                  <a:pt x="15836" y="9683"/>
                  <a:pt x="15868" y="9627"/>
                  <a:pt x="15776" y="9599"/>
                </a:cubicBezTo>
                <a:cubicBezTo>
                  <a:pt x="15768" y="9599"/>
                  <a:pt x="15759" y="9599"/>
                  <a:pt x="15751" y="9599"/>
                </a:cubicBezTo>
                <a:cubicBezTo>
                  <a:pt x="15793" y="9495"/>
                  <a:pt x="15791" y="9500"/>
                  <a:pt x="15900" y="9500"/>
                </a:cubicBezTo>
                <a:cubicBezTo>
                  <a:pt x="15983" y="9500"/>
                  <a:pt x="16068" y="9528"/>
                  <a:pt x="16148" y="9550"/>
                </a:cubicBezTo>
              </a:path>
              <a:path w="7690" h="2035">
                <a:moveTo>
                  <a:pt x="16594" y="9674"/>
                </a:moveTo>
                <a:cubicBezTo>
                  <a:pt x="16594" y="9897"/>
                  <a:pt x="16594" y="10121"/>
                  <a:pt x="16594" y="10344"/>
                </a:cubicBezTo>
              </a:path>
              <a:path w="7690" h="2035">
                <a:moveTo>
                  <a:pt x="16346" y="10046"/>
                </a:moveTo>
                <a:cubicBezTo>
                  <a:pt x="16450" y="9965"/>
                  <a:pt x="16511" y="9971"/>
                  <a:pt x="16644" y="9971"/>
                </a:cubicBezTo>
              </a:path>
              <a:path w="7690" h="2035">
                <a:moveTo>
                  <a:pt x="17115" y="9401"/>
                </a:moveTo>
                <a:cubicBezTo>
                  <a:pt x="17060" y="9581"/>
                  <a:pt x="16952" y="9803"/>
                  <a:pt x="16942" y="9996"/>
                </a:cubicBezTo>
                <a:cubicBezTo>
                  <a:pt x="16933" y="10169"/>
                  <a:pt x="16935" y="10390"/>
                  <a:pt x="17115" y="10492"/>
                </a:cubicBezTo>
                <a:cubicBezTo>
                  <a:pt x="17165" y="10492"/>
                  <a:pt x="17181" y="10492"/>
                  <a:pt x="17214" y="10492"/>
                </a:cubicBezTo>
              </a:path>
              <a:path w="7690" h="2035">
                <a:moveTo>
                  <a:pt x="17190" y="9922"/>
                </a:moveTo>
                <a:cubicBezTo>
                  <a:pt x="17332" y="9888"/>
                  <a:pt x="17446" y="9854"/>
                  <a:pt x="17587" y="9823"/>
                </a:cubicBezTo>
              </a:path>
              <a:path w="7690" h="2035">
                <a:moveTo>
                  <a:pt x="18033" y="9500"/>
                </a:moveTo>
                <a:cubicBezTo>
                  <a:pt x="18184" y="9500"/>
                  <a:pt x="18207" y="9521"/>
                  <a:pt x="18281" y="9475"/>
                </a:cubicBezTo>
              </a:path>
              <a:path w="7690" h="2035">
                <a:moveTo>
                  <a:pt x="18008" y="9451"/>
                </a:moveTo>
                <a:cubicBezTo>
                  <a:pt x="17849" y="9528"/>
                  <a:pt x="17589" y="9584"/>
                  <a:pt x="17835" y="9748"/>
                </a:cubicBezTo>
                <a:cubicBezTo>
                  <a:pt x="17927" y="9809"/>
                  <a:pt x="18033" y="9854"/>
                  <a:pt x="18132" y="9897"/>
                </a:cubicBezTo>
                <a:cubicBezTo>
                  <a:pt x="18254" y="9949"/>
                  <a:pt x="18276" y="9985"/>
                  <a:pt x="18281" y="10120"/>
                </a:cubicBezTo>
                <a:cubicBezTo>
                  <a:pt x="18285" y="10233"/>
                  <a:pt x="18248" y="10284"/>
                  <a:pt x="18157" y="10344"/>
                </a:cubicBezTo>
                <a:cubicBezTo>
                  <a:pt x="18074" y="10398"/>
                  <a:pt x="17991" y="10356"/>
                  <a:pt x="17909" y="10344"/>
                </a:cubicBezTo>
                <a:cubicBezTo>
                  <a:pt x="17821" y="10331"/>
                  <a:pt x="17752" y="10213"/>
                  <a:pt x="17735" y="10120"/>
                </a:cubicBezTo>
                <a:cubicBezTo>
                  <a:pt x="17735" y="10095"/>
                  <a:pt x="17735" y="10071"/>
                  <a:pt x="17735" y="10046"/>
                </a:cubicBezTo>
              </a:path>
              <a:path w="7690" h="2035">
                <a:moveTo>
                  <a:pt x="18281" y="9227"/>
                </a:moveTo>
                <a:cubicBezTo>
                  <a:pt x="18447" y="9496"/>
                  <a:pt x="18567" y="9658"/>
                  <a:pt x="18579" y="9971"/>
                </a:cubicBezTo>
                <a:cubicBezTo>
                  <a:pt x="18585" y="10136"/>
                  <a:pt x="18594" y="10335"/>
                  <a:pt x="18529" y="10492"/>
                </a:cubicBezTo>
                <a:cubicBezTo>
                  <a:pt x="18484" y="10602"/>
                  <a:pt x="18440" y="10641"/>
                  <a:pt x="18331" y="10641"/>
                </a:cubicBezTo>
                <a:cubicBezTo>
                  <a:pt x="18240" y="10641"/>
                  <a:pt x="18263" y="10593"/>
                  <a:pt x="18256" y="10517"/>
                </a:cubicBezTo>
              </a:path>
              <a:path w="7690" h="2035">
                <a:moveTo>
                  <a:pt x="18430" y="9153"/>
                </a:moveTo>
                <a:cubicBezTo>
                  <a:pt x="18496" y="9153"/>
                  <a:pt x="18761" y="9097"/>
                  <a:pt x="18752" y="9252"/>
                </a:cubicBezTo>
                <a:cubicBezTo>
                  <a:pt x="18748" y="9324"/>
                  <a:pt x="18727" y="9364"/>
                  <a:pt x="18678" y="9401"/>
                </a:cubicBezTo>
                <a:cubicBezTo>
                  <a:pt x="18703" y="9489"/>
                  <a:pt x="18753" y="9496"/>
                  <a:pt x="18852" y="9500"/>
                </a:cubicBezTo>
                <a:cubicBezTo>
                  <a:pt x="18935" y="9500"/>
                  <a:pt x="18969" y="9502"/>
                  <a:pt x="19025" y="9525"/>
                </a:cubicBezTo>
              </a:path>
              <a:path w="7690" h="2035">
                <a:moveTo>
                  <a:pt x="19546" y="9897"/>
                </a:moveTo>
                <a:cubicBezTo>
                  <a:pt x="19620" y="9897"/>
                  <a:pt x="19695" y="9897"/>
                  <a:pt x="19769" y="9897"/>
                </a:cubicBezTo>
              </a:path>
              <a:path w="7690" h="2035">
                <a:moveTo>
                  <a:pt x="19546" y="10046"/>
                </a:moveTo>
                <a:cubicBezTo>
                  <a:pt x="19736" y="10046"/>
                  <a:pt x="19777" y="10046"/>
                  <a:pt x="19893" y="10046"/>
                </a:cubicBezTo>
              </a:path>
              <a:path w="7690" h="2035">
                <a:moveTo>
                  <a:pt x="20191" y="9674"/>
                </a:moveTo>
                <a:cubicBezTo>
                  <a:pt x="20191" y="9844"/>
                  <a:pt x="20210" y="9979"/>
                  <a:pt x="20241" y="10145"/>
                </a:cubicBezTo>
                <a:cubicBezTo>
                  <a:pt x="20267" y="10285"/>
                  <a:pt x="20303" y="10427"/>
                  <a:pt x="20315" y="10567"/>
                </a:cubicBezTo>
                <a:cubicBezTo>
                  <a:pt x="20292" y="10476"/>
                  <a:pt x="20284" y="10435"/>
                  <a:pt x="20265" y="10344"/>
                </a:cubicBezTo>
                <a:cubicBezTo>
                  <a:pt x="20233" y="10193"/>
                  <a:pt x="20241" y="10046"/>
                  <a:pt x="20216" y="9897"/>
                </a:cubicBezTo>
                <a:cubicBezTo>
                  <a:pt x="20192" y="9756"/>
                  <a:pt x="20191" y="9620"/>
                  <a:pt x="20191" y="9475"/>
                </a:cubicBezTo>
                <a:cubicBezTo>
                  <a:pt x="20191" y="9328"/>
                  <a:pt x="20193" y="9211"/>
                  <a:pt x="20315" y="9103"/>
                </a:cubicBezTo>
                <a:cubicBezTo>
                  <a:pt x="20421" y="9009"/>
                  <a:pt x="20581" y="9007"/>
                  <a:pt x="20712" y="9004"/>
                </a:cubicBezTo>
                <a:cubicBezTo>
                  <a:pt x="20922" y="9000"/>
                  <a:pt x="21151" y="8980"/>
                  <a:pt x="21357" y="9029"/>
                </a:cubicBezTo>
                <a:cubicBezTo>
                  <a:pt x="21524" y="9069"/>
                  <a:pt x="21684" y="9083"/>
                  <a:pt x="21853" y="9103"/>
                </a:cubicBezTo>
                <a:cubicBezTo>
                  <a:pt x="21898" y="9103"/>
                  <a:pt x="21911" y="9107"/>
                  <a:pt x="21927" y="9079"/>
                </a:cubicBezTo>
              </a:path>
              <a:path w="7690" h="2035">
                <a:moveTo>
                  <a:pt x="20861" y="9302"/>
                </a:moveTo>
                <a:cubicBezTo>
                  <a:pt x="20813" y="9359"/>
                  <a:pt x="20634" y="9529"/>
                  <a:pt x="20638" y="9624"/>
                </a:cubicBezTo>
                <a:cubicBezTo>
                  <a:pt x="20643" y="9737"/>
                  <a:pt x="20723" y="9862"/>
                  <a:pt x="20836" y="9897"/>
                </a:cubicBezTo>
                <a:cubicBezTo>
                  <a:pt x="20944" y="9930"/>
                  <a:pt x="21069" y="9892"/>
                  <a:pt x="21158" y="9847"/>
                </a:cubicBezTo>
              </a:path>
              <a:path w="7690" h="2035">
                <a:moveTo>
                  <a:pt x="20960" y="9376"/>
                </a:moveTo>
                <a:cubicBezTo>
                  <a:pt x="20890" y="9558"/>
                  <a:pt x="20841" y="9699"/>
                  <a:pt x="20861" y="9897"/>
                </a:cubicBezTo>
                <a:cubicBezTo>
                  <a:pt x="20877" y="10048"/>
                  <a:pt x="20920" y="10196"/>
                  <a:pt x="20935" y="10344"/>
                </a:cubicBezTo>
                <a:cubicBezTo>
                  <a:pt x="20943" y="10419"/>
                  <a:pt x="20948" y="10530"/>
                  <a:pt x="20985" y="10567"/>
                </a:cubicBezTo>
              </a:path>
              <a:path w="7690" h="2035">
                <a:moveTo>
                  <a:pt x="21382" y="9327"/>
                </a:moveTo>
                <a:cubicBezTo>
                  <a:pt x="21372" y="9619"/>
                  <a:pt x="21343" y="9977"/>
                  <a:pt x="21431" y="10269"/>
                </a:cubicBezTo>
                <a:cubicBezTo>
                  <a:pt x="21478" y="10425"/>
                  <a:pt x="21554" y="10582"/>
                  <a:pt x="21605" y="107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Ink 12"/>
          <p:cNvSpPr/>
          <p:nvPr/>
        </p:nvSpPr>
        <p:spPr>
          <a:xfrm>
            <a:off x="1330200" y="3321000"/>
            <a:ext cx="3402000" cy="63720"/>
          </a:xfrm>
          <a:custGeom>
            <a:avLst/>
            <a:gdLst/>
            <a:ahLst/>
            <a:rect l="l" t="t" r="r" b="b"/>
            <a:pathLst>
              <a:path w="9451" h="175">
                <a:moveTo>
                  <a:pt x="3696" y="9302"/>
                </a:moveTo>
                <a:cubicBezTo>
                  <a:pt x="3757" y="9281"/>
                  <a:pt x="3751" y="9241"/>
                  <a:pt x="3845" y="9227"/>
                </a:cubicBezTo>
                <a:cubicBezTo>
                  <a:pt x="4001" y="9205"/>
                  <a:pt x="4189" y="9227"/>
                  <a:pt x="4341" y="9252"/>
                </a:cubicBezTo>
                <a:cubicBezTo>
                  <a:pt x="4519" y="9281"/>
                  <a:pt x="4678" y="9296"/>
                  <a:pt x="4862" y="9302"/>
                </a:cubicBezTo>
                <a:cubicBezTo>
                  <a:pt x="6220" y="9346"/>
                  <a:pt x="7577" y="9302"/>
                  <a:pt x="8930" y="9376"/>
                </a:cubicBezTo>
                <a:cubicBezTo>
                  <a:pt x="10264" y="9449"/>
                  <a:pt x="11689" y="9447"/>
                  <a:pt x="13022" y="9401"/>
                </a:cubicBezTo>
                <a:cubicBezTo>
                  <a:pt x="13072" y="9399"/>
                  <a:pt x="13097" y="9380"/>
                  <a:pt x="13146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Ink 13"/>
          <p:cNvSpPr/>
          <p:nvPr/>
        </p:nvSpPr>
        <p:spPr>
          <a:xfrm>
            <a:off x="2313000" y="2214720"/>
            <a:ext cx="44280" cy="2679480"/>
          </a:xfrm>
          <a:custGeom>
            <a:avLst/>
            <a:gdLst/>
            <a:ahLst/>
            <a:rect l="l" t="t" r="r" b="b"/>
            <a:pathLst>
              <a:path w="125" h="7442">
                <a:moveTo>
                  <a:pt x="6449" y="6152"/>
                </a:moveTo>
                <a:cubicBezTo>
                  <a:pt x="6435" y="6261"/>
                  <a:pt x="6426" y="6361"/>
                  <a:pt x="6424" y="6474"/>
                </a:cubicBezTo>
                <a:cubicBezTo>
                  <a:pt x="6418" y="6831"/>
                  <a:pt x="6436" y="7185"/>
                  <a:pt x="6449" y="7541"/>
                </a:cubicBezTo>
                <a:cubicBezTo>
                  <a:pt x="6466" y="7979"/>
                  <a:pt x="6496" y="8417"/>
                  <a:pt x="6524" y="8855"/>
                </a:cubicBezTo>
                <a:cubicBezTo>
                  <a:pt x="6564" y="9483"/>
                  <a:pt x="6548" y="10111"/>
                  <a:pt x="6548" y="10740"/>
                </a:cubicBezTo>
                <a:cubicBezTo>
                  <a:pt x="6548" y="11336"/>
                  <a:pt x="6510" y="11930"/>
                  <a:pt x="6499" y="12526"/>
                </a:cubicBezTo>
                <a:cubicBezTo>
                  <a:pt x="6492" y="12886"/>
                  <a:pt x="6478" y="13235"/>
                  <a:pt x="6449" y="135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fd293"/>
                </a:solidFill>
                <a:latin typeface="Arial"/>
              </a:rPr>
              <a:t>Homework:</a:t>
            </a:r>
            <a:br>
              <a:rPr sz="6500"/>
            </a:br>
            <a:r>
              <a:rPr b="0" lang="en-US" sz="6500" spc="-1" strike="noStrike">
                <a:solidFill>
                  <a:srgbClr val="dfd293"/>
                </a:solidFill>
                <a:latin typeface="Arial"/>
              </a:rPr>
              <a:t>Pages 453-454</a:t>
            </a:r>
            <a:br>
              <a:rPr sz="6500"/>
            </a:br>
            <a:r>
              <a:rPr b="0" lang="en-US" sz="6500" spc="-1" strike="noStrike">
                <a:solidFill>
                  <a:srgbClr val="dfd293"/>
                </a:solidFill>
                <a:latin typeface="Arial"/>
              </a:rPr>
              <a:t>#25,33,37,39,45,51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(no sketching needed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4" name="Picture 5" descr="handygraph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362320"/>
            <a:ext cx="3862440" cy="3962160"/>
          </a:xfrm>
          <a:prstGeom prst="rect">
            <a:avLst/>
          </a:prstGeom>
          <a:ln w="0">
            <a:noFill/>
          </a:ln>
        </p:spPr>
      </p:pic>
      <p:sp>
        <p:nvSpPr>
          <p:cNvPr id="45" name="Ink 6"/>
          <p:cNvSpPr/>
          <p:nvPr/>
        </p:nvSpPr>
        <p:spPr>
          <a:xfrm>
            <a:off x="473040" y="1874880"/>
            <a:ext cx="214200" cy="376200"/>
          </a:xfrm>
          <a:custGeom>
            <a:avLst/>
            <a:gdLst/>
            <a:ahLst/>
            <a:rect l="l" t="t" r="r" b="b"/>
            <a:pathLst>
              <a:path w="596" h="1043">
                <a:moveTo>
                  <a:pt x="1414" y="5283"/>
                </a:moveTo>
                <a:cubicBezTo>
                  <a:pt x="1414" y="5380"/>
                  <a:pt x="1401" y="5467"/>
                  <a:pt x="1389" y="5556"/>
                </a:cubicBezTo>
                <a:cubicBezTo>
                  <a:pt x="1378" y="5643"/>
                  <a:pt x="1370" y="5684"/>
                  <a:pt x="1315" y="5755"/>
                </a:cubicBezTo>
                <a:cubicBezTo>
                  <a:pt x="1355" y="5779"/>
                  <a:pt x="1436" y="5798"/>
                  <a:pt x="1488" y="5779"/>
                </a:cubicBezTo>
                <a:cubicBezTo>
                  <a:pt x="1540" y="5760"/>
                  <a:pt x="1610" y="5775"/>
                  <a:pt x="1662" y="5755"/>
                </a:cubicBezTo>
                <a:cubicBezTo>
                  <a:pt x="1692" y="5725"/>
                  <a:pt x="1706" y="5714"/>
                  <a:pt x="1736" y="5705"/>
                </a:cubicBezTo>
              </a:path>
              <a:path w="596" h="1043">
                <a:moveTo>
                  <a:pt x="1637" y="5209"/>
                </a:moveTo>
                <a:cubicBezTo>
                  <a:pt x="1637" y="5556"/>
                  <a:pt x="1637" y="5904"/>
                  <a:pt x="1637" y="6251"/>
                </a:cubicBezTo>
              </a:path>
              <a:path w="596" h="1043">
                <a:moveTo>
                  <a:pt x="1860" y="6052"/>
                </a:moveTo>
                <a:cubicBezTo>
                  <a:pt x="1860" y="6070"/>
                  <a:pt x="1847" y="6289"/>
                  <a:pt x="1910" y="6176"/>
                </a:cubicBezTo>
                <a:cubicBezTo>
                  <a:pt x="1950" y="6104"/>
                  <a:pt x="1884" y="6115"/>
                  <a:pt x="1860" y="61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Ink 7"/>
          <p:cNvSpPr/>
          <p:nvPr/>
        </p:nvSpPr>
        <p:spPr>
          <a:xfrm>
            <a:off x="1160640" y="1517760"/>
            <a:ext cx="3482640" cy="839520"/>
          </a:xfrm>
          <a:custGeom>
            <a:avLst/>
            <a:gdLst/>
            <a:ahLst/>
            <a:rect l="l" t="t" r="r" b="b"/>
            <a:pathLst>
              <a:path w="9674" h="2332">
                <a:moveTo>
                  <a:pt x="3671" y="4539"/>
                </a:moveTo>
                <a:cubicBezTo>
                  <a:pt x="3671" y="4652"/>
                  <a:pt x="3655" y="4752"/>
                  <a:pt x="3646" y="4862"/>
                </a:cubicBezTo>
                <a:cubicBezTo>
                  <a:pt x="3625" y="5110"/>
                  <a:pt x="3651" y="5365"/>
                  <a:pt x="3621" y="5606"/>
                </a:cubicBezTo>
                <a:cubicBezTo>
                  <a:pt x="3614" y="5661"/>
                  <a:pt x="3621" y="5724"/>
                  <a:pt x="3621" y="5779"/>
                </a:cubicBezTo>
              </a:path>
              <a:path w="9674" h="2332">
                <a:moveTo>
                  <a:pt x="3225" y="5829"/>
                </a:moveTo>
                <a:cubicBezTo>
                  <a:pt x="3317" y="5798"/>
                  <a:pt x="3357" y="5825"/>
                  <a:pt x="3448" y="5829"/>
                </a:cubicBezTo>
                <a:cubicBezTo>
                  <a:pt x="3548" y="5833"/>
                  <a:pt x="3649" y="5822"/>
                  <a:pt x="3746" y="5804"/>
                </a:cubicBezTo>
                <a:cubicBezTo>
                  <a:pt x="3846" y="5785"/>
                  <a:pt x="3947" y="5745"/>
                  <a:pt x="4043" y="5730"/>
                </a:cubicBezTo>
                <a:cubicBezTo>
                  <a:pt x="4107" y="5720"/>
                  <a:pt x="4164" y="5712"/>
                  <a:pt x="4217" y="5680"/>
                </a:cubicBezTo>
              </a:path>
              <a:path w="9674" h="2332">
                <a:moveTo>
                  <a:pt x="3547" y="4564"/>
                </a:moveTo>
                <a:cubicBezTo>
                  <a:pt x="3646" y="4476"/>
                  <a:pt x="3726" y="4465"/>
                  <a:pt x="3845" y="4415"/>
                </a:cubicBezTo>
                <a:cubicBezTo>
                  <a:pt x="3956" y="4368"/>
                  <a:pt x="4071" y="4308"/>
                  <a:pt x="4192" y="4291"/>
                </a:cubicBezTo>
                <a:cubicBezTo>
                  <a:pt x="4255" y="4282"/>
                  <a:pt x="4350" y="4248"/>
                  <a:pt x="4415" y="4266"/>
                </a:cubicBezTo>
                <a:cubicBezTo>
                  <a:pt x="4432" y="4274"/>
                  <a:pt x="4448" y="4283"/>
                  <a:pt x="4465" y="4291"/>
                </a:cubicBezTo>
              </a:path>
              <a:path w="9674" h="2332">
                <a:moveTo>
                  <a:pt x="4862" y="4316"/>
                </a:moveTo>
                <a:cubicBezTo>
                  <a:pt x="4854" y="4349"/>
                  <a:pt x="4845" y="4382"/>
                  <a:pt x="4837" y="4415"/>
                </a:cubicBezTo>
              </a:path>
              <a:path w="9674" h="2332">
                <a:moveTo>
                  <a:pt x="4787" y="4514"/>
                </a:moveTo>
                <a:cubicBezTo>
                  <a:pt x="4743" y="4646"/>
                  <a:pt x="4703" y="4778"/>
                  <a:pt x="4663" y="4911"/>
                </a:cubicBezTo>
                <a:cubicBezTo>
                  <a:pt x="4625" y="5037"/>
                  <a:pt x="4579" y="5150"/>
                  <a:pt x="4564" y="5283"/>
                </a:cubicBezTo>
                <a:cubicBezTo>
                  <a:pt x="4555" y="5360"/>
                  <a:pt x="4558" y="5438"/>
                  <a:pt x="4589" y="5507"/>
                </a:cubicBezTo>
                <a:cubicBezTo>
                  <a:pt x="4613" y="5559"/>
                  <a:pt x="4648" y="5591"/>
                  <a:pt x="4688" y="5631"/>
                </a:cubicBezTo>
              </a:path>
              <a:path w="9674" h="2332">
                <a:moveTo>
                  <a:pt x="5259" y="4787"/>
                </a:moveTo>
                <a:cubicBezTo>
                  <a:pt x="5235" y="4883"/>
                  <a:pt x="5212" y="4965"/>
                  <a:pt x="5184" y="5060"/>
                </a:cubicBezTo>
                <a:cubicBezTo>
                  <a:pt x="5148" y="5183"/>
                  <a:pt x="5114" y="5305"/>
                  <a:pt x="5110" y="5432"/>
                </a:cubicBezTo>
                <a:cubicBezTo>
                  <a:pt x="5107" y="5508"/>
                  <a:pt x="5091" y="5615"/>
                  <a:pt x="5135" y="5680"/>
                </a:cubicBezTo>
                <a:cubicBezTo>
                  <a:pt x="5197" y="5772"/>
                  <a:pt x="5300" y="5733"/>
                  <a:pt x="5358" y="5655"/>
                </a:cubicBezTo>
                <a:cubicBezTo>
                  <a:pt x="5408" y="5587"/>
                  <a:pt x="5429" y="5487"/>
                  <a:pt x="5432" y="5407"/>
                </a:cubicBezTo>
                <a:cubicBezTo>
                  <a:pt x="5436" y="5289"/>
                  <a:pt x="5423" y="5218"/>
                  <a:pt x="5383" y="5110"/>
                </a:cubicBezTo>
                <a:cubicBezTo>
                  <a:pt x="5351" y="5024"/>
                  <a:pt x="5297" y="4956"/>
                  <a:pt x="5234" y="4887"/>
                </a:cubicBezTo>
                <a:cubicBezTo>
                  <a:pt x="5210" y="4861"/>
                  <a:pt x="5184" y="4837"/>
                  <a:pt x="5159" y="4812"/>
                </a:cubicBezTo>
              </a:path>
              <a:path w="9674" h="2332">
                <a:moveTo>
                  <a:pt x="5705" y="5507"/>
                </a:moveTo>
                <a:cubicBezTo>
                  <a:pt x="5705" y="5642"/>
                  <a:pt x="5674" y="5707"/>
                  <a:pt x="5655" y="5829"/>
                </a:cubicBezTo>
                <a:cubicBezTo>
                  <a:pt x="5651" y="5854"/>
                  <a:pt x="5577" y="6041"/>
                  <a:pt x="5581" y="6052"/>
                </a:cubicBezTo>
                <a:cubicBezTo>
                  <a:pt x="5589" y="6044"/>
                  <a:pt x="5598" y="6036"/>
                  <a:pt x="5606" y="6028"/>
                </a:cubicBezTo>
              </a:path>
              <a:path w="9674" h="2332">
                <a:moveTo>
                  <a:pt x="6127" y="4862"/>
                </a:moveTo>
                <a:cubicBezTo>
                  <a:pt x="6143" y="4854"/>
                  <a:pt x="6160" y="4845"/>
                  <a:pt x="6176" y="4837"/>
                </a:cubicBezTo>
                <a:cubicBezTo>
                  <a:pt x="6150" y="4890"/>
                  <a:pt x="6112" y="4994"/>
                  <a:pt x="6102" y="5060"/>
                </a:cubicBezTo>
                <a:cubicBezTo>
                  <a:pt x="6087" y="5158"/>
                  <a:pt x="6063" y="5260"/>
                  <a:pt x="6052" y="5358"/>
                </a:cubicBezTo>
                <a:cubicBezTo>
                  <a:pt x="6045" y="5420"/>
                  <a:pt x="6066" y="5511"/>
                  <a:pt x="6102" y="5556"/>
                </a:cubicBezTo>
                <a:cubicBezTo>
                  <a:pt x="6110" y="5564"/>
                  <a:pt x="6119" y="5573"/>
                  <a:pt x="6127" y="5581"/>
                </a:cubicBezTo>
                <a:cubicBezTo>
                  <a:pt x="6229" y="5558"/>
                  <a:pt x="6270" y="5524"/>
                  <a:pt x="6325" y="5432"/>
                </a:cubicBezTo>
                <a:cubicBezTo>
                  <a:pt x="6372" y="5354"/>
                  <a:pt x="6372" y="5225"/>
                  <a:pt x="6375" y="5135"/>
                </a:cubicBezTo>
                <a:cubicBezTo>
                  <a:pt x="6379" y="5035"/>
                  <a:pt x="6337" y="4969"/>
                  <a:pt x="6251" y="4911"/>
                </a:cubicBezTo>
                <a:cubicBezTo>
                  <a:pt x="6201" y="4877"/>
                  <a:pt x="6150" y="4851"/>
                  <a:pt x="6102" y="4812"/>
                </a:cubicBezTo>
              </a:path>
              <a:path w="9674" h="2332">
                <a:moveTo>
                  <a:pt x="6697" y="4415"/>
                </a:moveTo>
                <a:cubicBezTo>
                  <a:pt x="6793" y="4511"/>
                  <a:pt x="6859" y="4592"/>
                  <a:pt x="6921" y="4713"/>
                </a:cubicBezTo>
                <a:cubicBezTo>
                  <a:pt x="6986" y="4840"/>
                  <a:pt x="7034" y="4990"/>
                  <a:pt x="7020" y="5135"/>
                </a:cubicBezTo>
                <a:cubicBezTo>
                  <a:pt x="7005" y="5294"/>
                  <a:pt x="6940" y="5440"/>
                  <a:pt x="6871" y="5581"/>
                </a:cubicBezTo>
                <a:cubicBezTo>
                  <a:pt x="6815" y="5696"/>
                  <a:pt x="6780" y="5813"/>
                  <a:pt x="6722" y="5928"/>
                </a:cubicBezTo>
                <a:cubicBezTo>
                  <a:pt x="6697" y="5978"/>
                  <a:pt x="6689" y="5995"/>
                  <a:pt x="6672" y="6028"/>
                </a:cubicBezTo>
              </a:path>
              <a:path w="9674" h="2332">
                <a:moveTo>
                  <a:pt x="8062" y="4266"/>
                </a:moveTo>
                <a:cubicBezTo>
                  <a:pt x="8108" y="4326"/>
                  <a:pt x="8149" y="4384"/>
                  <a:pt x="8136" y="4465"/>
                </a:cubicBezTo>
                <a:cubicBezTo>
                  <a:pt x="8116" y="4596"/>
                  <a:pt x="8094" y="4730"/>
                  <a:pt x="8062" y="4862"/>
                </a:cubicBezTo>
                <a:cubicBezTo>
                  <a:pt x="8028" y="5002"/>
                  <a:pt x="8014" y="5145"/>
                  <a:pt x="7987" y="5283"/>
                </a:cubicBezTo>
                <a:cubicBezTo>
                  <a:pt x="7969" y="5375"/>
                  <a:pt x="7944" y="5463"/>
                  <a:pt x="7938" y="5556"/>
                </a:cubicBezTo>
                <a:cubicBezTo>
                  <a:pt x="7938" y="5564"/>
                  <a:pt x="7938" y="5573"/>
                  <a:pt x="7938" y="5581"/>
                </a:cubicBezTo>
              </a:path>
              <a:path w="9674" h="2332">
                <a:moveTo>
                  <a:pt x="7565" y="4465"/>
                </a:moveTo>
                <a:cubicBezTo>
                  <a:pt x="7616" y="4440"/>
                  <a:pt x="7724" y="4398"/>
                  <a:pt x="7789" y="4390"/>
                </a:cubicBezTo>
                <a:cubicBezTo>
                  <a:pt x="7939" y="4370"/>
                  <a:pt x="8084" y="4326"/>
                  <a:pt x="8235" y="4291"/>
                </a:cubicBezTo>
                <a:cubicBezTo>
                  <a:pt x="8385" y="4256"/>
                  <a:pt x="8528" y="4222"/>
                  <a:pt x="8682" y="4217"/>
                </a:cubicBezTo>
                <a:cubicBezTo>
                  <a:pt x="8770" y="4214"/>
                  <a:pt x="8851" y="4207"/>
                  <a:pt x="8930" y="4242"/>
                </a:cubicBezTo>
                <a:cubicBezTo>
                  <a:pt x="8978" y="4265"/>
                  <a:pt x="8994" y="4272"/>
                  <a:pt x="8979" y="4316"/>
                </a:cubicBezTo>
              </a:path>
              <a:path w="9674" h="2332">
                <a:moveTo>
                  <a:pt x="9624" y="4390"/>
                </a:moveTo>
                <a:cubicBezTo>
                  <a:pt x="9649" y="4366"/>
                  <a:pt x="9658" y="4358"/>
                  <a:pt x="9674" y="4341"/>
                </a:cubicBezTo>
                <a:cubicBezTo>
                  <a:pt x="9580" y="4445"/>
                  <a:pt x="9535" y="4539"/>
                  <a:pt x="9475" y="4663"/>
                </a:cubicBezTo>
                <a:cubicBezTo>
                  <a:pt x="9408" y="4801"/>
                  <a:pt x="9345" y="4962"/>
                  <a:pt x="9302" y="5110"/>
                </a:cubicBezTo>
                <a:cubicBezTo>
                  <a:pt x="9250" y="5290"/>
                  <a:pt x="9232" y="5473"/>
                  <a:pt x="9203" y="5655"/>
                </a:cubicBezTo>
                <a:cubicBezTo>
                  <a:pt x="9184" y="5772"/>
                  <a:pt x="9185" y="5821"/>
                  <a:pt x="9203" y="5928"/>
                </a:cubicBezTo>
                <a:cubicBezTo>
                  <a:pt x="9217" y="6014"/>
                  <a:pt x="9218" y="5995"/>
                  <a:pt x="9302" y="6003"/>
                </a:cubicBezTo>
              </a:path>
              <a:path w="9674" h="2332">
                <a:moveTo>
                  <a:pt x="9872" y="4713"/>
                </a:moveTo>
                <a:cubicBezTo>
                  <a:pt x="9863" y="4815"/>
                  <a:pt x="9837" y="4914"/>
                  <a:pt x="9823" y="5011"/>
                </a:cubicBezTo>
                <a:cubicBezTo>
                  <a:pt x="9814" y="5071"/>
                  <a:pt x="9817" y="5124"/>
                  <a:pt x="9872" y="5159"/>
                </a:cubicBezTo>
                <a:cubicBezTo>
                  <a:pt x="9919" y="5189"/>
                  <a:pt x="10015" y="5200"/>
                  <a:pt x="10071" y="5184"/>
                </a:cubicBezTo>
                <a:cubicBezTo>
                  <a:pt x="10133" y="5167"/>
                  <a:pt x="10174" y="5125"/>
                  <a:pt x="10220" y="5085"/>
                </a:cubicBezTo>
              </a:path>
              <a:path w="9674" h="2332">
                <a:moveTo>
                  <a:pt x="10393" y="4465"/>
                </a:moveTo>
                <a:cubicBezTo>
                  <a:pt x="10376" y="4583"/>
                  <a:pt x="10330" y="4742"/>
                  <a:pt x="10344" y="4862"/>
                </a:cubicBezTo>
                <a:cubicBezTo>
                  <a:pt x="10361" y="5005"/>
                  <a:pt x="10368" y="5137"/>
                  <a:pt x="10368" y="5283"/>
                </a:cubicBezTo>
                <a:cubicBezTo>
                  <a:pt x="10368" y="5417"/>
                  <a:pt x="10344" y="5544"/>
                  <a:pt x="10344" y="5680"/>
                </a:cubicBezTo>
                <a:cubicBezTo>
                  <a:pt x="10344" y="5764"/>
                  <a:pt x="10308" y="5942"/>
                  <a:pt x="10319" y="6003"/>
                </a:cubicBezTo>
                <a:cubicBezTo>
                  <a:pt x="10341" y="6025"/>
                  <a:pt x="10350" y="6030"/>
                  <a:pt x="10344" y="6052"/>
                </a:cubicBezTo>
              </a:path>
              <a:path w="9674" h="2332">
                <a:moveTo>
                  <a:pt x="10740" y="5655"/>
                </a:moveTo>
                <a:cubicBezTo>
                  <a:pt x="10740" y="5818"/>
                  <a:pt x="10733" y="5969"/>
                  <a:pt x="10716" y="6127"/>
                </a:cubicBezTo>
                <a:cubicBezTo>
                  <a:pt x="10708" y="6201"/>
                  <a:pt x="10705" y="6256"/>
                  <a:pt x="10691" y="6325"/>
                </a:cubicBezTo>
              </a:path>
              <a:path w="9674" h="2332">
                <a:moveTo>
                  <a:pt x="10889" y="5308"/>
                </a:moveTo>
                <a:cubicBezTo>
                  <a:pt x="10981" y="5282"/>
                  <a:pt x="11077" y="5270"/>
                  <a:pt x="11162" y="5234"/>
                </a:cubicBezTo>
                <a:cubicBezTo>
                  <a:pt x="11217" y="5206"/>
                  <a:pt x="11240" y="5198"/>
                  <a:pt x="11286" y="5209"/>
                </a:cubicBezTo>
              </a:path>
              <a:path w="9674" h="2332">
                <a:moveTo>
                  <a:pt x="11584" y="4713"/>
                </a:moveTo>
                <a:cubicBezTo>
                  <a:pt x="11569" y="4659"/>
                  <a:pt x="11579" y="4611"/>
                  <a:pt x="11633" y="4564"/>
                </a:cubicBezTo>
                <a:cubicBezTo>
                  <a:pt x="11688" y="4516"/>
                  <a:pt x="11791" y="4539"/>
                  <a:pt x="11857" y="4539"/>
                </a:cubicBezTo>
                <a:cubicBezTo>
                  <a:pt x="11955" y="4539"/>
                  <a:pt x="12014" y="4557"/>
                  <a:pt x="12055" y="4663"/>
                </a:cubicBezTo>
                <a:cubicBezTo>
                  <a:pt x="12085" y="4742"/>
                  <a:pt x="12038" y="4842"/>
                  <a:pt x="12005" y="4911"/>
                </a:cubicBezTo>
                <a:cubicBezTo>
                  <a:pt x="11945" y="5036"/>
                  <a:pt x="11877" y="5163"/>
                  <a:pt x="11807" y="5283"/>
                </a:cubicBezTo>
                <a:cubicBezTo>
                  <a:pt x="11743" y="5392"/>
                  <a:pt x="11673" y="5497"/>
                  <a:pt x="11609" y="5606"/>
                </a:cubicBezTo>
                <a:cubicBezTo>
                  <a:pt x="11564" y="5681"/>
                  <a:pt x="11520" y="5716"/>
                  <a:pt x="11509" y="5804"/>
                </a:cubicBezTo>
                <a:cubicBezTo>
                  <a:pt x="11580" y="5828"/>
                  <a:pt x="11675" y="5788"/>
                  <a:pt x="11757" y="5755"/>
                </a:cubicBezTo>
                <a:cubicBezTo>
                  <a:pt x="11848" y="5718"/>
                  <a:pt x="11915" y="5665"/>
                  <a:pt x="12005" y="5631"/>
                </a:cubicBezTo>
                <a:cubicBezTo>
                  <a:pt x="12096" y="5596"/>
                  <a:pt x="12182" y="5574"/>
                  <a:pt x="12254" y="5507"/>
                </a:cubicBezTo>
                <a:cubicBezTo>
                  <a:pt x="12367" y="5402"/>
                  <a:pt x="12393" y="5370"/>
                  <a:pt x="12427" y="5234"/>
                </a:cubicBezTo>
                <a:cubicBezTo>
                  <a:pt x="12435" y="5209"/>
                  <a:pt x="12444" y="5184"/>
                  <a:pt x="12452" y="5159"/>
                </a:cubicBezTo>
              </a:path>
              <a:path w="9674" h="2332">
                <a:moveTo>
                  <a:pt x="12402" y="4390"/>
                </a:moveTo>
                <a:cubicBezTo>
                  <a:pt x="12447" y="4463"/>
                  <a:pt x="12507" y="4535"/>
                  <a:pt x="12576" y="4589"/>
                </a:cubicBezTo>
                <a:cubicBezTo>
                  <a:pt x="12700" y="4686"/>
                  <a:pt x="12715" y="4770"/>
                  <a:pt x="12774" y="4911"/>
                </a:cubicBezTo>
                <a:cubicBezTo>
                  <a:pt x="12836" y="5060"/>
                  <a:pt x="12882" y="5220"/>
                  <a:pt x="12898" y="5383"/>
                </a:cubicBezTo>
                <a:cubicBezTo>
                  <a:pt x="12914" y="5543"/>
                  <a:pt x="12896" y="5725"/>
                  <a:pt x="12849" y="5879"/>
                </a:cubicBezTo>
                <a:cubicBezTo>
                  <a:pt x="12800" y="6038"/>
                  <a:pt x="12757" y="6204"/>
                  <a:pt x="12675" y="6350"/>
                </a:cubicBezTo>
                <a:cubicBezTo>
                  <a:pt x="12634" y="6423"/>
                  <a:pt x="12577" y="6483"/>
                  <a:pt x="12526" y="65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nk 8"/>
          <p:cNvSpPr/>
          <p:nvPr/>
        </p:nvSpPr>
        <p:spPr>
          <a:xfrm>
            <a:off x="2232000" y="4205160"/>
            <a:ext cx="1285920" cy="669960"/>
          </a:xfrm>
          <a:custGeom>
            <a:avLst/>
            <a:gdLst/>
            <a:ahLst/>
            <a:rect l="l" t="t" r="r" b="b"/>
            <a:pathLst>
              <a:path w="3573" h="1861">
                <a:moveTo>
                  <a:pt x="9451" y="13022"/>
                </a:moveTo>
                <a:cubicBezTo>
                  <a:pt x="9533" y="13106"/>
                  <a:pt x="9616" y="13188"/>
                  <a:pt x="9699" y="13271"/>
                </a:cubicBezTo>
                <a:cubicBezTo>
                  <a:pt x="9707" y="13279"/>
                  <a:pt x="9715" y="13287"/>
                  <a:pt x="9723" y="13295"/>
                </a:cubicBezTo>
                <a:cubicBezTo>
                  <a:pt x="9695" y="13344"/>
                  <a:pt x="9698" y="13396"/>
                  <a:pt x="9674" y="13444"/>
                </a:cubicBezTo>
                <a:cubicBezTo>
                  <a:pt x="9656" y="13480"/>
                  <a:pt x="9633" y="13500"/>
                  <a:pt x="9624" y="13543"/>
                </a:cubicBezTo>
              </a:path>
              <a:path w="3573" h="1861">
                <a:moveTo>
                  <a:pt x="6201" y="11683"/>
                </a:moveTo>
                <a:cubicBezTo>
                  <a:pt x="6259" y="11705"/>
                  <a:pt x="6314" y="11722"/>
                  <a:pt x="6375" y="11757"/>
                </a:cubicBezTo>
                <a:cubicBezTo>
                  <a:pt x="6433" y="11790"/>
                  <a:pt x="6490" y="11822"/>
                  <a:pt x="6548" y="11857"/>
                </a:cubicBezTo>
                <a:cubicBezTo>
                  <a:pt x="6618" y="11899"/>
                  <a:pt x="6668" y="11947"/>
                  <a:pt x="6747" y="11981"/>
                </a:cubicBezTo>
                <a:cubicBezTo>
                  <a:pt x="6792" y="12000"/>
                  <a:pt x="6826" y="12035"/>
                  <a:pt x="6871" y="12055"/>
                </a:cubicBezTo>
                <a:cubicBezTo>
                  <a:pt x="6926" y="12079"/>
                  <a:pt x="6988" y="12109"/>
                  <a:pt x="7045" y="12129"/>
                </a:cubicBezTo>
                <a:cubicBezTo>
                  <a:pt x="7096" y="12147"/>
                  <a:pt x="7139" y="12175"/>
                  <a:pt x="7193" y="12204"/>
                </a:cubicBezTo>
                <a:cubicBezTo>
                  <a:pt x="7305" y="12264"/>
                  <a:pt x="7428" y="12328"/>
                  <a:pt x="7541" y="12378"/>
                </a:cubicBezTo>
                <a:cubicBezTo>
                  <a:pt x="7597" y="12403"/>
                  <a:pt x="7674" y="12428"/>
                  <a:pt x="7739" y="12452"/>
                </a:cubicBezTo>
                <a:cubicBezTo>
                  <a:pt x="7793" y="12472"/>
                  <a:pt x="7852" y="12502"/>
                  <a:pt x="7913" y="12526"/>
                </a:cubicBezTo>
                <a:cubicBezTo>
                  <a:pt x="7959" y="12544"/>
                  <a:pt x="8013" y="12583"/>
                  <a:pt x="8062" y="12601"/>
                </a:cubicBezTo>
                <a:cubicBezTo>
                  <a:pt x="8120" y="12623"/>
                  <a:pt x="8203" y="12656"/>
                  <a:pt x="8260" y="12675"/>
                </a:cubicBezTo>
                <a:cubicBezTo>
                  <a:pt x="8330" y="12698"/>
                  <a:pt x="8417" y="12730"/>
                  <a:pt x="8483" y="12750"/>
                </a:cubicBezTo>
                <a:cubicBezTo>
                  <a:pt x="8577" y="12778"/>
                  <a:pt x="8623" y="12813"/>
                  <a:pt x="8706" y="12849"/>
                </a:cubicBezTo>
                <a:cubicBezTo>
                  <a:pt x="8760" y="12872"/>
                  <a:pt x="8819" y="12893"/>
                  <a:pt x="8880" y="12923"/>
                </a:cubicBezTo>
                <a:cubicBezTo>
                  <a:pt x="8949" y="12957"/>
                  <a:pt x="9013" y="12966"/>
                  <a:pt x="9079" y="12998"/>
                </a:cubicBezTo>
                <a:cubicBezTo>
                  <a:pt x="9140" y="13027"/>
                  <a:pt x="9189" y="13069"/>
                  <a:pt x="9252" y="13097"/>
                </a:cubicBezTo>
                <a:cubicBezTo>
                  <a:pt x="9322" y="13128"/>
                  <a:pt x="9383" y="13165"/>
                  <a:pt x="9451" y="13196"/>
                </a:cubicBezTo>
                <a:cubicBezTo>
                  <a:pt x="9494" y="13215"/>
                  <a:pt x="9531" y="13252"/>
                  <a:pt x="9575" y="13271"/>
                </a:cubicBezTo>
                <a:cubicBezTo>
                  <a:pt x="9625" y="13292"/>
                  <a:pt x="9651" y="13315"/>
                  <a:pt x="9699" y="13345"/>
                </a:cubicBezTo>
                <a:cubicBezTo>
                  <a:pt x="9724" y="13361"/>
                  <a:pt x="9752" y="13382"/>
                  <a:pt x="9773" y="133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Ink 9"/>
          <p:cNvSpPr/>
          <p:nvPr/>
        </p:nvSpPr>
        <p:spPr>
          <a:xfrm>
            <a:off x="4840200" y="2473200"/>
            <a:ext cx="3143160" cy="2063880"/>
          </a:xfrm>
          <a:custGeom>
            <a:avLst/>
            <a:gdLst/>
            <a:ahLst/>
            <a:rect l="l" t="t" r="r" b="b"/>
            <a:pathLst>
              <a:path w="8732" h="5731">
                <a:moveTo>
                  <a:pt x="18405" y="8880"/>
                </a:moveTo>
                <a:cubicBezTo>
                  <a:pt x="18405" y="9009"/>
                  <a:pt x="18405" y="9126"/>
                  <a:pt x="18380" y="9252"/>
                </a:cubicBezTo>
                <a:cubicBezTo>
                  <a:pt x="18350" y="9402"/>
                  <a:pt x="18310" y="9548"/>
                  <a:pt x="18281" y="9699"/>
                </a:cubicBezTo>
                <a:cubicBezTo>
                  <a:pt x="18252" y="9849"/>
                  <a:pt x="18214" y="9996"/>
                  <a:pt x="18182" y="10145"/>
                </a:cubicBezTo>
                <a:cubicBezTo>
                  <a:pt x="18157" y="10263"/>
                  <a:pt x="18136" y="10377"/>
                  <a:pt x="18107" y="10492"/>
                </a:cubicBezTo>
              </a:path>
              <a:path w="8732" h="5731">
                <a:moveTo>
                  <a:pt x="18852" y="8062"/>
                </a:moveTo>
                <a:cubicBezTo>
                  <a:pt x="18906" y="8094"/>
                  <a:pt x="18958" y="8086"/>
                  <a:pt x="19025" y="8086"/>
                </a:cubicBezTo>
                <a:cubicBezTo>
                  <a:pt x="19149" y="8086"/>
                  <a:pt x="19273" y="8086"/>
                  <a:pt x="19397" y="8086"/>
                </a:cubicBezTo>
              </a:path>
              <a:path w="8732" h="5731">
                <a:moveTo>
                  <a:pt x="19769" y="7392"/>
                </a:moveTo>
                <a:cubicBezTo>
                  <a:pt x="19878" y="7307"/>
                  <a:pt x="19964" y="7240"/>
                  <a:pt x="20092" y="7193"/>
                </a:cubicBezTo>
                <a:cubicBezTo>
                  <a:pt x="20154" y="7170"/>
                  <a:pt x="20273" y="7113"/>
                  <a:pt x="20340" y="7119"/>
                </a:cubicBezTo>
                <a:cubicBezTo>
                  <a:pt x="20400" y="7125"/>
                  <a:pt x="20487" y="7152"/>
                  <a:pt x="20538" y="7169"/>
                </a:cubicBezTo>
                <a:cubicBezTo>
                  <a:pt x="20614" y="7194"/>
                  <a:pt x="20651" y="7266"/>
                  <a:pt x="20662" y="7342"/>
                </a:cubicBezTo>
                <a:cubicBezTo>
                  <a:pt x="20678" y="7446"/>
                  <a:pt x="20628" y="7494"/>
                  <a:pt x="20613" y="7590"/>
                </a:cubicBezTo>
                <a:cubicBezTo>
                  <a:pt x="20593" y="7723"/>
                  <a:pt x="20534" y="7819"/>
                  <a:pt x="20464" y="7938"/>
                </a:cubicBezTo>
                <a:cubicBezTo>
                  <a:pt x="20310" y="8197"/>
                  <a:pt x="20133" y="8466"/>
                  <a:pt x="19993" y="8731"/>
                </a:cubicBezTo>
                <a:cubicBezTo>
                  <a:pt x="19932" y="8847"/>
                  <a:pt x="19851" y="8962"/>
                  <a:pt x="19794" y="9079"/>
                </a:cubicBezTo>
                <a:cubicBezTo>
                  <a:pt x="19758" y="9154"/>
                  <a:pt x="19732" y="9228"/>
                  <a:pt x="19695" y="9302"/>
                </a:cubicBezTo>
                <a:cubicBezTo>
                  <a:pt x="19755" y="9302"/>
                  <a:pt x="19797" y="9339"/>
                  <a:pt x="19844" y="9302"/>
                </a:cubicBezTo>
                <a:cubicBezTo>
                  <a:pt x="19914" y="9248"/>
                  <a:pt x="19934" y="9252"/>
                  <a:pt x="20042" y="9252"/>
                </a:cubicBezTo>
                <a:cubicBezTo>
                  <a:pt x="20150" y="9252"/>
                  <a:pt x="20191" y="9294"/>
                  <a:pt x="20290" y="9302"/>
                </a:cubicBezTo>
                <a:cubicBezTo>
                  <a:pt x="20398" y="9310"/>
                  <a:pt x="20465" y="9350"/>
                  <a:pt x="20563" y="9376"/>
                </a:cubicBezTo>
                <a:cubicBezTo>
                  <a:pt x="20621" y="9376"/>
                  <a:pt x="20646" y="9376"/>
                  <a:pt x="20687" y="9376"/>
                </a:cubicBezTo>
              </a:path>
              <a:path w="8732" h="5731">
                <a:moveTo>
                  <a:pt x="20613" y="6871"/>
                </a:moveTo>
                <a:cubicBezTo>
                  <a:pt x="20700" y="6910"/>
                  <a:pt x="20782" y="6938"/>
                  <a:pt x="20861" y="6995"/>
                </a:cubicBezTo>
                <a:cubicBezTo>
                  <a:pt x="20951" y="7059"/>
                  <a:pt x="21029" y="7141"/>
                  <a:pt x="21109" y="7218"/>
                </a:cubicBezTo>
                <a:cubicBezTo>
                  <a:pt x="21206" y="7312"/>
                  <a:pt x="21301" y="7406"/>
                  <a:pt x="21406" y="7491"/>
                </a:cubicBezTo>
                <a:cubicBezTo>
                  <a:pt x="21523" y="7585"/>
                  <a:pt x="21636" y="7676"/>
                  <a:pt x="21754" y="7764"/>
                </a:cubicBezTo>
                <a:cubicBezTo>
                  <a:pt x="21842" y="7830"/>
                  <a:pt x="21894" y="7914"/>
                  <a:pt x="21977" y="7987"/>
                </a:cubicBezTo>
                <a:cubicBezTo>
                  <a:pt x="22024" y="8029"/>
                  <a:pt x="22088" y="8060"/>
                  <a:pt x="22126" y="8111"/>
                </a:cubicBezTo>
                <a:cubicBezTo>
                  <a:pt x="22172" y="8172"/>
                  <a:pt x="22179" y="8161"/>
                  <a:pt x="22126" y="8235"/>
                </a:cubicBezTo>
                <a:cubicBezTo>
                  <a:pt x="22073" y="8308"/>
                  <a:pt x="21965" y="8411"/>
                  <a:pt x="21903" y="8483"/>
                </a:cubicBezTo>
                <a:cubicBezTo>
                  <a:pt x="21737" y="8679"/>
                  <a:pt x="21576" y="8866"/>
                  <a:pt x="21431" y="9079"/>
                </a:cubicBezTo>
                <a:cubicBezTo>
                  <a:pt x="21245" y="9353"/>
                  <a:pt x="21064" y="9617"/>
                  <a:pt x="20886" y="9897"/>
                </a:cubicBezTo>
                <a:cubicBezTo>
                  <a:pt x="20853" y="9947"/>
                  <a:pt x="20819" y="9996"/>
                  <a:pt x="20786" y="10046"/>
                </a:cubicBezTo>
              </a:path>
              <a:path w="8732" h="5731">
                <a:moveTo>
                  <a:pt x="13444" y="11013"/>
                </a:moveTo>
                <a:cubicBezTo>
                  <a:pt x="13523" y="11004"/>
                  <a:pt x="13574" y="10972"/>
                  <a:pt x="13667" y="11013"/>
                </a:cubicBezTo>
                <a:cubicBezTo>
                  <a:pt x="13746" y="11047"/>
                  <a:pt x="13800" y="11114"/>
                  <a:pt x="13841" y="11187"/>
                </a:cubicBezTo>
                <a:cubicBezTo>
                  <a:pt x="13903" y="11298"/>
                  <a:pt x="13950" y="11429"/>
                  <a:pt x="13965" y="11559"/>
                </a:cubicBezTo>
                <a:cubicBezTo>
                  <a:pt x="13982" y="11712"/>
                  <a:pt x="13986" y="11876"/>
                  <a:pt x="13990" y="12030"/>
                </a:cubicBezTo>
                <a:cubicBezTo>
                  <a:pt x="13993" y="12164"/>
                  <a:pt x="13996" y="12295"/>
                  <a:pt x="14015" y="12427"/>
                </a:cubicBezTo>
                <a:cubicBezTo>
                  <a:pt x="14024" y="12492"/>
                  <a:pt x="14036" y="12536"/>
                  <a:pt x="14039" y="12601"/>
                </a:cubicBezTo>
                <a:cubicBezTo>
                  <a:pt x="14050" y="12477"/>
                  <a:pt x="14043" y="12380"/>
                  <a:pt x="14039" y="12254"/>
                </a:cubicBezTo>
                <a:cubicBezTo>
                  <a:pt x="14031" y="11971"/>
                  <a:pt x="14035" y="11690"/>
                  <a:pt x="14015" y="11410"/>
                </a:cubicBezTo>
                <a:cubicBezTo>
                  <a:pt x="14007" y="11302"/>
                  <a:pt x="13957" y="10876"/>
                  <a:pt x="14039" y="10790"/>
                </a:cubicBezTo>
                <a:cubicBezTo>
                  <a:pt x="14094" y="10733"/>
                  <a:pt x="14235" y="10766"/>
                  <a:pt x="14312" y="10765"/>
                </a:cubicBezTo>
                <a:cubicBezTo>
                  <a:pt x="14850" y="10757"/>
                  <a:pt x="15388" y="10740"/>
                  <a:pt x="15925" y="10740"/>
                </a:cubicBezTo>
                <a:cubicBezTo>
                  <a:pt x="16439" y="10740"/>
                  <a:pt x="16951" y="10738"/>
                  <a:pt x="17462" y="10765"/>
                </a:cubicBezTo>
                <a:cubicBezTo>
                  <a:pt x="17570" y="10771"/>
                  <a:pt x="18243" y="10765"/>
                  <a:pt x="18033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Ink 10"/>
          <p:cNvSpPr/>
          <p:nvPr/>
        </p:nvSpPr>
        <p:spPr>
          <a:xfrm>
            <a:off x="5429160" y="2500200"/>
            <a:ext cx="1000080" cy="1089000"/>
          </a:xfrm>
          <a:custGeom>
            <a:avLst/>
            <a:gdLst/>
            <a:ahLst/>
            <a:rect l="l" t="t" r="r" b="b"/>
            <a:pathLst>
              <a:path w="2779" h="3027">
                <a:moveTo>
                  <a:pt x="16619" y="6945"/>
                </a:moveTo>
                <a:cubicBezTo>
                  <a:pt x="16561" y="7024"/>
                  <a:pt x="16519" y="7103"/>
                  <a:pt x="16446" y="7169"/>
                </a:cubicBezTo>
                <a:cubicBezTo>
                  <a:pt x="16339" y="7266"/>
                  <a:pt x="16246" y="7357"/>
                  <a:pt x="16148" y="7466"/>
                </a:cubicBezTo>
                <a:cubicBezTo>
                  <a:pt x="16051" y="7574"/>
                  <a:pt x="15937" y="7673"/>
                  <a:pt x="15825" y="7764"/>
                </a:cubicBezTo>
                <a:cubicBezTo>
                  <a:pt x="15694" y="7871"/>
                  <a:pt x="15595" y="7989"/>
                  <a:pt x="15478" y="8111"/>
                </a:cubicBezTo>
                <a:cubicBezTo>
                  <a:pt x="15409" y="8183"/>
                  <a:pt x="15286" y="8262"/>
                  <a:pt x="15230" y="8334"/>
                </a:cubicBezTo>
                <a:cubicBezTo>
                  <a:pt x="15188" y="8388"/>
                  <a:pt x="15147" y="8440"/>
                  <a:pt x="15106" y="8483"/>
                </a:cubicBezTo>
                <a:cubicBezTo>
                  <a:pt x="15098" y="8491"/>
                  <a:pt x="15089" y="8500"/>
                  <a:pt x="15081" y="8508"/>
                </a:cubicBezTo>
                <a:cubicBezTo>
                  <a:pt x="15125" y="8534"/>
                  <a:pt x="15181" y="8555"/>
                  <a:pt x="15230" y="8582"/>
                </a:cubicBezTo>
                <a:cubicBezTo>
                  <a:pt x="15280" y="8610"/>
                  <a:pt x="15340" y="8672"/>
                  <a:pt x="15404" y="8706"/>
                </a:cubicBezTo>
                <a:cubicBezTo>
                  <a:pt x="15534" y="8776"/>
                  <a:pt x="15663" y="8866"/>
                  <a:pt x="15776" y="8954"/>
                </a:cubicBezTo>
                <a:cubicBezTo>
                  <a:pt x="15891" y="9044"/>
                  <a:pt x="15987" y="9158"/>
                  <a:pt x="16098" y="9252"/>
                </a:cubicBezTo>
                <a:cubicBezTo>
                  <a:pt x="16212" y="9348"/>
                  <a:pt x="16338" y="9422"/>
                  <a:pt x="16446" y="9525"/>
                </a:cubicBezTo>
                <a:cubicBezTo>
                  <a:pt x="16564" y="9638"/>
                  <a:pt x="16671" y="9781"/>
                  <a:pt x="16768" y="9897"/>
                </a:cubicBezTo>
                <a:cubicBezTo>
                  <a:pt x="16795" y="9929"/>
                  <a:pt x="16846" y="9952"/>
                  <a:pt x="16867" y="9971"/>
                </a:cubicBezTo>
              </a:path>
              <a:path w="2779" h="3027">
                <a:moveTo>
                  <a:pt x="17165" y="7714"/>
                </a:moveTo>
                <a:cubicBezTo>
                  <a:pt x="17157" y="7798"/>
                  <a:pt x="17142" y="7860"/>
                  <a:pt x="17115" y="7938"/>
                </a:cubicBezTo>
                <a:cubicBezTo>
                  <a:pt x="17085" y="8023"/>
                  <a:pt x="17078" y="8101"/>
                  <a:pt x="17041" y="8186"/>
                </a:cubicBezTo>
                <a:cubicBezTo>
                  <a:pt x="17033" y="8202"/>
                  <a:pt x="17024" y="8219"/>
                  <a:pt x="17016" y="8235"/>
                </a:cubicBezTo>
                <a:cubicBezTo>
                  <a:pt x="17067" y="8261"/>
                  <a:pt x="17153" y="8275"/>
                  <a:pt x="17214" y="8285"/>
                </a:cubicBezTo>
                <a:cubicBezTo>
                  <a:pt x="17339" y="8306"/>
                  <a:pt x="17524" y="8303"/>
                  <a:pt x="17636" y="8260"/>
                </a:cubicBezTo>
              </a:path>
              <a:path w="2779" h="3027">
                <a:moveTo>
                  <a:pt x="17859" y="7317"/>
                </a:moveTo>
                <a:cubicBezTo>
                  <a:pt x="17859" y="7510"/>
                  <a:pt x="17848" y="7697"/>
                  <a:pt x="17835" y="7888"/>
                </a:cubicBezTo>
                <a:cubicBezTo>
                  <a:pt x="17820" y="8110"/>
                  <a:pt x="17823" y="8337"/>
                  <a:pt x="17810" y="8558"/>
                </a:cubicBezTo>
                <a:cubicBezTo>
                  <a:pt x="17802" y="8706"/>
                  <a:pt x="17789" y="8856"/>
                  <a:pt x="17785" y="9004"/>
                </a:cubicBezTo>
                <a:cubicBezTo>
                  <a:pt x="17781" y="9153"/>
                  <a:pt x="17785" y="9302"/>
                  <a:pt x="17785" y="94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11"/>
          <p:cNvSpPr/>
          <p:nvPr/>
        </p:nvSpPr>
        <p:spPr>
          <a:xfrm>
            <a:off x="5232240" y="3963960"/>
            <a:ext cx="1465560" cy="546120"/>
          </a:xfrm>
          <a:custGeom>
            <a:avLst/>
            <a:gdLst/>
            <a:ahLst/>
            <a:rect l="l" t="t" r="r" b="b"/>
            <a:pathLst>
              <a:path w="4069" h="1514">
                <a:moveTo>
                  <a:pt x="14709" y="11237"/>
                </a:moveTo>
                <a:cubicBezTo>
                  <a:pt x="14673" y="11300"/>
                  <a:pt x="14670" y="11349"/>
                  <a:pt x="14635" y="11410"/>
                </a:cubicBezTo>
                <a:cubicBezTo>
                  <a:pt x="14610" y="11454"/>
                  <a:pt x="14549" y="11537"/>
                  <a:pt x="14536" y="11584"/>
                </a:cubicBezTo>
                <a:cubicBezTo>
                  <a:pt x="14508" y="11685"/>
                  <a:pt x="14653" y="11658"/>
                  <a:pt x="14709" y="11658"/>
                </a:cubicBezTo>
                <a:cubicBezTo>
                  <a:pt x="14795" y="11658"/>
                  <a:pt x="14859" y="11666"/>
                  <a:pt x="14932" y="11658"/>
                </a:cubicBezTo>
                <a:cubicBezTo>
                  <a:pt x="14949" y="11658"/>
                  <a:pt x="14965" y="11658"/>
                  <a:pt x="14982" y="11658"/>
                </a:cubicBezTo>
              </a:path>
              <a:path w="4069" h="1514">
                <a:moveTo>
                  <a:pt x="14982" y="11162"/>
                </a:moveTo>
                <a:cubicBezTo>
                  <a:pt x="14982" y="11617"/>
                  <a:pt x="14982" y="12882"/>
                  <a:pt x="14982" y="12427"/>
                </a:cubicBezTo>
              </a:path>
              <a:path w="4069" h="1514">
                <a:moveTo>
                  <a:pt x="15280" y="11088"/>
                </a:moveTo>
                <a:cubicBezTo>
                  <a:pt x="15401" y="11125"/>
                  <a:pt x="15459" y="11141"/>
                  <a:pt x="15478" y="11286"/>
                </a:cubicBezTo>
                <a:cubicBezTo>
                  <a:pt x="15495" y="11414"/>
                  <a:pt x="15467" y="11449"/>
                  <a:pt x="15404" y="11534"/>
                </a:cubicBezTo>
                <a:cubicBezTo>
                  <a:pt x="15369" y="11581"/>
                  <a:pt x="15306" y="11621"/>
                  <a:pt x="15230" y="11584"/>
                </a:cubicBezTo>
                <a:cubicBezTo>
                  <a:pt x="15169" y="11555"/>
                  <a:pt x="15163" y="11513"/>
                  <a:pt x="15156" y="11460"/>
                </a:cubicBezTo>
                <a:cubicBezTo>
                  <a:pt x="15253" y="11460"/>
                  <a:pt x="15315" y="11467"/>
                  <a:pt x="15404" y="11509"/>
                </a:cubicBezTo>
                <a:cubicBezTo>
                  <a:pt x="15450" y="11531"/>
                  <a:pt x="15484" y="11559"/>
                  <a:pt x="15528" y="11584"/>
                </a:cubicBezTo>
              </a:path>
              <a:path w="4069" h="1514">
                <a:moveTo>
                  <a:pt x="15850" y="11485"/>
                </a:moveTo>
                <a:cubicBezTo>
                  <a:pt x="15855" y="11634"/>
                  <a:pt x="15875" y="11761"/>
                  <a:pt x="15875" y="11906"/>
                </a:cubicBezTo>
                <a:cubicBezTo>
                  <a:pt x="15875" y="11964"/>
                  <a:pt x="15875" y="12022"/>
                  <a:pt x="15875" y="12080"/>
                </a:cubicBezTo>
              </a:path>
              <a:path w="4069" h="1514">
                <a:moveTo>
                  <a:pt x="15602" y="11658"/>
                </a:moveTo>
                <a:cubicBezTo>
                  <a:pt x="15660" y="11623"/>
                  <a:pt x="15709" y="11640"/>
                  <a:pt x="15776" y="11658"/>
                </a:cubicBezTo>
                <a:cubicBezTo>
                  <a:pt x="15857" y="11679"/>
                  <a:pt x="15914" y="11683"/>
                  <a:pt x="15999" y="11683"/>
                </a:cubicBezTo>
              </a:path>
              <a:path w="4069" h="1514">
                <a:moveTo>
                  <a:pt x="16495" y="11286"/>
                </a:moveTo>
                <a:cubicBezTo>
                  <a:pt x="16446" y="11386"/>
                  <a:pt x="16406" y="11479"/>
                  <a:pt x="16371" y="11584"/>
                </a:cubicBezTo>
                <a:cubicBezTo>
                  <a:pt x="16333" y="11697"/>
                  <a:pt x="16304" y="11810"/>
                  <a:pt x="16321" y="11931"/>
                </a:cubicBezTo>
                <a:cubicBezTo>
                  <a:pt x="16339" y="12052"/>
                  <a:pt x="16388" y="12173"/>
                  <a:pt x="16446" y="12278"/>
                </a:cubicBezTo>
                <a:cubicBezTo>
                  <a:pt x="16487" y="12353"/>
                  <a:pt x="16514" y="12386"/>
                  <a:pt x="16594" y="12402"/>
                </a:cubicBezTo>
              </a:path>
              <a:path w="4069" h="1514">
                <a:moveTo>
                  <a:pt x="16545" y="11733"/>
                </a:moveTo>
                <a:cubicBezTo>
                  <a:pt x="16644" y="11651"/>
                  <a:pt x="16646" y="11658"/>
                  <a:pt x="16768" y="11658"/>
                </a:cubicBezTo>
                <a:cubicBezTo>
                  <a:pt x="16785" y="11658"/>
                  <a:pt x="16801" y="11658"/>
                  <a:pt x="16818" y="11658"/>
                </a:cubicBezTo>
              </a:path>
              <a:path w="4069" h="1514">
                <a:moveTo>
                  <a:pt x="17016" y="11361"/>
                </a:moveTo>
                <a:cubicBezTo>
                  <a:pt x="17107" y="11369"/>
                  <a:pt x="17179" y="11381"/>
                  <a:pt x="17239" y="11460"/>
                </a:cubicBezTo>
                <a:cubicBezTo>
                  <a:pt x="17301" y="11541"/>
                  <a:pt x="17293" y="11622"/>
                  <a:pt x="17264" y="11708"/>
                </a:cubicBezTo>
                <a:cubicBezTo>
                  <a:pt x="17226" y="11820"/>
                  <a:pt x="17198" y="11873"/>
                  <a:pt x="17115" y="11956"/>
                </a:cubicBezTo>
                <a:cubicBezTo>
                  <a:pt x="17086" y="11985"/>
                  <a:pt x="16905" y="12121"/>
                  <a:pt x="16942" y="12179"/>
                </a:cubicBezTo>
                <a:cubicBezTo>
                  <a:pt x="17002" y="12274"/>
                  <a:pt x="17113" y="12274"/>
                  <a:pt x="17214" y="12278"/>
                </a:cubicBezTo>
                <a:cubicBezTo>
                  <a:pt x="17299" y="12282"/>
                  <a:pt x="17342" y="12245"/>
                  <a:pt x="17413" y="12204"/>
                </a:cubicBezTo>
              </a:path>
              <a:path w="4069" h="1514">
                <a:moveTo>
                  <a:pt x="17487" y="11286"/>
                </a:moveTo>
                <a:cubicBezTo>
                  <a:pt x="17471" y="11261"/>
                  <a:pt x="17454" y="11237"/>
                  <a:pt x="17438" y="11212"/>
                </a:cubicBezTo>
                <a:cubicBezTo>
                  <a:pt x="17521" y="11381"/>
                  <a:pt x="17631" y="11571"/>
                  <a:pt x="17661" y="11757"/>
                </a:cubicBezTo>
                <a:cubicBezTo>
                  <a:pt x="17683" y="11892"/>
                  <a:pt x="17705" y="12066"/>
                  <a:pt x="17686" y="12204"/>
                </a:cubicBezTo>
                <a:cubicBezTo>
                  <a:pt x="17677" y="12271"/>
                  <a:pt x="17642" y="12426"/>
                  <a:pt x="17587" y="12477"/>
                </a:cubicBezTo>
                <a:cubicBezTo>
                  <a:pt x="17569" y="12494"/>
                  <a:pt x="17449" y="12573"/>
                  <a:pt x="17438" y="12502"/>
                </a:cubicBezTo>
                <a:cubicBezTo>
                  <a:pt x="17438" y="12452"/>
                  <a:pt x="17438" y="12403"/>
                  <a:pt x="17438" y="12353"/>
                </a:cubicBezTo>
              </a:path>
              <a:path w="4069" h="1514">
                <a:moveTo>
                  <a:pt x="17760" y="11063"/>
                </a:moveTo>
                <a:cubicBezTo>
                  <a:pt x="17825" y="11019"/>
                  <a:pt x="17895" y="10973"/>
                  <a:pt x="17959" y="11063"/>
                </a:cubicBezTo>
                <a:cubicBezTo>
                  <a:pt x="18007" y="11130"/>
                  <a:pt x="17971" y="11221"/>
                  <a:pt x="17934" y="11286"/>
                </a:cubicBezTo>
                <a:cubicBezTo>
                  <a:pt x="17909" y="11330"/>
                  <a:pt x="17806" y="11374"/>
                  <a:pt x="17810" y="11435"/>
                </a:cubicBezTo>
                <a:cubicBezTo>
                  <a:pt x="17814" y="11496"/>
                  <a:pt x="17910" y="11548"/>
                  <a:pt x="17959" y="11559"/>
                </a:cubicBezTo>
                <a:cubicBezTo>
                  <a:pt x="18034" y="11576"/>
                  <a:pt x="18130" y="11559"/>
                  <a:pt x="18207" y="11559"/>
                </a:cubicBezTo>
              </a:path>
              <a:path w="4069" h="1514">
                <a:moveTo>
                  <a:pt x="18306" y="11757"/>
                </a:moveTo>
                <a:cubicBezTo>
                  <a:pt x="18428" y="11794"/>
                  <a:pt x="18447" y="11807"/>
                  <a:pt x="18554" y="11807"/>
                </a:cubicBezTo>
              </a:path>
              <a:path w="4069" h="1514">
                <a:moveTo>
                  <a:pt x="18355" y="11881"/>
                </a:moveTo>
                <a:cubicBezTo>
                  <a:pt x="18460" y="11933"/>
                  <a:pt x="18482" y="11931"/>
                  <a:pt x="18604" y="119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12"/>
          <p:cNvSpPr/>
          <p:nvPr/>
        </p:nvSpPr>
        <p:spPr>
          <a:xfrm>
            <a:off x="6939000" y="3867120"/>
            <a:ext cx="1544760" cy="615960"/>
          </a:xfrm>
          <a:custGeom>
            <a:avLst/>
            <a:gdLst/>
            <a:ahLst/>
            <a:rect l="l" t="t" r="r" b="b"/>
            <a:pathLst>
              <a:path w="4292" h="1713">
                <a:moveTo>
                  <a:pt x="19273" y="11534"/>
                </a:moveTo>
                <a:cubicBezTo>
                  <a:pt x="19286" y="11609"/>
                  <a:pt x="19313" y="11721"/>
                  <a:pt x="19323" y="11807"/>
                </a:cubicBezTo>
                <a:cubicBezTo>
                  <a:pt x="19336" y="11922"/>
                  <a:pt x="19324" y="12040"/>
                  <a:pt x="19348" y="12154"/>
                </a:cubicBezTo>
                <a:cubicBezTo>
                  <a:pt x="19365" y="12238"/>
                  <a:pt x="19408" y="12321"/>
                  <a:pt x="19422" y="12402"/>
                </a:cubicBezTo>
                <a:cubicBezTo>
                  <a:pt x="19444" y="12532"/>
                  <a:pt x="19399" y="12301"/>
                  <a:pt x="19397" y="12278"/>
                </a:cubicBezTo>
                <a:cubicBezTo>
                  <a:pt x="19385" y="12161"/>
                  <a:pt x="19386" y="12047"/>
                  <a:pt x="19372" y="11931"/>
                </a:cubicBezTo>
                <a:cubicBezTo>
                  <a:pt x="19357" y="11807"/>
                  <a:pt x="19328" y="11678"/>
                  <a:pt x="19298" y="11559"/>
                </a:cubicBezTo>
                <a:cubicBezTo>
                  <a:pt x="19278" y="11478"/>
                  <a:pt x="19273" y="11420"/>
                  <a:pt x="19273" y="11336"/>
                </a:cubicBezTo>
                <a:cubicBezTo>
                  <a:pt x="19273" y="11252"/>
                  <a:pt x="19271" y="11182"/>
                  <a:pt x="19298" y="11112"/>
                </a:cubicBezTo>
                <a:cubicBezTo>
                  <a:pt x="19324" y="11045"/>
                  <a:pt x="19361" y="10984"/>
                  <a:pt x="19372" y="10914"/>
                </a:cubicBezTo>
                <a:cubicBezTo>
                  <a:pt x="19381" y="10860"/>
                  <a:pt x="19387" y="10808"/>
                  <a:pt x="19422" y="10765"/>
                </a:cubicBezTo>
                <a:cubicBezTo>
                  <a:pt x="19468" y="10709"/>
                  <a:pt x="19642" y="10756"/>
                  <a:pt x="19695" y="10765"/>
                </a:cubicBezTo>
                <a:cubicBezTo>
                  <a:pt x="19872" y="10796"/>
                  <a:pt x="20043" y="10848"/>
                  <a:pt x="20216" y="10889"/>
                </a:cubicBezTo>
                <a:cubicBezTo>
                  <a:pt x="20357" y="10922"/>
                  <a:pt x="20691" y="11069"/>
                  <a:pt x="20811" y="11013"/>
                </a:cubicBezTo>
                <a:cubicBezTo>
                  <a:pt x="20811" y="10997"/>
                  <a:pt x="20811" y="10980"/>
                  <a:pt x="20811" y="10964"/>
                </a:cubicBezTo>
              </a:path>
              <a:path w="4292" h="1713">
                <a:moveTo>
                  <a:pt x="19546" y="11361"/>
                </a:moveTo>
                <a:cubicBezTo>
                  <a:pt x="19619" y="11353"/>
                  <a:pt x="19702" y="11334"/>
                  <a:pt x="19769" y="11311"/>
                </a:cubicBezTo>
                <a:cubicBezTo>
                  <a:pt x="19844" y="11286"/>
                  <a:pt x="19973" y="11213"/>
                  <a:pt x="20017" y="11336"/>
                </a:cubicBezTo>
                <a:cubicBezTo>
                  <a:pt x="20049" y="11425"/>
                  <a:pt x="19995" y="11543"/>
                  <a:pt x="19943" y="11609"/>
                </a:cubicBezTo>
                <a:cubicBezTo>
                  <a:pt x="19872" y="11700"/>
                  <a:pt x="19783" y="11762"/>
                  <a:pt x="19720" y="11857"/>
                </a:cubicBezTo>
                <a:cubicBezTo>
                  <a:pt x="19682" y="11914"/>
                  <a:pt x="19640" y="11951"/>
                  <a:pt x="19596" y="12005"/>
                </a:cubicBezTo>
                <a:cubicBezTo>
                  <a:pt x="19663" y="12046"/>
                  <a:pt x="19716" y="12011"/>
                  <a:pt x="19794" y="12030"/>
                </a:cubicBezTo>
                <a:cubicBezTo>
                  <a:pt x="19850" y="12043"/>
                  <a:pt x="19913" y="12087"/>
                  <a:pt x="19968" y="12105"/>
                </a:cubicBezTo>
                <a:cubicBezTo>
                  <a:pt x="20043" y="12129"/>
                  <a:pt x="20041" y="12132"/>
                  <a:pt x="20117" y="12105"/>
                </a:cubicBezTo>
              </a:path>
              <a:path w="4292" h="1713">
                <a:moveTo>
                  <a:pt x="20340" y="11361"/>
                </a:moveTo>
                <a:cubicBezTo>
                  <a:pt x="20282" y="11466"/>
                  <a:pt x="20209" y="11585"/>
                  <a:pt x="20191" y="11708"/>
                </a:cubicBezTo>
                <a:cubicBezTo>
                  <a:pt x="20177" y="11803"/>
                  <a:pt x="20218" y="11923"/>
                  <a:pt x="20265" y="12005"/>
                </a:cubicBezTo>
                <a:cubicBezTo>
                  <a:pt x="20303" y="12071"/>
                  <a:pt x="20426" y="12158"/>
                  <a:pt x="20513" y="12154"/>
                </a:cubicBezTo>
                <a:cubicBezTo>
                  <a:pt x="20605" y="12149"/>
                  <a:pt x="20633" y="12070"/>
                  <a:pt x="20662" y="12005"/>
                </a:cubicBezTo>
                <a:cubicBezTo>
                  <a:pt x="20707" y="11905"/>
                  <a:pt x="20712" y="11738"/>
                  <a:pt x="20662" y="11633"/>
                </a:cubicBezTo>
                <a:cubicBezTo>
                  <a:pt x="20630" y="11567"/>
                  <a:pt x="20551" y="11477"/>
                  <a:pt x="20489" y="11435"/>
                </a:cubicBezTo>
                <a:cubicBezTo>
                  <a:pt x="20445" y="11413"/>
                  <a:pt x="20433" y="11410"/>
                  <a:pt x="20414" y="11385"/>
                </a:cubicBezTo>
              </a:path>
              <a:path w="4292" h="1713">
                <a:moveTo>
                  <a:pt x="20985" y="11559"/>
                </a:moveTo>
                <a:cubicBezTo>
                  <a:pt x="21097" y="11572"/>
                  <a:pt x="21177" y="11584"/>
                  <a:pt x="21282" y="11584"/>
                </a:cubicBezTo>
              </a:path>
              <a:path w="4292" h="1713">
                <a:moveTo>
                  <a:pt x="21084" y="11832"/>
                </a:moveTo>
                <a:cubicBezTo>
                  <a:pt x="21214" y="11883"/>
                  <a:pt x="21271" y="11890"/>
                  <a:pt x="21406" y="11857"/>
                </a:cubicBezTo>
              </a:path>
              <a:path w="4292" h="1713">
                <a:moveTo>
                  <a:pt x="21779" y="11286"/>
                </a:moveTo>
                <a:cubicBezTo>
                  <a:pt x="21895" y="11248"/>
                  <a:pt x="21914" y="11217"/>
                  <a:pt x="21977" y="11261"/>
                </a:cubicBezTo>
                <a:cubicBezTo>
                  <a:pt x="22026" y="11382"/>
                  <a:pt x="22048" y="11478"/>
                  <a:pt x="22051" y="11609"/>
                </a:cubicBezTo>
                <a:cubicBezTo>
                  <a:pt x="22055" y="11761"/>
                  <a:pt x="21998" y="11866"/>
                  <a:pt x="21952" y="12005"/>
                </a:cubicBezTo>
                <a:cubicBezTo>
                  <a:pt x="21916" y="12114"/>
                  <a:pt x="21881" y="12191"/>
                  <a:pt x="21803" y="12278"/>
                </a:cubicBezTo>
                <a:cubicBezTo>
                  <a:pt x="21795" y="12286"/>
                  <a:pt x="21787" y="12295"/>
                  <a:pt x="21779" y="12303"/>
                </a:cubicBezTo>
                <a:cubicBezTo>
                  <a:pt x="21744" y="12211"/>
                  <a:pt x="21745" y="12174"/>
                  <a:pt x="21754" y="12080"/>
                </a:cubicBezTo>
                <a:cubicBezTo>
                  <a:pt x="21761" y="12008"/>
                  <a:pt x="21778" y="11981"/>
                  <a:pt x="21828" y="11931"/>
                </a:cubicBezTo>
                <a:cubicBezTo>
                  <a:pt x="21894" y="11969"/>
                  <a:pt x="21902" y="12002"/>
                  <a:pt x="21952" y="12055"/>
                </a:cubicBezTo>
                <a:cubicBezTo>
                  <a:pt x="22012" y="12119"/>
                  <a:pt x="22041" y="12143"/>
                  <a:pt x="22126" y="12154"/>
                </a:cubicBezTo>
              </a:path>
              <a:path w="4292" h="1713">
                <a:moveTo>
                  <a:pt x="22423" y="11435"/>
                </a:moveTo>
                <a:cubicBezTo>
                  <a:pt x="22440" y="11609"/>
                  <a:pt x="22467" y="11783"/>
                  <a:pt x="22473" y="11956"/>
                </a:cubicBezTo>
                <a:cubicBezTo>
                  <a:pt x="22476" y="12047"/>
                  <a:pt x="22488" y="12146"/>
                  <a:pt x="22523" y="12229"/>
                </a:cubicBezTo>
                <a:cubicBezTo>
                  <a:pt x="22544" y="12272"/>
                  <a:pt x="22548" y="12284"/>
                  <a:pt x="22572" y="12303"/>
                </a:cubicBezTo>
                <a:cubicBezTo>
                  <a:pt x="22565" y="12165"/>
                  <a:pt x="22565" y="12019"/>
                  <a:pt x="22547" y="11881"/>
                </a:cubicBezTo>
                <a:cubicBezTo>
                  <a:pt x="22529" y="11748"/>
                  <a:pt x="22511" y="11616"/>
                  <a:pt x="22473" y="11485"/>
                </a:cubicBezTo>
                <a:cubicBezTo>
                  <a:pt x="22454" y="11418"/>
                  <a:pt x="22376" y="11256"/>
                  <a:pt x="22423" y="11187"/>
                </a:cubicBezTo>
                <a:cubicBezTo>
                  <a:pt x="22467" y="11124"/>
                  <a:pt x="22555" y="11115"/>
                  <a:pt x="22622" y="11112"/>
                </a:cubicBezTo>
                <a:cubicBezTo>
                  <a:pt x="22864" y="11103"/>
                  <a:pt x="23104" y="11113"/>
                  <a:pt x="23341" y="11088"/>
                </a:cubicBezTo>
                <a:cubicBezTo>
                  <a:pt x="23385" y="11083"/>
                  <a:pt x="23536" y="11072"/>
                  <a:pt x="23564" y="11038"/>
                </a:cubicBezTo>
                <a:cubicBezTo>
                  <a:pt x="23564" y="11021"/>
                  <a:pt x="23564" y="11005"/>
                  <a:pt x="23564" y="10988"/>
                </a:cubicBezTo>
              </a:path>
              <a:path w="4292" h="1713">
                <a:moveTo>
                  <a:pt x="22820" y="11336"/>
                </a:moveTo>
                <a:cubicBezTo>
                  <a:pt x="22878" y="11358"/>
                  <a:pt x="22955" y="11393"/>
                  <a:pt x="23019" y="11385"/>
                </a:cubicBezTo>
                <a:cubicBezTo>
                  <a:pt x="23093" y="11376"/>
                  <a:pt x="23161" y="11370"/>
                  <a:pt x="23217" y="11336"/>
                </a:cubicBezTo>
              </a:path>
              <a:path w="4292" h="1713">
                <a:moveTo>
                  <a:pt x="22944" y="11286"/>
                </a:moveTo>
                <a:cubicBezTo>
                  <a:pt x="22861" y="11402"/>
                  <a:pt x="22854" y="11436"/>
                  <a:pt x="22820" y="11559"/>
                </a:cubicBezTo>
                <a:cubicBezTo>
                  <a:pt x="22804" y="11618"/>
                  <a:pt x="22806" y="11670"/>
                  <a:pt x="22845" y="11733"/>
                </a:cubicBezTo>
                <a:cubicBezTo>
                  <a:pt x="22882" y="11793"/>
                  <a:pt x="22932" y="11782"/>
                  <a:pt x="22994" y="11782"/>
                </a:cubicBezTo>
                <a:cubicBezTo>
                  <a:pt x="23068" y="11782"/>
                  <a:pt x="23157" y="11811"/>
                  <a:pt x="23217" y="11857"/>
                </a:cubicBezTo>
                <a:cubicBezTo>
                  <a:pt x="23291" y="11914"/>
                  <a:pt x="23374" y="12036"/>
                  <a:pt x="23391" y="12129"/>
                </a:cubicBezTo>
                <a:cubicBezTo>
                  <a:pt x="23408" y="12220"/>
                  <a:pt x="23356" y="12306"/>
                  <a:pt x="23316" y="12378"/>
                </a:cubicBezTo>
                <a:cubicBezTo>
                  <a:pt x="23271" y="12460"/>
                  <a:pt x="23230" y="12452"/>
                  <a:pt x="23143" y="12452"/>
                </a:cubicBezTo>
                <a:cubicBezTo>
                  <a:pt x="23066" y="12452"/>
                  <a:pt x="23015" y="12452"/>
                  <a:pt x="22944" y="12427"/>
                </a:cubicBezTo>
                <a:cubicBezTo>
                  <a:pt x="22859" y="12397"/>
                  <a:pt x="22780" y="12390"/>
                  <a:pt x="22696" y="123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3" name="Picture 4" descr="handygraph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04920"/>
            <a:ext cx="3787920" cy="3886200"/>
          </a:xfrm>
          <a:prstGeom prst="rect">
            <a:avLst/>
          </a:prstGeom>
          <a:ln w="0">
            <a:noFill/>
          </a:ln>
        </p:spPr>
      </p:pic>
      <p:sp>
        <p:nvSpPr>
          <p:cNvPr id="54" name="Ink 5"/>
          <p:cNvSpPr/>
          <p:nvPr/>
        </p:nvSpPr>
        <p:spPr>
          <a:xfrm>
            <a:off x="4081320" y="982800"/>
            <a:ext cx="312840" cy="490320"/>
          </a:xfrm>
          <a:custGeom>
            <a:avLst/>
            <a:gdLst/>
            <a:ahLst/>
            <a:rect l="l" t="t" r="r" b="b"/>
            <a:pathLst>
              <a:path w="869" h="1365">
                <a:moveTo>
                  <a:pt x="11361" y="3026"/>
                </a:moveTo>
                <a:cubicBezTo>
                  <a:pt x="11357" y="3055"/>
                  <a:pt x="11297" y="3209"/>
                  <a:pt x="11336" y="3101"/>
                </a:cubicBezTo>
                <a:cubicBezTo>
                  <a:pt x="11355" y="3047"/>
                  <a:pt x="11388" y="2971"/>
                  <a:pt x="11410" y="2927"/>
                </a:cubicBezTo>
                <a:cubicBezTo>
                  <a:pt x="11423" y="2901"/>
                  <a:pt x="11464" y="2873"/>
                  <a:pt x="11485" y="2853"/>
                </a:cubicBezTo>
                <a:cubicBezTo>
                  <a:pt x="11559" y="2915"/>
                  <a:pt x="11549" y="3042"/>
                  <a:pt x="11534" y="3150"/>
                </a:cubicBezTo>
                <a:cubicBezTo>
                  <a:pt x="11523" y="3227"/>
                  <a:pt x="11469" y="3305"/>
                  <a:pt x="11435" y="3373"/>
                </a:cubicBezTo>
                <a:cubicBezTo>
                  <a:pt x="11389" y="3464"/>
                  <a:pt x="11376" y="3472"/>
                  <a:pt x="11435" y="3398"/>
                </a:cubicBezTo>
                <a:cubicBezTo>
                  <a:pt x="11457" y="3371"/>
                  <a:pt x="11521" y="3297"/>
                  <a:pt x="11559" y="3299"/>
                </a:cubicBezTo>
                <a:cubicBezTo>
                  <a:pt x="11630" y="3303"/>
                  <a:pt x="11674" y="3419"/>
                  <a:pt x="11683" y="3473"/>
                </a:cubicBezTo>
                <a:cubicBezTo>
                  <a:pt x="11696" y="3552"/>
                  <a:pt x="11684" y="3613"/>
                  <a:pt x="11633" y="3671"/>
                </a:cubicBezTo>
                <a:cubicBezTo>
                  <a:pt x="11590" y="3720"/>
                  <a:pt x="11539" y="3801"/>
                  <a:pt x="11460" y="3795"/>
                </a:cubicBezTo>
                <a:cubicBezTo>
                  <a:pt x="11384" y="3789"/>
                  <a:pt x="11367" y="3762"/>
                  <a:pt x="11385" y="3696"/>
                </a:cubicBezTo>
              </a:path>
              <a:path w="869" h="1365">
                <a:moveTo>
                  <a:pt x="11733" y="3125"/>
                </a:moveTo>
                <a:cubicBezTo>
                  <a:pt x="11733" y="3265"/>
                  <a:pt x="11700" y="3444"/>
                  <a:pt x="11757" y="3572"/>
                </a:cubicBezTo>
                <a:cubicBezTo>
                  <a:pt x="11795" y="3657"/>
                  <a:pt x="11877" y="3688"/>
                  <a:pt x="11956" y="3597"/>
                </a:cubicBezTo>
                <a:cubicBezTo>
                  <a:pt x="11990" y="3558"/>
                  <a:pt x="11981" y="3425"/>
                  <a:pt x="11981" y="3373"/>
                </a:cubicBezTo>
                <a:cubicBezTo>
                  <a:pt x="11981" y="3304"/>
                  <a:pt x="11951" y="3250"/>
                  <a:pt x="11906" y="3200"/>
                </a:cubicBezTo>
                <a:cubicBezTo>
                  <a:pt x="11869" y="3159"/>
                  <a:pt x="11841" y="3118"/>
                  <a:pt x="11807" y="3076"/>
                </a:cubicBezTo>
              </a:path>
              <a:path w="869" h="1365">
                <a:moveTo>
                  <a:pt x="11708" y="2729"/>
                </a:moveTo>
                <a:cubicBezTo>
                  <a:pt x="11841" y="2805"/>
                  <a:pt x="11895" y="2854"/>
                  <a:pt x="11981" y="2977"/>
                </a:cubicBezTo>
                <a:cubicBezTo>
                  <a:pt x="12070" y="3104"/>
                  <a:pt x="12182" y="3212"/>
                  <a:pt x="12204" y="3373"/>
                </a:cubicBezTo>
                <a:cubicBezTo>
                  <a:pt x="12217" y="3464"/>
                  <a:pt x="12220" y="3612"/>
                  <a:pt x="12179" y="3696"/>
                </a:cubicBezTo>
                <a:cubicBezTo>
                  <a:pt x="12130" y="3797"/>
                  <a:pt x="12035" y="3872"/>
                  <a:pt x="11956" y="3944"/>
                </a:cubicBezTo>
                <a:cubicBezTo>
                  <a:pt x="11880" y="4013"/>
                  <a:pt x="11803" y="4053"/>
                  <a:pt x="11708" y="40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Ink 6"/>
          <p:cNvSpPr/>
          <p:nvPr/>
        </p:nvSpPr>
        <p:spPr>
          <a:xfrm>
            <a:off x="4911840" y="820800"/>
            <a:ext cx="1758960" cy="716040"/>
          </a:xfrm>
          <a:custGeom>
            <a:avLst/>
            <a:gdLst/>
            <a:ahLst/>
            <a:rect l="l" t="t" r="r" b="b"/>
            <a:pathLst>
              <a:path w="4887" h="1985">
                <a:moveTo>
                  <a:pt x="14486" y="2282"/>
                </a:moveTo>
                <a:cubicBezTo>
                  <a:pt x="14473" y="2402"/>
                  <a:pt x="14421" y="2477"/>
                  <a:pt x="14362" y="2580"/>
                </a:cubicBezTo>
                <a:cubicBezTo>
                  <a:pt x="14304" y="2681"/>
                  <a:pt x="14230" y="2758"/>
                  <a:pt x="14163" y="2853"/>
                </a:cubicBezTo>
                <a:cubicBezTo>
                  <a:pt x="14091" y="2956"/>
                  <a:pt x="14011" y="3048"/>
                  <a:pt x="13940" y="3150"/>
                </a:cubicBezTo>
                <a:cubicBezTo>
                  <a:pt x="13879" y="3237"/>
                  <a:pt x="13814" y="3322"/>
                  <a:pt x="13742" y="3398"/>
                </a:cubicBezTo>
                <a:cubicBezTo>
                  <a:pt x="13710" y="3432"/>
                  <a:pt x="13676" y="3464"/>
                  <a:pt x="13643" y="3497"/>
                </a:cubicBezTo>
                <a:cubicBezTo>
                  <a:pt x="13709" y="3514"/>
                  <a:pt x="13754" y="3548"/>
                  <a:pt x="13816" y="3572"/>
                </a:cubicBezTo>
                <a:cubicBezTo>
                  <a:pt x="13911" y="3609"/>
                  <a:pt x="13977" y="3677"/>
                  <a:pt x="14064" y="3721"/>
                </a:cubicBezTo>
                <a:cubicBezTo>
                  <a:pt x="14145" y="3762"/>
                  <a:pt x="14217" y="3786"/>
                  <a:pt x="14288" y="3845"/>
                </a:cubicBezTo>
                <a:cubicBezTo>
                  <a:pt x="14372" y="3915"/>
                  <a:pt x="14458" y="4008"/>
                  <a:pt x="14511" y="4093"/>
                </a:cubicBezTo>
              </a:path>
              <a:path w="4887" h="1985">
                <a:moveTo>
                  <a:pt x="14908" y="2853"/>
                </a:moveTo>
                <a:cubicBezTo>
                  <a:pt x="15030" y="2853"/>
                  <a:pt x="15118" y="2848"/>
                  <a:pt x="15230" y="2828"/>
                </a:cubicBezTo>
                <a:cubicBezTo>
                  <a:pt x="15312" y="2813"/>
                  <a:pt x="15464" y="2831"/>
                  <a:pt x="15503" y="2753"/>
                </a:cubicBezTo>
              </a:path>
              <a:path w="4887" h="1985">
                <a:moveTo>
                  <a:pt x="14932" y="2902"/>
                </a:moveTo>
                <a:cubicBezTo>
                  <a:pt x="14932" y="3034"/>
                  <a:pt x="14932" y="3167"/>
                  <a:pt x="14932" y="3299"/>
                </a:cubicBezTo>
                <a:cubicBezTo>
                  <a:pt x="14959" y="3254"/>
                  <a:pt x="14956" y="3208"/>
                  <a:pt x="15007" y="3175"/>
                </a:cubicBezTo>
                <a:cubicBezTo>
                  <a:pt x="15062" y="3139"/>
                  <a:pt x="15176" y="3142"/>
                  <a:pt x="15230" y="3175"/>
                </a:cubicBezTo>
                <a:cubicBezTo>
                  <a:pt x="15300" y="3218"/>
                  <a:pt x="15364" y="3278"/>
                  <a:pt x="15404" y="3349"/>
                </a:cubicBezTo>
                <a:cubicBezTo>
                  <a:pt x="15445" y="3421"/>
                  <a:pt x="15474" y="3489"/>
                  <a:pt x="15478" y="3572"/>
                </a:cubicBezTo>
                <a:cubicBezTo>
                  <a:pt x="15482" y="3647"/>
                  <a:pt x="15447" y="3734"/>
                  <a:pt x="15404" y="3795"/>
                </a:cubicBezTo>
                <a:cubicBezTo>
                  <a:pt x="15370" y="3844"/>
                  <a:pt x="15311" y="3896"/>
                  <a:pt x="15255" y="3919"/>
                </a:cubicBezTo>
                <a:cubicBezTo>
                  <a:pt x="15173" y="3952"/>
                  <a:pt x="15119" y="3969"/>
                  <a:pt x="15032" y="3969"/>
                </a:cubicBezTo>
                <a:cubicBezTo>
                  <a:pt x="14930" y="3969"/>
                  <a:pt x="14941" y="3926"/>
                  <a:pt x="14957" y="3845"/>
                </a:cubicBezTo>
              </a:path>
              <a:path w="4887" h="1985">
                <a:moveTo>
                  <a:pt x="15776" y="3820"/>
                </a:moveTo>
                <a:cubicBezTo>
                  <a:pt x="15776" y="3863"/>
                  <a:pt x="15743" y="4245"/>
                  <a:pt x="15801" y="4266"/>
                </a:cubicBezTo>
                <a:cubicBezTo>
                  <a:pt x="15801" y="4258"/>
                  <a:pt x="15801" y="4250"/>
                  <a:pt x="15801" y="4242"/>
                </a:cubicBezTo>
              </a:path>
              <a:path w="4887" h="1985">
                <a:moveTo>
                  <a:pt x="16024" y="3373"/>
                </a:moveTo>
                <a:cubicBezTo>
                  <a:pt x="16134" y="3352"/>
                  <a:pt x="16240" y="3346"/>
                  <a:pt x="16346" y="3324"/>
                </a:cubicBezTo>
                <a:cubicBezTo>
                  <a:pt x="16416" y="3309"/>
                  <a:pt x="16479" y="3296"/>
                  <a:pt x="16545" y="3274"/>
                </a:cubicBezTo>
              </a:path>
              <a:path w="4887" h="1985">
                <a:moveTo>
                  <a:pt x="16867" y="2977"/>
                </a:moveTo>
                <a:cubicBezTo>
                  <a:pt x="16849" y="3118"/>
                  <a:pt x="16822" y="3279"/>
                  <a:pt x="16842" y="3423"/>
                </a:cubicBezTo>
                <a:cubicBezTo>
                  <a:pt x="16857" y="3527"/>
                  <a:pt x="16867" y="3615"/>
                  <a:pt x="16867" y="3721"/>
                </a:cubicBezTo>
                <a:cubicBezTo>
                  <a:pt x="16867" y="3742"/>
                  <a:pt x="16892" y="3922"/>
                  <a:pt x="16892" y="3795"/>
                </a:cubicBezTo>
              </a:path>
              <a:path w="4887" h="1985">
                <a:moveTo>
                  <a:pt x="17090" y="3051"/>
                </a:moveTo>
                <a:cubicBezTo>
                  <a:pt x="17223" y="2976"/>
                  <a:pt x="17296" y="2891"/>
                  <a:pt x="17438" y="2952"/>
                </a:cubicBezTo>
                <a:cubicBezTo>
                  <a:pt x="17514" y="2984"/>
                  <a:pt x="17571" y="3044"/>
                  <a:pt x="17587" y="3125"/>
                </a:cubicBezTo>
                <a:cubicBezTo>
                  <a:pt x="17599" y="3182"/>
                  <a:pt x="17585" y="3328"/>
                  <a:pt x="17562" y="3373"/>
                </a:cubicBezTo>
                <a:cubicBezTo>
                  <a:pt x="17529" y="3438"/>
                  <a:pt x="17473" y="3502"/>
                  <a:pt x="17438" y="3572"/>
                </a:cubicBezTo>
                <a:cubicBezTo>
                  <a:pt x="17412" y="3624"/>
                  <a:pt x="17344" y="3708"/>
                  <a:pt x="17363" y="3770"/>
                </a:cubicBezTo>
                <a:cubicBezTo>
                  <a:pt x="17388" y="3850"/>
                  <a:pt x="17473" y="3845"/>
                  <a:pt x="17537" y="3845"/>
                </a:cubicBezTo>
                <a:cubicBezTo>
                  <a:pt x="17633" y="3845"/>
                  <a:pt x="17696" y="3833"/>
                  <a:pt x="17785" y="3795"/>
                </a:cubicBezTo>
                <a:cubicBezTo>
                  <a:pt x="17802" y="3787"/>
                  <a:pt x="17818" y="3778"/>
                  <a:pt x="17835" y="3770"/>
                </a:cubicBezTo>
              </a:path>
              <a:path w="4887" h="1985">
                <a:moveTo>
                  <a:pt x="17785" y="2654"/>
                </a:moveTo>
                <a:cubicBezTo>
                  <a:pt x="17862" y="2711"/>
                  <a:pt x="17932" y="2772"/>
                  <a:pt x="18008" y="2828"/>
                </a:cubicBezTo>
                <a:cubicBezTo>
                  <a:pt x="18097" y="2893"/>
                  <a:pt x="18191" y="2965"/>
                  <a:pt x="18281" y="3026"/>
                </a:cubicBezTo>
                <a:cubicBezTo>
                  <a:pt x="18354" y="3075"/>
                  <a:pt x="18445" y="3115"/>
                  <a:pt x="18529" y="3125"/>
                </a:cubicBezTo>
                <a:cubicBezTo>
                  <a:pt x="18520" y="3189"/>
                  <a:pt x="18492" y="3216"/>
                  <a:pt x="18455" y="3274"/>
                </a:cubicBezTo>
                <a:cubicBezTo>
                  <a:pt x="18360" y="3423"/>
                  <a:pt x="18284" y="3576"/>
                  <a:pt x="18182" y="3721"/>
                </a:cubicBezTo>
                <a:cubicBezTo>
                  <a:pt x="18110" y="3823"/>
                  <a:pt x="18009" y="3894"/>
                  <a:pt x="17909" y="39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7"/>
          <p:cNvSpPr/>
          <p:nvPr/>
        </p:nvSpPr>
        <p:spPr>
          <a:xfrm>
            <a:off x="4170240" y="1803240"/>
            <a:ext cx="3776760" cy="795600"/>
          </a:xfrm>
          <a:custGeom>
            <a:avLst/>
            <a:gdLst/>
            <a:ahLst/>
            <a:rect l="l" t="t" r="r" b="b"/>
            <a:pathLst>
              <a:path w="10493" h="2208">
                <a:moveTo>
                  <a:pt x="11584" y="5829"/>
                </a:moveTo>
                <a:cubicBezTo>
                  <a:pt x="11669" y="5820"/>
                  <a:pt x="11743" y="5776"/>
                  <a:pt x="11832" y="5829"/>
                </a:cubicBezTo>
                <a:cubicBezTo>
                  <a:pt x="11902" y="5871"/>
                  <a:pt x="11933" y="5937"/>
                  <a:pt x="11981" y="6003"/>
                </a:cubicBezTo>
                <a:cubicBezTo>
                  <a:pt x="12049" y="6096"/>
                  <a:pt x="12099" y="6185"/>
                  <a:pt x="12129" y="6300"/>
                </a:cubicBezTo>
                <a:cubicBezTo>
                  <a:pt x="12162" y="6429"/>
                  <a:pt x="12172" y="6565"/>
                  <a:pt x="12179" y="6697"/>
                </a:cubicBezTo>
                <a:cubicBezTo>
                  <a:pt x="12189" y="6870"/>
                  <a:pt x="12179" y="7045"/>
                  <a:pt x="12179" y="7218"/>
                </a:cubicBezTo>
                <a:cubicBezTo>
                  <a:pt x="12198" y="7103"/>
                  <a:pt x="12213" y="6989"/>
                  <a:pt x="12229" y="6871"/>
                </a:cubicBezTo>
                <a:cubicBezTo>
                  <a:pt x="12254" y="6691"/>
                  <a:pt x="12272" y="6531"/>
                  <a:pt x="12278" y="6350"/>
                </a:cubicBezTo>
                <a:cubicBezTo>
                  <a:pt x="12282" y="6205"/>
                  <a:pt x="12260" y="6071"/>
                  <a:pt x="12254" y="5928"/>
                </a:cubicBezTo>
                <a:cubicBezTo>
                  <a:pt x="12249" y="5808"/>
                  <a:pt x="12236" y="5698"/>
                  <a:pt x="12229" y="5581"/>
                </a:cubicBezTo>
                <a:cubicBezTo>
                  <a:pt x="12223" y="5475"/>
                  <a:pt x="12229" y="5366"/>
                  <a:pt x="12229" y="5259"/>
                </a:cubicBezTo>
                <a:cubicBezTo>
                  <a:pt x="12295" y="5252"/>
                  <a:pt x="12350" y="5256"/>
                  <a:pt x="12427" y="5259"/>
                </a:cubicBezTo>
                <a:cubicBezTo>
                  <a:pt x="12892" y="5277"/>
                  <a:pt x="13380" y="5277"/>
                  <a:pt x="13841" y="5234"/>
                </a:cubicBezTo>
                <a:cubicBezTo>
                  <a:pt x="14112" y="5209"/>
                  <a:pt x="14388" y="5208"/>
                  <a:pt x="14660" y="5184"/>
                </a:cubicBezTo>
                <a:cubicBezTo>
                  <a:pt x="14908" y="5162"/>
                  <a:pt x="15157" y="5158"/>
                  <a:pt x="15404" y="5135"/>
                </a:cubicBezTo>
                <a:cubicBezTo>
                  <a:pt x="15653" y="5112"/>
                  <a:pt x="15899" y="5104"/>
                  <a:pt x="16148" y="5085"/>
                </a:cubicBezTo>
                <a:cubicBezTo>
                  <a:pt x="16373" y="5068"/>
                  <a:pt x="16591" y="5060"/>
                  <a:pt x="16818" y="5060"/>
                </a:cubicBezTo>
                <a:cubicBezTo>
                  <a:pt x="16977" y="5060"/>
                  <a:pt x="17163" y="5089"/>
                  <a:pt x="17314" y="5035"/>
                </a:cubicBezTo>
                <a:cubicBezTo>
                  <a:pt x="17443" y="4989"/>
                  <a:pt x="17347" y="5069"/>
                  <a:pt x="17289" y="5011"/>
                </a:cubicBezTo>
              </a:path>
              <a:path w="10493" h="2208">
                <a:moveTo>
                  <a:pt x="12973" y="5854"/>
                </a:moveTo>
                <a:cubicBezTo>
                  <a:pt x="13050" y="5883"/>
                  <a:pt x="13111" y="5879"/>
                  <a:pt x="13196" y="5879"/>
                </a:cubicBezTo>
                <a:cubicBezTo>
                  <a:pt x="13286" y="5879"/>
                  <a:pt x="13353" y="5884"/>
                  <a:pt x="13444" y="5879"/>
                </a:cubicBezTo>
                <a:cubicBezTo>
                  <a:pt x="13504" y="5876"/>
                  <a:pt x="13519" y="5877"/>
                  <a:pt x="13543" y="5829"/>
                </a:cubicBezTo>
              </a:path>
              <a:path w="10493" h="2208">
                <a:moveTo>
                  <a:pt x="13122" y="5779"/>
                </a:moveTo>
                <a:cubicBezTo>
                  <a:pt x="13044" y="5901"/>
                  <a:pt x="13024" y="5967"/>
                  <a:pt x="13047" y="6102"/>
                </a:cubicBezTo>
                <a:cubicBezTo>
                  <a:pt x="13057" y="6159"/>
                  <a:pt x="13064" y="6222"/>
                  <a:pt x="13097" y="6276"/>
                </a:cubicBezTo>
                <a:cubicBezTo>
                  <a:pt x="13105" y="6284"/>
                  <a:pt x="13114" y="6292"/>
                  <a:pt x="13122" y="6300"/>
                </a:cubicBezTo>
                <a:cubicBezTo>
                  <a:pt x="13188" y="6216"/>
                  <a:pt x="13163" y="6162"/>
                  <a:pt x="13295" y="6176"/>
                </a:cubicBezTo>
                <a:cubicBezTo>
                  <a:pt x="13360" y="6183"/>
                  <a:pt x="13454" y="6250"/>
                  <a:pt x="13494" y="6300"/>
                </a:cubicBezTo>
                <a:cubicBezTo>
                  <a:pt x="13560" y="6381"/>
                  <a:pt x="13611" y="6499"/>
                  <a:pt x="13618" y="6598"/>
                </a:cubicBezTo>
                <a:cubicBezTo>
                  <a:pt x="13626" y="6705"/>
                  <a:pt x="13614" y="6766"/>
                  <a:pt x="13543" y="6846"/>
                </a:cubicBezTo>
                <a:cubicBezTo>
                  <a:pt x="13486" y="6910"/>
                  <a:pt x="13357" y="6979"/>
                  <a:pt x="13271" y="6995"/>
                </a:cubicBezTo>
                <a:cubicBezTo>
                  <a:pt x="13194" y="7009"/>
                  <a:pt x="13066" y="7009"/>
                  <a:pt x="12998" y="6970"/>
                </a:cubicBezTo>
                <a:cubicBezTo>
                  <a:pt x="12936" y="6934"/>
                  <a:pt x="12902" y="6917"/>
                  <a:pt x="12898" y="6846"/>
                </a:cubicBezTo>
                <a:cubicBezTo>
                  <a:pt x="12898" y="6829"/>
                  <a:pt x="12898" y="6813"/>
                  <a:pt x="12898" y="6796"/>
                </a:cubicBezTo>
              </a:path>
              <a:path w="10493" h="2208">
                <a:moveTo>
                  <a:pt x="13618" y="5631"/>
                </a:moveTo>
                <a:cubicBezTo>
                  <a:pt x="13743" y="5574"/>
                  <a:pt x="13788" y="5511"/>
                  <a:pt x="13891" y="5606"/>
                </a:cubicBezTo>
                <a:cubicBezTo>
                  <a:pt x="13947" y="5658"/>
                  <a:pt x="13894" y="5703"/>
                  <a:pt x="13866" y="5755"/>
                </a:cubicBezTo>
                <a:cubicBezTo>
                  <a:pt x="13834" y="5814"/>
                  <a:pt x="13749" y="5868"/>
                  <a:pt x="13791" y="5928"/>
                </a:cubicBezTo>
                <a:cubicBezTo>
                  <a:pt x="13825" y="5976"/>
                  <a:pt x="13939" y="5953"/>
                  <a:pt x="13990" y="5953"/>
                </a:cubicBezTo>
                <a:cubicBezTo>
                  <a:pt x="14048" y="5953"/>
                  <a:pt x="14073" y="5953"/>
                  <a:pt x="14114" y="5953"/>
                </a:cubicBezTo>
              </a:path>
              <a:path w="10493" h="2208">
                <a:moveTo>
                  <a:pt x="14288" y="6102"/>
                </a:moveTo>
                <a:cubicBezTo>
                  <a:pt x="14288" y="6247"/>
                  <a:pt x="14273" y="6407"/>
                  <a:pt x="14312" y="6548"/>
                </a:cubicBezTo>
                <a:cubicBezTo>
                  <a:pt x="14324" y="6592"/>
                  <a:pt x="14337" y="6616"/>
                  <a:pt x="14337" y="6672"/>
                </a:cubicBezTo>
              </a:path>
              <a:path w="10493" h="2208">
                <a:moveTo>
                  <a:pt x="14114" y="6375"/>
                </a:moveTo>
                <a:cubicBezTo>
                  <a:pt x="14191" y="6323"/>
                  <a:pt x="14245" y="6325"/>
                  <a:pt x="14337" y="6325"/>
                </a:cubicBezTo>
                <a:cubicBezTo>
                  <a:pt x="14395" y="6325"/>
                  <a:pt x="14453" y="6325"/>
                  <a:pt x="14511" y="6325"/>
                </a:cubicBezTo>
              </a:path>
              <a:path w="10493" h="2208">
                <a:moveTo>
                  <a:pt x="14982" y="5928"/>
                </a:moveTo>
                <a:cubicBezTo>
                  <a:pt x="14902" y="6078"/>
                  <a:pt x="14816" y="6215"/>
                  <a:pt x="14759" y="6375"/>
                </a:cubicBezTo>
                <a:cubicBezTo>
                  <a:pt x="14723" y="6475"/>
                  <a:pt x="14689" y="6589"/>
                  <a:pt x="14709" y="6697"/>
                </a:cubicBezTo>
                <a:cubicBezTo>
                  <a:pt x="14726" y="6789"/>
                  <a:pt x="14775" y="6897"/>
                  <a:pt x="14833" y="6970"/>
                </a:cubicBezTo>
                <a:cubicBezTo>
                  <a:pt x="14863" y="7008"/>
                  <a:pt x="14963" y="7075"/>
                  <a:pt x="15007" y="7069"/>
                </a:cubicBezTo>
                <a:cubicBezTo>
                  <a:pt x="15023" y="7061"/>
                  <a:pt x="15040" y="7053"/>
                  <a:pt x="15056" y="7045"/>
                </a:cubicBezTo>
              </a:path>
              <a:path w="10493" h="2208">
                <a:moveTo>
                  <a:pt x="15081" y="6424"/>
                </a:moveTo>
                <a:cubicBezTo>
                  <a:pt x="15196" y="6394"/>
                  <a:pt x="15285" y="6375"/>
                  <a:pt x="15404" y="6375"/>
                </a:cubicBezTo>
                <a:cubicBezTo>
                  <a:pt x="15429" y="6375"/>
                  <a:pt x="15453" y="6375"/>
                  <a:pt x="15478" y="6375"/>
                </a:cubicBezTo>
              </a:path>
              <a:path w="10493" h="2208">
                <a:moveTo>
                  <a:pt x="15652" y="6152"/>
                </a:moveTo>
                <a:cubicBezTo>
                  <a:pt x="15626" y="6246"/>
                  <a:pt x="15612" y="6351"/>
                  <a:pt x="15602" y="6449"/>
                </a:cubicBezTo>
                <a:cubicBezTo>
                  <a:pt x="15591" y="6555"/>
                  <a:pt x="15616" y="6647"/>
                  <a:pt x="15627" y="6747"/>
                </a:cubicBezTo>
                <a:cubicBezTo>
                  <a:pt x="15634" y="6807"/>
                  <a:pt x="15630" y="6914"/>
                  <a:pt x="15652" y="6970"/>
                </a:cubicBezTo>
                <a:cubicBezTo>
                  <a:pt x="15660" y="6978"/>
                  <a:pt x="15669" y="6987"/>
                  <a:pt x="15677" y="6995"/>
                </a:cubicBezTo>
              </a:path>
              <a:path w="10493" h="2208">
                <a:moveTo>
                  <a:pt x="15875" y="6127"/>
                </a:moveTo>
                <a:cubicBezTo>
                  <a:pt x="15954" y="6076"/>
                  <a:pt x="16013" y="6009"/>
                  <a:pt x="16098" y="6077"/>
                </a:cubicBezTo>
                <a:cubicBezTo>
                  <a:pt x="16148" y="6117"/>
                  <a:pt x="16161" y="6190"/>
                  <a:pt x="16148" y="6251"/>
                </a:cubicBezTo>
                <a:cubicBezTo>
                  <a:pt x="16132" y="6324"/>
                  <a:pt x="16088" y="6463"/>
                  <a:pt x="16049" y="6524"/>
                </a:cubicBezTo>
                <a:cubicBezTo>
                  <a:pt x="16006" y="6591"/>
                  <a:pt x="15922" y="6667"/>
                  <a:pt x="15900" y="6747"/>
                </a:cubicBezTo>
                <a:cubicBezTo>
                  <a:pt x="15882" y="6813"/>
                  <a:pt x="15863" y="6940"/>
                  <a:pt x="15974" y="6945"/>
                </a:cubicBezTo>
                <a:cubicBezTo>
                  <a:pt x="16047" y="6948"/>
                  <a:pt x="16157" y="6902"/>
                  <a:pt x="16222" y="6871"/>
                </a:cubicBezTo>
                <a:cubicBezTo>
                  <a:pt x="16239" y="6863"/>
                  <a:pt x="16255" y="6854"/>
                  <a:pt x="16272" y="6846"/>
                </a:cubicBezTo>
              </a:path>
              <a:path w="10493" h="2208">
                <a:moveTo>
                  <a:pt x="16247" y="5854"/>
                </a:moveTo>
                <a:cubicBezTo>
                  <a:pt x="16351" y="5988"/>
                  <a:pt x="16430" y="6095"/>
                  <a:pt x="16495" y="6251"/>
                </a:cubicBezTo>
                <a:cubicBezTo>
                  <a:pt x="16560" y="6406"/>
                  <a:pt x="16570" y="6532"/>
                  <a:pt x="16570" y="6697"/>
                </a:cubicBezTo>
                <a:cubicBezTo>
                  <a:pt x="16570" y="6814"/>
                  <a:pt x="16550" y="6974"/>
                  <a:pt x="16470" y="7069"/>
                </a:cubicBezTo>
                <a:cubicBezTo>
                  <a:pt x="16434" y="7111"/>
                  <a:pt x="16360" y="7147"/>
                  <a:pt x="16321" y="7119"/>
                </a:cubicBezTo>
                <a:cubicBezTo>
                  <a:pt x="16313" y="7111"/>
                  <a:pt x="16305" y="7102"/>
                  <a:pt x="16297" y="7094"/>
                </a:cubicBezTo>
              </a:path>
              <a:path w="10493" h="2208">
                <a:moveTo>
                  <a:pt x="16520" y="5631"/>
                </a:moveTo>
                <a:cubicBezTo>
                  <a:pt x="16605" y="5585"/>
                  <a:pt x="16676" y="5503"/>
                  <a:pt x="16743" y="5606"/>
                </a:cubicBezTo>
                <a:cubicBezTo>
                  <a:pt x="16781" y="5665"/>
                  <a:pt x="16779" y="5735"/>
                  <a:pt x="16718" y="5779"/>
                </a:cubicBezTo>
                <a:cubicBezTo>
                  <a:pt x="16612" y="5855"/>
                  <a:pt x="16701" y="5875"/>
                  <a:pt x="16793" y="5879"/>
                </a:cubicBezTo>
                <a:cubicBezTo>
                  <a:pt x="16888" y="5884"/>
                  <a:pt x="16974" y="5894"/>
                  <a:pt x="17066" y="5904"/>
                </a:cubicBezTo>
              </a:path>
              <a:path w="10493" h="2208">
                <a:moveTo>
                  <a:pt x="17165" y="6276"/>
                </a:moveTo>
                <a:cubicBezTo>
                  <a:pt x="17245" y="6276"/>
                  <a:pt x="17313" y="6289"/>
                  <a:pt x="17388" y="6300"/>
                </a:cubicBezTo>
                <a:cubicBezTo>
                  <a:pt x="17405" y="6300"/>
                  <a:pt x="17421" y="6300"/>
                  <a:pt x="17438" y="6300"/>
                </a:cubicBezTo>
              </a:path>
              <a:path w="10493" h="2208">
                <a:moveTo>
                  <a:pt x="17214" y="6573"/>
                </a:moveTo>
                <a:cubicBezTo>
                  <a:pt x="17379" y="6573"/>
                  <a:pt x="17373" y="6583"/>
                  <a:pt x="17512" y="6524"/>
                </a:cubicBezTo>
              </a:path>
              <a:path w="10493" h="2208">
                <a:moveTo>
                  <a:pt x="17785" y="6300"/>
                </a:moveTo>
                <a:cubicBezTo>
                  <a:pt x="17801" y="6462"/>
                  <a:pt x="17804" y="6638"/>
                  <a:pt x="17835" y="6796"/>
                </a:cubicBezTo>
                <a:cubicBezTo>
                  <a:pt x="17848" y="6862"/>
                  <a:pt x="17860" y="6961"/>
                  <a:pt x="17884" y="7020"/>
                </a:cubicBezTo>
                <a:cubicBezTo>
                  <a:pt x="17892" y="7028"/>
                  <a:pt x="17901" y="7037"/>
                  <a:pt x="17909" y="7045"/>
                </a:cubicBezTo>
                <a:cubicBezTo>
                  <a:pt x="17916" y="6936"/>
                  <a:pt x="17932" y="6831"/>
                  <a:pt x="17934" y="6722"/>
                </a:cubicBezTo>
                <a:cubicBezTo>
                  <a:pt x="17938" y="6503"/>
                  <a:pt x="17927" y="6292"/>
                  <a:pt x="17909" y="6077"/>
                </a:cubicBezTo>
                <a:cubicBezTo>
                  <a:pt x="17897" y="5929"/>
                  <a:pt x="17869" y="5696"/>
                  <a:pt x="17934" y="5556"/>
                </a:cubicBezTo>
                <a:cubicBezTo>
                  <a:pt x="17962" y="5496"/>
                  <a:pt x="18055" y="5476"/>
                  <a:pt x="18107" y="5457"/>
                </a:cubicBezTo>
                <a:cubicBezTo>
                  <a:pt x="18222" y="5414"/>
                  <a:pt x="18358" y="5410"/>
                  <a:pt x="18479" y="5407"/>
                </a:cubicBezTo>
                <a:cubicBezTo>
                  <a:pt x="18671" y="5403"/>
                  <a:pt x="18857" y="5383"/>
                  <a:pt x="19050" y="5383"/>
                </a:cubicBezTo>
                <a:cubicBezTo>
                  <a:pt x="19251" y="5383"/>
                  <a:pt x="19447" y="5370"/>
                  <a:pt x="19645" y="5358"/>
                </a:cubicBezTo>
                <a:cubicBezTo>
                  <a:pt x="19772" y="5350"/>
                  <a:pt x="19920" y="5349"/>
                  <a:pt x="20042" y="5308"/>
                </a:cubicBezTo>
                <a:cubicBezTo>
                  <a:pt x="20092" y="5291"/>
                  <a:pt x="20054" y="5296"/>
                  <a:pt x="20092" y="5259"/>
                </a:cubicBezTo>
              </a:path>
              <a:path w="10493" h="2208">
                <a:moveTo>
                  <a:pt x="18306" y="6102"/>
                </a:moveTo>
                <a:cubicBezTo>
                  <a:pt x="18306" y="6336"/>
                  <a:pt x="18300" y="6568"/>
                  <a:pt x="18331" y="6796"/>
                </a:cubicBezTo>
                <a:cubicBezTo>
                  <a:pt x="18342" y="6874"/>
                  <a:pt x="18341" y="6950"/>
                  <a:pt x="18405" y="6871"/>
                </a:cubicBezTo>
              </a:path>
              <a:path w="10493" h="2208">
                <a:moveTo>
                  <a:pt x="18579" y="6102"/>
                </a:moveTo>
                <a:cubicBezTo>
                  <a:pt x="18552" y="6243"/>
                  <a:pt x="18518" y="6383"/>
                  <a:pt x="18504" y="6524"/>
                </a:cubicBezTo>
                <a:cubicBezTo>
                  <a:pt x="18497" y="6599"/>
                  <a:pt x="18534" y="6711"/>
                  <a:pt x="18579" y="6772"/>
                </a:cubicBezTo>
                <a:cubicBezTo>
                  <a:pt x="18607" y="6809"/>
                  <a:pt x="18726" y="6898"/>
                  <a:pt x="18777" y="6896"/>
                </a:cubicBezTo>
                <a:cubicBezTo>
                  <a:pt x="18879" y="6892"/>
                  <a:pt x="18912" y="6825"/>
                  <a:pt x="18951" y="6747"/>
                </a:cubicBezTo>
                <a:cubicBezTo>
                  <a:pt x="18988" y="6674"/>
                  <a:pt x="19024" y="6626"/>
                  <a:pt x="18976" y="6548"/>
                </a:cubicBezTo>
                <a:cubicBezTo>
                  <a:pt x="18930" y="6474"/>
                  <a:pt x="18860" y="6490"/>
                  <a:pt x="18802" y="6548"/>
                </a:cubicBezTo>
                <a:cubicBezTo>
                  <a:pt x="18763" y="6587"/>
                  <a:pt x="18723" y="6699"/>
                  <a:pt x="18802" y="6722"/>
                </a:cubicBezTo>
                <a:cubicBezTo>
                  <a:pt x="18819" y="6722"/>
                  <a:pt x="18835" y="6722"/>
                  <a:pt x="18852" y="6722"/>
                </a:cubicBezTo>
              </a:path>
              <a:path w="10493" h="2208">
                <a:moveTo>
                  <a:pt x="19348" y="6052"/>
                </a:moveTo>
                <a:cubicBezTo>
                  <a:pt x="19178" y="6062"/>
                  <a:pt x="19032" y="6109"/>
                  <a:pt x="19025" y="6325"/>
                </a:cubicBezTo>
                <a:cubicBezTo>
                  <a:pt x="19023" y="6405"/>
                  <a:pt x="19123" y="6490"/>
                  <a:pt x="19199" y="6474"/>
                </a:cubicBezTo>
                <a:cubicBezTo>
                  <a:pt x="19239" y="6465"/>
                  <a:pt x="19306" y="6379"/>
                  <a:pt x="19323" y="6350"/>
                </a:cubicBezTo>
                <a:cubicBezTo>
                  <a:pt x="19365" y="6279"/>
                  <a:pt x="19372" y="6232"/>
                  <a:pt x="19372" y="6152"/>
                </a:cubicBezTo>
                <a:cubicBezTo>
                  <a:pt x="19372" y="6135"/>
                  <a:pt x="19372" y="6119"/>
                  <a:pt x="19372" y="6102"/>
                </a:cubicBezTo>
                <a:cubicBezTo>
                  <a:pt x="19372" y="6197"/>
                  <a:pt x="19351" y="6279"/>
                  <a:pt x="19348" y="6375"/>
                </a:cubicBezTo>
                <a:cubicBezTo>
                  <a:pt x="19344" y="6536"/>
                  <a:pt x="19352" y="6690"/>
                  <a:pt x="19372" y="6846"/>
                </a:cubicBezTo>
                <a:cubicBezTo>
                  <a:pt x="19382" y="6925"/>
                  <a:pt x="19370" y="6954"/>
                  <a:pt x="19422" y="7020"/>
                </a:cubicBezTo>
              </a:path>
              <a:path w="10493" h="2208">
                <a:moveTo>
                  <a:pt x="19893" y="6300"/>
                </a:moveTo>
                <a:cubicBezTo>
                  <a:pt x="20082" y="6269"/>
                  <a:pt x="20163" y="6276"/>
                  <a:pt x="20340" y="6276"/>
                </a:cubicBezTo>
                <a:cubicBezTo>
                  <a:pt x="20356" y="6276"/>
                  <a:pt x="20373" y="6276"/>
                  <a:pt x="20389" y="6276"/>
                </a:cubicBezTo>
              </a:path>
              <a:path w="10493" h="2208">
                <a:moveTo>
                  <a:pt x="20092" y="6474"/>
                </a:moveTo>
                <a:cubicBezTo>
                  <a:pt x="20230" y="6521"/>
                  <a:pt x="20318" y="6524"/>
                  <a:pt x="20464" y="6524"/>
                </a:cubicBezTo>
              </a:path>
              <a:path w="10493" h="2208">
                <a:moveTo>
                  <a:pt x="20935" y="5904"/>
                </a:moveTo>
                <a:cubicBezTo>
                  <a:pt x="20965" y="6021"/>
                  <a:pt x="20960" y="6129"/>
                  <a:pt x="20960" y="6251"/>
                </a:cubicBezTo>
                <a:cubicBezTo>
                  <a:pt x="20960" y="6395"/>
                  <a:pt x="20875" y="6887"/>
                  <a:pt x="20985" y="6995"/>
                </a:cubicBezTo>
                <a:cubicBezTo>
                  <a:pt x="20985" y="6987"/>
                  <a:pt x="20985" y="6978"/>
                  <a:pt x="20985" y="6970"/>
                </a:cubicBezTo>
              </a:path>
              <a:path w="10493" h="2208">
                <a:moveTo>
                  <a:pt x="21357" y="6028"/>
                </a:moveTo>
                <a:cubicBezTo>
                  <a:pt x="21471" y="5953"/>
                  <a:pt x="21607" y="5795"/>
                  <a:pt x="21754" y="5879"/>
                </a:cubicBezTo>
                <a:cubicBezTo>
                  <a:pt x="21836" y="5926"/>
                  <a:pt x="21809" y="6011"/>
                  <a:pt x="21803" y="6077"/>
                </a:cubicBezTo>
                <a:cubicBezTo>
                  <a:pt x="21794" y="6168"/>
                  <a:pt x="21740" y="6234"/>
                  <a:pt x="21679" y="6300"/>
                </a:cubicBezTo>
                <a:cubicBezTo>
                  <a:pt x="21634" y="6349"/>
                  <a:pt x="21582" y="6387"/>
                  <a:pt x="21530" y="6424"/>
                </a:cubicBezTo>
                <a:cubicBezTo>
                  <a:pt x="21590" y="6390"/>
                  <a:pt x="21611" y="6385"/>
                  <a:pt x="21679" y="6375"/>
                </a:cubicBezTo>
                <a:cubicBezTo>
                  <a:pt x="21853" y="6350"/>
                  <a:pt x="21982" y="6503"/>
                  <a:pt x="22027" y="6648"/>
                </a:cubicBezTo>
                <a:cubicBezTo>
                  <a:pt x="22060" y="6755"/>
                  <a:pt x="22094" y="6841"/>
                  <a:pt x="22051" y="6945"/>
                </a:cubicBezTo>
                <a:cubicBezTo>
                  <a:pt x="22025" y="7007"/>
                  <a:pt x="21983" y="7036"/>
                  <a:pt x="21927" y="7069"/>
                </a:cubicBezTo>
                <a:cubicBezTo>
                  <a:pt x="21837" y="7123"/>
                  <a:pt x="21770" y="7080"/>
                  <a:pt x="21679" y="7069"/>
                </a:cubicBezTo>
                <a:cubicBezTo>
                  <a:pt x="21591" y="7059"/>
                  <a:pt x="21495" y="7069"/>
                  <a:pt x="21406" y="70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8"/>
          <p:cNvSpPr/>
          <p:nvPr/>
        </p:nvSpPr>
        <p:spPr>
          <a:xfrm>
            <a:off x="4446720" y="2759040"/>
            <a:ext cx="2278080" cy="1206360"/>
          </a:xfrm>
          <a:custGeom>
            <a:avLst/>
            <a:gdLst/>
            <a:ahLst/>
            <a:rect l="l" t="t" r="r" b="b"/>
            <a:pathLst>
              <a:path w="6326" h="3349">
                <a:moveTo>
                  <a:pt x="13742" y="7665"/>
                </a:moveTo>
                <a:cubicBezTo>
                  <a:pt x="13692" y="7783"/>
                  <a:pt x="13614" y="7876"/>
                  <a:pt x="13519" y="7962"/>
                </a:cubicBezTo>
                <a:cubicBezTo>
                  <a:pt x="13391" y="8078"/>
                  <a:pt x="13238" y="8141"/>
                  <a:pt x="13097" y="8235"/>
                </a:cubicBezTo>
                <a:cubicBezTo>
                  <a:pt x="12934" y="8344"/>
                  <a:pt x="12778" y="8434"/>
                  <a:pt x="12626" y="8558"/>
                </a:cubicBezTo>
                <a:cubicBezTo>
                  <a:pt x="12571" y="8603"/>
                  <a:pt x="12448" y="8660"/>
                  <a:pt x="12402" y="8706"/>
                </a:cubicBezTo>
                <a:cubicBezTo>
                  <a:pt x="12325" y="8783"/>
                  <a:pt x="12384" y="8753"/>
                  <a:pt x="12402" y="8806"/>
                </a:cubicBezTo>
                <a:cubicBezTo>
                  <a:pt x="12443" y="8929"/>
                  <a:pt x="12570" y="9058"/>
                  <a:pt x="12626" y="9178"/>
                </a:cubicBezTo>
                <a:cubicBezTo>
                  <a:pt x="12702" y="9339"/>
                  <a:pt x="12784" y="9509"/>
                  <a:pt x="12849" y="9674"/>
                </a:cubicBezTo>
                <a:cubicBezTo>
                  <a:pt x="12955" y="9943"/>
                  <a:pt x="13052" y="10218"/>
                  <a:pt x="13146" y="10492"/>
                </a:cubicBezTo>
                <a:cubicBezTo>
                  <a:pt x="13182" y="10597"/>
                  <a:pt x="13190" y="10713"/>
                  <a:pt x="13221" y="10815"/>
                </a:cubicBezTo>
                <a:cubicBezTo>
                  <a:pt x="13229" y="10831"/>
                  <a:pt x="13238" y="10848"/>
                  <a:pt x="13246" y="10864"/>
                </a:cubicBezTo>
              </a:path>
              <a:path w="6326" h="3349">
                <a:moveTo>
                  <a:pt x="13692" y="8161"/>
                </a:moveTo>
                <a:cubicBezTo>
                  <a:pt x="13791" y="8136"/>
                  <a:pt x="13888" y="8115"/>
                  <a:pt x="13990" y="8111"/>
                </a:cubicBezTo>
                <a:cubicBezTo>
                  <a:pt x="14088" y="8107"/>
                  <a:pt x="14172" y="8121"/>
                  <a:pt x="14263" y="8136"/>
                </a:cubicBezTo>
                <a:cubicBezTo>
                  <a:pt x="14314" y="8136"/>
                  <a:pt x="14333" y="8135"/>
                  <a:pt x="14362" y="8111"/>
                </a:cubicBezTo>
              </a:path>
              <a:path w="6326" h="3349">
                <a:moveTo>
                  <a:pt x="13816" y="8186"/>
                </a:moveTo>
                <a:cubicBezTo>
                  <a:pt x="13755" y="8314"/>
                  <a:pt x="13717" y="8372"/>
                  <a:pt x="13717" y="8508"/>
                </a:cubicBezTo>
                <a:cubicBezTo>
                  <a:pt x="13717" y="8566"/>
                  <a:pt x="13717" y="8591"/>
                  <a:pt x="13717" y="8632"/>
                </a:cubicBezTo>
                <a:cubicBezTo>
                  <a:pt x="13760" y="8643"/>
                  <a:pt x="13848" y="8666"/>
                  <a:pt x="13891" y="8632"/>
                </a:cubicBezTo>
                <a:cubicBezTo>
                  <a:pt x="13933" y="8598"/>
                  <a:pt x="13981" y="8529"/>
                  <a:pt x="14039" y="8508"/>
                </a:cubicBezTo>
                <a:cubicBezTo>
                  <a:pt x="14066" y="8498"/>
                  <a:pt x="14189" y="8557"/>
                  <a:pt x="14213" y="8582"/>
                </a:cubicBezTo>
                <a:cubicBezTo>
                  <a:pt x="14259" y="8632"/>
                  <a:pt x="14309" y="8716"/>
                  <a:pt x="14312" y="8781"/>
                </a:cubicBezTo>
                <a:cubicBezTo>
                  <a:pt x="14316" y="8869"/>
                  <a:pt x="14317" y="8956"/>
                  <a:pt x="14238" y="9004"/>
                </a:cubicBezTo>
                <a:cubicBezTo>
                  <a:pt x="14139" y="9063"/>
                  <a:pt x="14083" y="9079"/>
                  <a:pt x="13965" y="9079"/>
                </a:cubicBezTo>
                <a:cubicBezTo>
                  <a:pt x="13874" y="9079"/>
                  <a:pt x="13783" y="9079"/>
                  <a:pt x="13692" y="9079"/>
                </a:cubicBezTo>
              </a:path>
              <a:path w="6326" h="3349">
                <a:moveTo>
                  <a:pt x="13444" y="9079"/>
                </a:moveTo>
                <a:cubicBezTo>
                  <a:pt x="13545" y="9169"/>
                  <a:pt x="13599" y="9153"/>
                  <a:pt x="13742" y="9153"/>
                </a:cubicBezTo>
                <a:cubicBezTo>
                  <a:pt x="14002" y="9153"/>
                  <a:pt x="14282" y="9176"/>
                  <a:pt x="14511" y="9103"/>
                </a:cubicBezTo>
                <a:cubicBezTo>
                  <a:pt x="14527" y="9103"/>
                  <a:pt x="14544" y="9103"/>
                  <a:pt x="14560" y="9103"/>
                </a:cubicBezTo>
              </a:path>
              <a:path w="6326" h="3349">
                <a:moveTo>
                  <a:pt x="13891" y="9599"/>
                </a:moveTo>
                <a:cubicBezTo>
                  <a:pt x="13869" y="9823"/>
                  <a:pt x="13875" y="9973"/>
                  <a:pt x="13891" y="10195"/>
                </a:cubicBezTo>
                <a:cubicBezTo>
                  <a:pt x="13895" y="10249"/>
                  <a:pt x="13891" y="10376"/>
                  <a:pt x="13940" y="10418"/>
                </a:cubicBezTo>
                <a:cubicBezTo>
                  <a:pt x="13948" y="10418"/>
                  <a:pt x="13957" y="10418"/>
                  <a:pt x="13965" y="10418"/>
                </a:cubicBezTo>
              </a:path>
              <a:path w="6326" h="3349">
                <a:moveTo>
                  <a:pt x="14288" y="9599"/>
                </a:moveTo>
                <a:cubicBezTo>
                  <a:pt x="14354" y="9569"/>
                  <a:pt x="14502" y="9468"/>
                  <a:pt x="14585" y="9550"/>
                </a:cubicBezTo>
                <a:cubicBezTo>
                  <a:pt x="14646" y="9610"/>
                  <a:pt x="14659" y="9705"/>
                  <a:pt x="14610" y="9773"/>
                </a:cubicBezTo>
                <a:cubicBezTo>
                  <a:pt x="14581" y="9813"/>
                  <a:pt x="14506" y="9891"/>
                  <a:pt x="14461" y="9897"/>
                </a:cubicBezTo>
                <a:cubicBezTo>
                  <a:pt x="14388" y="9907"/>
                  <a:pt x="14396" y="9913"/>
                  <a:pt x="14337" y="9971"/>
                </a:cubicBezTo>
                <a:cubicBezTo>
                  <a:pt x="14507" y="9971"/>
                  <a:pt x="14536" y="9983"/>
                  <a:pt x="14660" y="10046"/>
                </a:cubicBezTo>
                <a:cubicBezTo>
                  <a:pt x="14708" y="10070"/>
                  <a:pt x="14816" y="10121"/>
                  <a:pt x="14833" y="10195"/>
                </a:cubicBezTo>
                <a:cubicBezTo>
                  <a:pt x="14851" y="10272"/>
                  <a:pt x="14833" y="10349"/>
                  <a:pt x="14808" y="10418"/>
                </a:cubicBezTo>
                <a:cubicBezTo>
                  <a:pt x="14771" y="10520"/>
                  <a:pt x="14695" y="10513"/>
                  <a:pt x="14585" y="10517"/>
                </a:cubicBezTo>
                <a:cubicBezTo>
                  <a:pt x="14476" y="10521"/>
                  <a:pt x="14321" y="10533"/>
                  <a:pt x="14263" y="10418"/>
                </a:cubicBezTo>
                <a:cubicBezTo>
                  <a:pt x="14238" y="10344"/>
                  <a:pt x="14230" y="10319"/>
                  <a:pt x="14263" y="10269"/>
                </a:cubicBezTo>
              </a:path>
              <a:path w="6326" h="3349">
                <a:moveTo>
                  <a:pt x="15156" y="9178"/>
                </a:moveTo>
                <a:cubicBezTo>
                  <a:pt x="15135" y="9289"/>
                  <a:pt x="15106" y="9388"/>
                  <a:pt x="15106" y="9500"/>
                </a:cubicBezTo>
                <a:cubicBezTo>
                  <a:pt x="15106" y="9557"/>
                  <a:pt x="15095" y="9576"/>
                  <a:pt x="15131" y="9599"/>
                </a:cubicBezTo>
              </a:path>
              <a:path w="6326" h="3349">
                <a:moveTo>
                  <a:pt x="15354" y="8930"/>
                </a:moveTo>
                <a:cubicBezTo>
                  <a:pt x="15496" y="8916"/>
                  <a:pt x="15588" y="8874"/>
                  <a:pt x="15726" y="8855"/>
                </a:cubicBezTo>
                <a:cubicBezTo>
                  <a:pt x="15743" y="8855"/>
                  <a:pt x="15759" y="8855"/>
                  <a:pt x="15776" y="8855"/>
                </a:cubicBezTo>
              </a:path>
              <a:path w="6326" h="3349">
                <a:moveTo>
                  <a:pt x="15999" y="8434"/>
                </a:moveTo>
                <a:cubicBezTo>
                  <a:pt x="16017" y="8566"/>
                  <a:pt x="16008" y="8716"/>
                  <a:pt x="16024" y="8855"/>
                </a:cubicBezTo>
                <a:cubicBezTo>
                  <a:pt x="16035" y="8954"/>
                  <a:pt x="16038" y="9059"/>
                  <a:pt x="16049" y="9153"/>
                </a:cubicBezTo>
                <a:cubicBezTo>
                  <a:pt x="16057" y="9220"/>
                  <a:pt x="16039" y="9266"/>
                  <a:pt x="16073" y="9302"/>
                </a:cubicBezTo>
              </a:path>
              <a:path w="6326" h="3349">
                <a:moveTo>
                  <a:pt x="16297" y="8409"/>
                </a:moveTo>
                <a:cubicBezTo>
                  <a:pt x="16380" y="8350"/>
                  <a:pt x="16458" y="8276"/>
                  <a:pt x="16570" y="8310"/>
                </a:cubicBezTo>
                <a:cubicBezTo>
                  <a:pt x="16647" y="8334"/>
                  <a:pt x="16671" y="8414"/>
                  <a:pt x="16694" y="8483"/>
                </a:cubicBezTo>
                <a:cubicBezTo>
                  <a:pt x="16734" y="8600"/>
                  <a:pt x="16687" y="8677"/>
                  <a:pt x="16644" y="8781"/>
                </a:cubicBezTo>
                <a:cubicBezTo>
                  <a:pt x="16594" y="8903"/>
                  <a:pt x="16516" y="9009"/>
                  <a:pt x="16446" y="9103"/>
                </a:cubicBezTo>
                <a:cubicBezTo>
                  <a:pt x="16403" y="9161"/>
                  <a:pt x="16329" y="9158"/>
                  <a:pt x="16371" y="9153"/>
                </a:cubicBezTo>
                <a:cubicBezTo>
                  <a:pt x="16559" y="9131"/>
                  <a:pt x="16758" y="9159"/>
                  <a:pt x="16942" y="9178"/>
                </a:cubicBezTo>
                <a:cubicBezTo>
                  <a:pt x="17023" y="9186"/>
                  <a:pt x="17091" y="9172"/>
                  <a:pt x="17165" y="9153"/>
                </a:cubicBezTo>
              </a:path>
              <a:path w="6326" h="3349">
                <a:moveTo>
                  <a:pt x="15925" y="9451"/>
                </a:moveTo>
                <a:cubicBezTo>
                  <a:pt x="16231" y="9451"/>
                  <a:pt x="16536" y="9451"/>
                  <a:pt x="16842" y="9451"/>
                </a:cubicBezTo>
              </a:path>
              <a:path w="6326" h="3349">
                <a:moveTo>
                  <a:pt x="16272" y="9996"/>
                </a:moveTo>
                <a:cubicBezTo>
                  <a:pt x="16272" y="10161"/>
                  <a:pt x="16262" y="10332"/>
                  <a:pt x="16297" y="10492"/>
                </a:cubicBezTo>
                <a:cubicBezTo>
                  <a:pt x="16311" y="10556"/>
                  <a:pt x="16346" y="10691"/>
                  <a:pt x="16371" y="10716"/>
                </a:cubicBezTo>
              </a:path>
              <a:path w="6326" h="3349">
                <a:moveTo>
                  <a:pt x="16570" y="9971"/>
                </a:moveTo>
                <a:cubicBezTo>
                  <a:pt x="16654" y="9935"/>
                  <a:pt x="16786" y="9856"/>
                  <a:pt x="16892" y="9897"/>
                </a:cubicBezTo>
                <a:cubicBezTo>
                  <a:pt x="16960" y="9923"/>
                  <a:pt x="16946" y="10026"/>
                  <a:pt x="16917" y="10071"/>
                </a:cubicBezTo>
                <a:cubicBezTo>
                  <a:pt x="16858" y="10161"/>
                  <a:pt x="16726" y="10198"/>
                  <a:pt x="16644" y="10269"/>
                </a:cubicBezTo>
                <a:cubicBezTo>
                  <a:pt x="16786" y="10269"/>
                  <a:pt x="16776" y="10267"/>
                  <a:pt x="16892" y="10344"/>
                </a:cubicBezTo>
                <a:cubicBezTo>
                  <a:pt x="16966" y="10393"/>
                  <a:pt x="17048" y="10483"/>
                  <a:pt x="17090" y="10567"/>
                </a:cubicBezTo>
                <a:cubicBezTo>
                  <a:pt x="17131" y="10648"/>
                  <a:pt x="17122" y="10721"/>
                  <a:pt x="17066" y="10790"/>
                </a:cubicBezTo>
                <a:cubicBezTo>
                  <a:pt x="17015" y="10852"/>
                  <a:pt x="16915" y="10854"/>
                  <a:pt x="16842" y="10840"/>
                </a:cubicBezTo>
                <a:cubicBezTo>
                  <a:pt x="16720" y="10817"/>
                  <a:pt x="16647" y="10737"/>
                  <a:pt x="16594" y="10641"/>
                </a:cubicBezTo>
              </a:path>
              <a:path w="6326" h="3349">
                <a:moveTo>
                  <a:pt x="17165" y="8359"/>
                </a:moveTo>
                <a:cubicBezTo>
                  <a:pt x="17248" y="8398"/>
                  <a:pt x="17327" y="8462"/>
                  <a:pt x="17413" y="8508"/>
                </a:cubicBezTo>
                <a:cubicBezTo>
                  <a:pt x="17572" y="8594"/>
                  <a:pt x="17723" y="8694"/>
                  <a:pt x="17884" y="8781"/>
                </a:cubicBezTo>
                <a:cubicBezTo>
                  <a:pt x="18047" y="8869"/>
                  <a:pt x="18218" y="8948"/>
                  <a:pt x="18380" y="9029"/>
                </a:cubicBezTo>
                <a:cubicBezTo>
                  <a:pt x="18472" y="9075"/>
                  <a:pt x="18563" y="9118"/>
                  <a:pt x="18653" y="9153"/>
                </a:cubicBezTo>
                <a:cubicBezTo>
                  <a:pt x="18678" y="9153"/>
                  <a:pt x="18686" y="9153"/>
                  <a:pt x="18653" y="9153"/>
                </a:cubicBezTo>
                <a:cubicBezTo>
                  <a:pt x="18525" y="9311"/>
                  <a:pt x="18537" y="9287"/>
                  <a:pt x="18380" y="9525"/>
                </a:cubicBezTo>
                <a:cubicBezTo>
                  <a:pt x="18247" y="9726"/>
                  <a:pt x="18166" y="9959"/>
                  <a:pt x="18107" y="10195"/>
                </a:cubicBezTo>
                <a:cubicBezTo>
                  <a:pt x="18060" y="10384"/>
                  <a:pt x="18024" y="10574"/>
                  <a:pt x="17983" y="10765"/>
                </a:cubicBezTo>
                <a:cubicBezTo>
                  <a:pt x="17960" y="10869"/>
                  <a:pt x="17942" y="10931"/>
                  <a:pt x="17884" y="110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Ink 4"/>
          <p:cNvSpPr/>
          <p:nvPr/>
        </p:nvSpPr>
        <p:spPr>
          <a:xfrm>
            <a:off x="1258920" y="1812960"/>
            <a:ext cx="509400" cy="419040"/>
          </a:xfrm>
          <a:custGeom>
            <a:avLst/>
            <a:gdLst/>
            <a:ahLst/>
            <a:rect l="l" t="t" r="r" b="b"/>
            <a:pathLst>
              <a:path w="1415" h="1167">
                <a:moveTo>
                  <a:pt x="3547" y="5407"/>
                </a:moveTo>
                <a:cubicBezTo>
                  <a:pt x="3516" y="5348"/>
                  <a:pt x="3570" y="5354"/>
                  <a:pt x="3621" y="5308"/>
                </a:cubicBezTo>
                <a:cubicBezTo>
                  <a:pt x="3691" y="5245"/>
                  <a:pt x="3737" y="5256"/>
                  <a:pt x="3820" y="5283"/>
                </a:cubicBezTo>
                <a:cubicBezTo>
                  <a:pt x="3843" y="5374"/>
                  <a:pt x="3823" y="5420"/>
                  <a:pt x="3770" y="5507"/>
                </a:cubicBezTo>
                <a:cubicBezTo>
                  <a:pt x="3719" y="5591"/>
                  <a:pt x="3670" y="5625"/>
                  <a:pt x="3597" y="5680"/>
                </a:cubicBezTo>
                <a:cubicBezTo>
                  <a:pt x="3527" y="5733"/>
                  <a:pt x="3687" y="5637"/>
                  <a:pt x="3721" y="5631"/>
                </a:cubicBezTo>
                <a:cubicBezTo>
                  <a:pt x="3842" y="5611"/>
                  <a:pt x="3900" y="5704"/>
                  <a:pt x="3944" y="5804"/>
                </a:cubicBezTo>
                <a:cubicBezTo>
                  <a:pt x="3978" y="5882"/>
                  <a:pt x="3946" y="5960"/>
                  <a:pt x="3894" y="6028"/>
                </a:cubicBezTo>
                <a:cubicBezTo>
                  <a:pt x="3828" y="6113"/>
                  <a:pt x="3738" y="6137"/>
                  <a:pt x="3646" y="6176"/>
                </a:cubicBezTo>
                <a:cubicBezTo>
                  <a:pt x="3557" y="6214"/>
                  <a:pt x="3544" y="6208"/>
                  <a:pt x="3497" y="6127"/>
                </a:cubicBezTo>
              </a:path>
              <a:path w="1415" h="1167">
                <a:moveTo>
                  <a:pt x="4068" y="5482"/>
                </a:moveTo>
                <a:cubicBezTo>
                  <a:pt x="4101" y="5423"/>
                  <a:pt x="4129" y="5395"/>
                  <a:pt x="4192" y="5383"/>
                </a:cubicBezTo>
                <a:cubicBezTo>
                  <a:pt x="4267" y="5368"/>
                  <a:pt x="4356" y="5446"/>
                  <a:pt x="4390" y="5507"/>
                </a:cubicBezTo>
                <a:cubicBezTo>
                  <a:pt x="4441" y="5598"/>
                  <a:pt x="4408" y="5741"/>
                  <a:pt x="4366" y="5829"/>
                </a:cubicBezTo>
                <a:cubicBezTo>
                  <a:pt x="4322" y="5921"/>
                  <a:pt x="4251" y="6028"/>
                  <a:pt x="4142" y="6052"/>
                </a:cubicBezTo>
                <a:cubicBezTo>
                  <a:pt x="4060" y="6070"/>
                  <a:pt x="4041" y="6050"/>
                  <a:pt x="3994" y="6003"/>
                </a:cubicBezTo>
                <a:cubicBezTo>
                  <a:pt x="4004" y="5930"/>
                  <a:pt x="4014" y="5907"/>
                  <a:pt x="4093" y="5904"/>
                </a:cubicBezTo>
                <a:cubicBezTo>
                  <a:pt x="4194" y="5900"/>
                  <a:pt x="4248" y="5933"/>
                  <a:pt x="4341" y="5953"/>
                </a:cubicBezTo>
                <a:cubicBezTo>
                  <a:pt x="4400" y="5965"/>
                  <a:pt x="4471" y="6009"/>
                  <a:pt x="4514" y="5978"/>
                </a:cubicBezTo>
                <a:cubicBezTo>
                  <a:pt x="4522" y="5970"/>
                  <a:pt x="4531" y="5961"/>
                  <a:pt x="4539" y="5953"/>
                </a:cubicBezTo>
              </a:path>
              <a:path w="1415" h="1167">
                <a:moveTo>
                  <a:pt x="4614" y="5035"/>
                </a:moveTo>
                <a:cubicBezTo>
                  <a:pt x="4752" y="5184"/>
                  <a:pt x="4922" y="5310"/>
                  <a:pt x="4911" y="5531"/>
                </a:cubicBezTo>
                <a:cubicBezTo>
                  <a:pt x="4901" y="5722"/>
                  <a:pt x="4835" y="5836"/>
                  <a:pt x="4713" y="5978"/>
                </a:cubicBezTo>
                <a:cubicBezTo>
                  <a:pt x="4639" y="6064"/>
                  <a:pt x="4539" y="6124"/>
                  <a:pt x="4440" y="6176"/>
                </a:cubicBezTo>
                <a:cubicBezTo>
                  <a:pt x="4423" y="6184"/>
                  <a:pt x="4407" y="6193"/>
                  <a:pt x="4390" y="62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Ink 5"/>
          <p:cNvSpPr/>
          <p:nvPr/>
        </p:nvSpPr>
        <p:spPr>
          <a:xfrm>
            <a:off x="2205000" y="1589040"/>
            <a:ext cx="1573200" cy="723960"/>
          </a:xfrm>
          <a:custGeom>
            <a:avLst/>
            <a:gdLst/>
            <a:ahLst/>
            <a:rect l="l" t="t" r="r" b="b"/>
            <a:pathLst>
              <a:path w="4366" h="2010">
                <a:moveTo>
                  <a:pt x="6846" y="4415"/>
                </a:moveTo>
                <a:cubicBezTo>
                  <a:pt x="6834" y="4507"/>
                  <a:pt x="6775" y="4584"/>
                  <a:pt x="6722" y="4663"/>
                </a:cubicBezTo>
                <a:cubicBezTo>
                  <a:pt x="6628" y="4802"/>
                  <a:pt x="6518" y="4917"/>
                  <a:pt x="6400" y="5035"/>
                </a:cubicBezTo>
                <a:cubicBezTo>
                  <a:pt x="6337" y="5098"/>
                  <a:pt x="6264" y="5183"/>
                  <a:pt x="6201" y="5234"/>
                </a:cubicBezTo>
                <a:cubicBezTo>
                  <a:pt x="6158" y="5256"/>
                  <a:pt x="6147" y="5260"/>
                  <a:pt x="6127" y="5283"/>
                </a:cubicBezTo>
                <a:cubicBezTo>
                  <a:pt x="6151" y="5368"/>
                  <a:pt x="6200" y="5369"/>
                  <a:pt x="6276" y="5432"/>
                </a:cubicBezTo>
                <a:cubicBezTo>
                  <a:pt x="6477" y="5597"/>
                  <a:pt x="6629" y="5837"/>
                  <a:pt x="6821" y="6003"/>
                </a:cubicBezTo>
                <a:cubicBezTo>
                  <a:pt x="6875" y="6030"/>
                  <a:pt x="6896" y="6035"/>
                  <a:pt x="6921" y="5978"/>
                </a:cubicBezTo>
              </a:path>
              <a:path w="4366" h="2010">
                <a:moveTo>
                  <a:pt x="7565" y="5011"/>
                </a:moveTo>
                <a:cubicBezTo>
                  <a:pt x="7463" y="4955"/>
                  <a:pt x="7412" y="4961"/>
                  <a:pt x="7293" y="4961"/>
                </a:cubicBezTo>
                <a:cubicBezTo>
                  <a:pt x="7171" y="4961"/>
                  <a:pt x="7107" y="5003"/>
                  <a:pt x="7020" y="5085"/>
                </a:cubicBezTo>
                <a:cubicBezTo>
                  <a:pt x="6961" y="5140"/>
                  <a:pt x="7013" y="5248"/>
                  <a:pt x="7045" y="5308"/>
                </a:cubicBezTo>
                <a:cubicBezTo>
                  <a:pt x="7129" y="5465"/>
                  <a:pt x="7279" y="5570"/>
                  <a:pt x="7367" y="5730"/>
                </a:cubicBezTo>
                <a:cubicBezTo>
                  <a:pt x="7392" y="5776"/>
                  <a:pt x="7467" y="5924"/>
                  <a:pt x="7392" y="5978"/>
                </a:cubicBezTo>
                <a:cubicBezTo>
                  <a:pt x="7311" y="6036"/>
                  <a:pt x="7232" y="5971"/>
                  <a:pt x="7193" y="5904"/>
                </a:cubicBezTo>
                <a:cubicBezTo>
                  <a:pt x="7137" y="5807"/>
                  <a:pt x="7183" y="5707"/>
                  <a:pt x="7193" y="5606"/>
                </a:cubicBezTo>
                <a:cubicBezTo>
                  <a:pt x="7203" y="5500"/>
                  <a:pt x="7266" y="5438"/>
                  <a:pt x="7342" y="5358"/>
                </a:cubicBezTo>
                <a:cubicBezTo>
                  <a:pt x="7381" y="5316"/>
                  <a:pt x="7407" y="5278"/>
                  <a:pt x="7441" y="5234"/>
                </a:cubicBezTo>
              </a:path>
              <a:path w="4366" h="2010">
                <a:moveTo>
                  <a:pt x="7689" y="5978"/>
                </a:moveTo>
                <a:cubicBezTo>
                  <a:pt x="7678" y="6130"/>
                  <a:pt x="7560" y="6344"/>
                  <a:pt x="7689" y="6424"/>
                </a:cubicBezTo>
                <a:cubicBezTo>
                  <a:pt x="7697" y="6424"/>
                  <a:pt x="7706" y="6424"/>
                  <a:pt x="7714" y="6424"/>
                </a:cubicBezTo>
              </a:path>
              <a:path w="4366" h="2010">
                <a:moveTo>
                  <a:pt x="7938" y="5333"/>
                </a:moveTo>
                <a:cubicBezTo>
                  <a:pt x="8065" y="5293"/>
                  <a:pt x="8186" y="5293"/>
                  <a:pt x="8310" y="5259"/>
                </a:cubicBezTo>
                <a:cubicBezTo>
                  <a:pt x="8326" y="5251"/>
                  <a:pt x="8343" y="5242"/>
                  <a:pt x="8359" y="5234"/>
                </a:cubicBezTo>
              </a:path>
              <a:path w="4366" h="2010">
                <a:moveTo>
                  <a:pt x="8434" y="5035"/>
                </a:moveTo>
                <a:cubicBezTo>
                  <a:pt x="8547" y="4995"/>
                  <a:pt x="8569" y="4987"/>
                  <a:pt x="8682" y="5035"/>
                </a:cubicBezTo>
                <a:cubicBezTo>
                  <a:pt x="8814" y="5091"/>
                  <a:pt x="8806" y="5215"/>
                  <a:pt x="8781" y="5333"/>
                </a:cubicBezTo>
                <a:cubicBezTo>
                  <a:pt x="8759" y="5435"/>
                  <a:pt x="8667" y="5501"/>
                  <a:pt x="8607" y="5581"/>
                </a:cubicBezTo>
                <a:cubicBezTo>
                  <a:pt x="8542" y="5668"/>
                  <a:pt x="8508" y="5697"/>
                  <a:pt x="8508" y="5804"/>
                </a:cubicBezTo>
                <a:cubicBezTo>
                  <a:pt x="8508" y="5866"/>
                  <a:pt x="8564" y="5941"/>
                  <a:pt x="8632" y="5953"/>
                </a:cubicBezTo>
                <a:cubicBezTo>
                  <a:pt x="8704" y="5966"/>
                  <a:pt x="8763" y="5947"/>
                  <a:pt x="8830" y="5928"/>
                </a:cubicBezTo>
              </a:path>
              <a:path w="4366" h="2010">
                <a:moveTo>
                  <a:pt x="9029" y="5259"/>
                </a:moveTo>
                <a:cubicBezTo>
                  <a:pt x="9000" y="5376"/>
                  <a:pt x="8905" y="5580"/>
                  <a:pt x="8979" y="5705"/>
                </a:cubicBezTo>
                <a:cubicBezTo>
                  <a:pt x="9068" y="5854"/>
                  <a:pt x="9239" y="5888"/>
                  <a:pt x="9401" y="5854"/>
                </a:cubicBezTo>
                <a:cubicBezTo>
                  <a:pt x="9452" y="5843"/>
                  <a:pt x="9504" y="5625"/>
                  <a:pt x="9500" y="5581"/>
                </a:cubicBezTo>
                <a:cubicBezTo>
                  <a:pt x="9492" y="5496"/>
                  <a:pt x="9416" y="5409"/>
                  <a:pt x="9351" y="5358"/>
                </a:cubicBezTo>
                <a:cubicBezTo>
                  <a:pt x="9267" y="5292"/>
                  <a:pt x="9193" y="5287"/>
                  <a:pt x="9128" y="5209"/>
                </a:cubicBezTo>
                <a:cubicBezTo>
                  <a:pt x="9120" y="5201"/>
                  <a:pt x="9111" y="5192"/>
                  <a:pt x="9103" y="5184"/>
                </a:cubicBezTo>
              </a:path>
              <a:path w="4366" h="2010">
                <a:moveTo>
                  <a:pt x="9203" y="4564"/>
                </a:moveTo>
                <a:cubicBezTo>
                  <a:pt x="9339" y="4576"/>
                  <a:pt x="9409" y="4639"/>
                  <a:pt x="9525" y="4713"/>
                </a:cubicBezTo>
                <a:cubicBezTo>
                  <a:pt x="9689" y="4817"/>
                  <a:pt x="9841" y="4924"/>
                  <a:pt x="9996" y="5035"/>
                </a:cubicBezTo>
                <a:cubicBezTo>
                  <a:pt x="10139" y="5137"/>
                  <a:pt x="10385" y="5198"/>
                  <a:pt x="10492" y="5333"/>
                </a:cubicBezTo>
                <a:cubicBezTo>
                  <a:pt x="10543" y="5398"/>
                  <a:pt x="10370" y="5530"/>
                  <a:pt x="10344" y="5556"/>
                </a:cubicBezTo>
                <a:cubicBezTo>
                  <a:pt x="10228" y="5672"/>
                  <a:pt x="10131" y="5806"/>
                  <a:pt x="10021" y="5928"/>
                </a:cubicBezTo>
                <a:cubicBezTo>
                  <a:pt x="9974" y="5980"/>
                  <a:pt x="9922" y="6028"/>
                  <a:pt x="9872" y="60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Ink 6"/>
          <p:cNvSpPr/>
          <p:nvPr/>
        </p:nvSpPr>
        <p:spPr>
          <a:xfrm>
            <a:off x="1820880" y="2633760"/>
            <a:ext cx="3002040" cy="662040"/>
          </a:xfrm>
          <a:custGeom>
            <a:avLst/>
            <a:gdLst/>
            <a:ahLst/>
            <a:rect l="l" t="t" r="r" b="b"/>
            <a:pathLst>
              <a:path w="8336" h="1837">
                <a:moveTo>
                  <a:pt x="5060" y="7739"/>
                </a:moveTo>
                <a:cubicBezTo>
                  <a:pt x="5089" y="7730"/>
                  <a:pt x="5128" y="7683"/>
                  <a:pt x="5209" y="7689"/>
                </a:cubicBezTo>
                <a:cubicBezTo>
                  <a:pt x="5312" y="7697"/>
                  <a:pt x="5400" y="7752"/>
                  <a:pt x="5482" y="7813"/>
                </a:cubicBezTo>
                <a:cubicBezTo>
                  <a:pt x="5620" y="7915"/>
                  <a:pt x="5743" y="8172"/>
                  <a:pt x="5779" y="8334"/>
                </a:cubicBezTo>
                <a:cubicBezTo>
                  <a:pt x="5808" y="8463"/>
                  <a:pt x="5794" y="8579"/>
                  <a:pt x="5779" y="8706"/>
                </a:cubicBezTo>
                <a:cubicBezTo>
                  <a:pt x="5773" y="8754"/>
                  <a:pt x="5735" y="8841"/>
                  <a:pt x="5730" y="8855"/>
                </a:cubicBezTo>
                <a:cubicBezTo>
                  <a:pt x="5735" y="8730"/>
                  <a:pt x="5748" y="8608"/>
                  <a:pt x="5755" y="8483"/>
                </a:cubicBezTo>
                <a:cubicBezTo>
                  <a:pt x="5762" y="8352"/>
                  <a:pt x="5764" y="8217"/>
                  <a:pt x="5779" y="8086"/>
                </a:cubicBezTo>
                <a:cubicBezTo>
                  <a:pt x="5794" y="7960"/>
                  <a:pt x="5802" y="7843"/>
                  <a:pt x="5804" y="7714"/>
                </a:cubicBezTo>
                <a:cubicBezTo>
                  <a:pt x="5806" y="7620"/>
                  <a:pt x="5767" y="7415"/>
                  <a:pt x="5829" y="7342"/>
                </a:cubicBezTo>
                <a:cubicBezTo>
                  <a:pt x="5875" y="7288"/>
                  <a:pt x="6018" y="7318"/>
                  <a:pt x="6077" y="7317"/>
                </a:cubicBezTo>
                <a:cubicBezTo>
                  <a:pt x="6476" y="7310"/>
                  <a:pt x="6870" y="7342"/>
                  <a:pt x="7268" y="7342"/>
                </a:cubicBezTo>
                <a:cubicBezTo>
                  <a:pt x="7552" y="7342"/>
                  <a:pt x="7826" y="7338"/>
                  <a:pt x="8111" y="7342"/>
                </a:cubicBezTo>
                <a:cubicBezTo>
                  <a:pt x="8476" y="7347"/>
                  <a:pt x="8839" y="7353"/>
                  <a:pt x="9203" y="7367"/>
                </a:cubicBezTo>
                <a:cubicBezTo>
                  <a:pt x="9435" y="7376"/>
                  <a:pt x="9666" y="7406"/>
                  <a:pt x="9897" y="7417"/>
                </a:cubicBezTo>
                <a:cubicBezTo>
                  <a:pt x="10015" y="7422"/>
                  <a:pt x="10030" y="7417"/>
                  <a:pt x="10145" y="7392"/>
                </a:cubicBezTo>
              </a:path>
              <a:path w="8336" h="1837">
                <a:moveTo>
                  <a:pt x="6821" y="7789"/>
                </a:moveTo>
                <a:cubicBezTo>
                  <a:pt x="6751" y="7754"/>
                  <a:pt x="6697" y="7757"/>
                  <a:pt x="6623" y="7789"/>
                </a:cubicBezTo>
                <a:cubicBezTo>
                  <a:pt x="6552" y="7820"/>
                  <a:pt x="6462" y="7840"/>
                  <a:pt x="6400" y="7888"/>
                </a:cubicBezTo>
                <a:cubicBezTo>
                  <a:pt x="6344" y="7932"/>
                  <a:pt x="6287" y="8007"/>
                  <a:pt x="6325" y="8086"/>
                </a:cubicBezTo>
                <a:cubicBezTo>
                  <a:pt x="6347" y="8131"/>
                  <a:pt x="6510" y="8260"/>
                  <a:pt x="6548" y="8285"/>
                </a:cubicBezTo>
                <a:cubicBezTo>
                  <a:pt x="6675" y="8370"/>
                  <a:pt x="6735" y="8429"/>
                  <a:pt x="6821" y="8558"/>
                </a:cubicBezTo>
                <a:cubicBezTo>
                  <a:pt x="6863" y="8621"/>
                  <a:pt x="6901" y="8667"/>
                  <a:pt x="6846" y="8731"/>
                </a:cubicBezTo>
                <a:cubicBezTo>
                  <a:pt x="6800" y="8784"/>
                  <a:pt x="6694" y="8811"/>
                  <a:pt x="6623" y="8781"/>
                </a:cubicBezTo>
                <a:cubicBezTo>
                  <a:pt x="6528" y="8741"/>
                  <a:pt x="6486" y="8711"/>
                  <a:pt x="6449" y="8632"/>
                </a:cubicBezTo>
                <a:cubicBezTo>
                  <a:pt x="6393" y="8514"/>
                  <a:pt x="6483" y="8404"/>
                  <a:pt x="6548" y="8310"/>
                </a:cubicBezTo>
                <a:cubicBezTo>
                  <a:pt x="6609" y="8222"/>
                  <a:pt x="6676" y="8141"/>
                  <a:pt x="6747" y="8062"/>
                </a:cubicBezTo>
              </a:path>
              <a:path w="8336" h="1837">
                <a:moveTo>
                  <a:pt x="6970" y="7615"/>
                </a:moveTo>
                <a:cubicBezTo>
                  <a:pt x="7069" y="7605"/>
                  <a:pt x="7186" y="7577"/>
                  <a:pt x="7268" y="7665"/>
                </a:cubicBezTo>
                <a:cubicBezTo>
                  <a:pt x="7296" y="7695"/>
                  <a:pt x="7314" y="7826"/>
                  <a:pt x="7293" y="7863"/>
                </a:cubicBezTo>
                <a:cubicBezTo>
                  <a:pt x="7266" y="7912"/>
                  <a:pt x="7210" y="7970"/>
                  <a:pt x="7169" y="8012"/>
                </a:cubicBezTo>
                <a:cubicBezTo>
                  <a:pt x="7067" y="8115"/>
                  <a:pt x="7279" y="8066"/>
                  <a:pt x="7317" y="8062"/>
                </a:cubicBezTo>
                <a:cubicBezTo>
                  <a:pt x="7342" y="8062"/>
                  <a:pt x="7367" y="8062"/>
                  <a:pt x="7392" y="8062"/>
                </a:cubicBezTo>
              </a:path>
              <a:path w="8336" h="1837">
                <a:moveTo>
                  <a:pt x="7689" y="8062"/>
                </a:moveTo>
                <a:cubicBezTo>
                  <a:pt x="7668" y="8155"/>
                  <a:pt x="7615" y="8301"/>
                  <a:pt x="7640" y="8409"/>
                </a:cubicBezTo>
                <a:cubicBezTo>
                  <a:pt x="7654" y="8470"/>
                  <a:pt x="7690" y="8532"/>
                  <a:pt x="7665" y="8558"/>
                </a:cubicBezTo>
              </a:path>
              <a:path w="8336" h="1837">
                <a:moveTo>
                  <a:pt x="7441" y="8285"/>
                </a:moveTo>
                <a:cubicBezTo>
                  <a:pt x="7537" y="8285"/>
                  <a:pt x="7622" y="8269"/>
                  <a:pt x="7714" y="8260"/>
                </a:cubicBezTo>
                <a:cubicBezTo>
                  <a:pt x="7814" y="8251"/>
                  <a:pt x="7890" y="8240"/>
                  <a:pt x="7987" y="8210"/>
                </a:cubicBezTo>
              </a:path>
              <a:path w="8336" h="1837">
                <a:moveTo>
                  <a:pt x="8384" y="7764"/>
                </a:moveTo>
                <a:cubicBezTo>
                  <a:pt x="8323" y="7856"/>
                  <a:pt x="8248" y="7959"/>
                  <a:pt x="8210" y="8062"/>
                </a:cubicBezTo>
                <a:cubicBezTo>
                  <a:pt x="8177" y="8150"/>
                  <a:pt x="8140" y="8266"/>
                  <a:pt x="8136" y="8359"/>
                </a:cubicBezTo>
                <a:cubicBezTo>
                  <a:pt x="8131" y="8476"/>
                  <a:pt x="8134" y="8542"/>
                  <a:pt x="8210" y="8632"/>
                </a:cubicBezTo>
                <a:cubicBezTo>
                  <a:pt x="8269" y="8702"/>
                  <a:pt x="8297" y="8706"/>
                  <a:pt x="8384" y="8706"/>
                </a:cubicBezTo>
              </a:path>
              <a:path w="8336" h="1837">
                <a:moveTo>
                  <a:pt x="8458" y="8260"/>
                </a:moveTo>
                <a:cubicBezTo>
                  <a:pt x="8567" y="8232"/>
                  <a:pt x="8671" y="8198"/>
                  <a:pt x="8781" y="8186"/>
                </a:cubicBezTo>
              </a:path>
              <a:path w="8336" h="1837">
                <a:moveTo>
                  <a:pt x="8905" y="7962"/>
                </a:moveTo>
                <a:cubicBezTo>
                  <a:pt x="8994" y="7933"/>
                  <a:pt x="9018" y="7966"/>
                  <a:pt x="9079" y="8012"/>
                </a:cubicBezTo>
                <a:cubicBezTo>
                  <a:pt x="9143" y="8059"/>
                  <a:pt x="9172" y="8097"/>
                  <a:pt x="9153" y="8186"/>
                </a:cubicBezTo>
                <a:cubicBezTo>
                  <a:pt x="9133" y="8277"/>
                  <a:pt x="9077" y="8335"/>
                  <a:pt x="9029" y="8409"/>
                </a:cubicBezTo>
                <a:cubicBezTo>
                  <a:pt x="8976" y="8490"/>
                  <a:pt x="8873" y="8559"/>
                  <a:pt x="8979" y="8657"/>
                </a:cubicBezTo>
                <a:cubicBezTo>
                  <a:pt x="9013" y="8689"/>
                  <a:pt x="9171" y="8649"/>
                  <a:pt x="9203" y="8632"/>
                </a:cubicBezTo>
                <a:cubicBezTo>
                  <a:pt x="9244" y="8607"/>
                  <a:pt x="9286" y="8583"/>
                  <a:pt x="9327" y="8558"/>
                </a:cubicBezTo>
              </a:path>
              <a:path w="8336" h="1837">
                <a:moveTo>
                  <a:pt x="9426" y="8086"/>
                </a:moveTo>
                <a:cubicBezTo>
                  <a:pt x="9347" y="8171"/>
                  <a:pt x="9257" y="8238"/>
                  <a:pt x="9252" y="8359"/>
                </a:cubicBezTo>
                <a:cubicBezTo>
                  <a:pt x="9248" y="8461"/>
                  <a:pt x="9285" y="8520"/>
                  <a:pt x="9351" y="8582"/>
                </a:cubicBezTo>
                <a:cubicBezTo>
                  <a:pt x="9391" y="8620"/>
                  <a:pt x="9539" y="8679"/>
                  <a:pt x="9599" y="8632"/>
                </a:cubicBezTo>
                <a:cubicBezTo>
                  <a:pt x="9639" y="8601"/>
                  <a:pt x="9672" y="8454"/>
                  <a:pt x="9674" y="8409"/>
                </a:cubicBezTo>
                <a:cubicBezTo>
                  <a:pt x="9678" y="8310"/>
                  <a:pt x="9642" y="8213"/>
                  <a:pt x="9550" y="8161"/>
                </a:cubicBezTo>
                <a:cubicBezTo>
                  <a:pt x="9477" y="8120"/>
                  <a:pt x="9422" y="8088"/>
                  <a:pt x="9351" y="8037"/>
                </a:cubicBezTo>
              </a:path>
              <a:path w="8336" h="1837">
                <a:moveTo>
                  <a:pt x="9575" y="7764"/>
                </a:moveTo>
                <a:cubicBezTo>
                  <a:pt x="9693" y="7970"/>
                  <a:pt x="9838" y="8169"/>
                  <a:pt x="9872" y="8409"/>
                </a:cubicBezTo>
                <a:cubicBezTo>
                  <a:pt x="9890" y="8536"/>
                  <a:pt x="9864" y="8626"/>
                  <a:pt x="9798" y="8731"/>
                </a:cubicBezTo>
                <a:cubicBezTo>
                  <a:pt x="9758" y="8795"/>
                  <a:pt x="9643" y="8921"/>
                  <a:pt x="9550" y="8855"/>
                </a:cubicBezTo>
                <a:cubicBezTo>
                  <a:pt x="9528" y="8812"/>
                  <a:pt x="9524" y="8800"/>
                  <a:pt x="9500" y="8781"/>
                </a:cubicBezTo>
              </a:path>
              <a:path w="8336" h="1837">
                <a:moveTo>
                  <a:pt x="9897" y="7615"/>
                </a:moveTo>
                <a:cubicBezTo>
                  <a:pt x="10008" y="7623"/>
                  <a:pt x="10039" y="7617"/>
                  <a:pt x="10096" y="7714"/>
                </a:cubicBezTo>
                <a:cubicBezTo>
                  <a:pt x="10135" y="7779"/>
                  <a:pt x="10091" y="7858"/>
                  <a:pt x="10046" y="7913"/>
                </a:cubicBezTo>
                <a:cubicBezTo>
                  <a:pt x="10021" y="7938"/>
                  <a:pt x="10013" y="7946"/>
                  <a:pt x="9996" y="7962"/>
                </a:cubicBezTo>
                <a:cubicBezTo>
                  <a:pt x="10111" y="8020"/>
                  <a:pt x="10186" y="8012"/>
                  <a:pt x="10319" y="8012"/>
                </a:cubicBezTo>
              </a:path>
              <a:path w="8336" h="1837">
                <a:moveTo>
                  <a:pt x="10418" y="8235"/>
                </a:moveTo>
                <a:cubicBezTo>
                  <a:pt x="10495" y="8261"/>
                  <a:pt x="10559" y="8260"/>
                  <a:pt x="10641" y="8260"/>
                </a:cubicBezTo>
              </a:path>
              <a:path w="8336" h="1837">
                <a:moveTo>
                  <a:pt x="10368" y="8483"/>
                </a:moveTo>
                <a:cubicBezTo>
                  <a:pt x="10497" y="8483"/>
                  <a:pt x="10530" y="8494"/>
                  <a:pt x="10592" y="8434"/>
                </a:cubicBezTo>
              </a:path>
              <a:path w="8336" h="1837">
                <a:moveTo>
                  <a:pt x="11137" y="8086"/>
                </a:moveTo>
                <a:cubicBezTo>
                  <a:pt x="11118" y="8220"/>
                  <a:pt x="11130" y="8351"/>
                  <a:pt x="11112" y="8483"/>
                </a:cubicBezTo>
                <a:cubicBezTo>
                  <a:pt x="11097" y="8595"/>
                  <a:pt x="11108" y="8668"/>
                  <a:pt x="11112" y="8781"/>
                </a:cubicBezTo>
                <a:cubicBezTo>
                  <a:pt x="11112" y="8814"/>
                  <a:pt x="11112" y="8830"/>
                  <a:pt x="11112" y="8855"/>
                </a:cubicBezTo>
                <a:cubicBezTo>
                  <a:pt x="11090" y="8763"/>
                  <a:pt x="11075" y="8685"/>
                  <a:pt x="11088" y="8582"/>
                </a:cubicBezTo>
                <a:cubicBezTo>
                  <a:pt x="11105" y="8451"/>
                  <a:pt x="11127" y="8318"/>
                  <a:pt x="11137" y="8186"/>
                </a:cubicBezTo>
                <a:cubicBezTo>
                  <a:pt x="11146" y="8069"/>
                  <a:pt x="11169" y="7901"/>
                  <a:pt x="11162" y="7789"/>
                </a:cubicBezTo>
                <a:cubicBezTo>
                  <a:pt x="11156" y="7699"/>
                  <a:pt x="11120" y="7611"/>
                  <a:pt x="11137" y="7516"/>
                </a:cubicBezTo>
                <a:cubicBezTo>
                  <a:pt x="11155" y="7410"/>
                  <a:pt x="11188" y="7439"/>
                  <a:pt x="11286" y="7417"/>
                </a:cubicBezTo>
                <a:cubicBezTo>
                  <a:pt x="11443" y="7383"/>
                  <a:pt x="11598" y="7385"/>
                  <a:pt x="11757" y="7367"/>
                </a:cubicBezTo>
                <a:cubicBezTo>
                  <a:pt x="11987" y="7341"/>
                  <a:pt x="12196" y="7364"/>
                  <a:pt x="12427" y="7367"/>
                </a:cubicBezTo>
                <a:cubicBezTo>
                  <a:pt x="12695" y="7371"/>
                  <a:pt x="12956" y="7370"/>
                  <a:pt x="13221" y="7392"/>
                </a:cubicBezTo>
                <a:cubicBezTo>
                  <a:pt x="13377" y="7405"/>
                  <a:pt x="13413" y="7391"/>
                  <a:pt x="13295" y="7317"/>
                </a:cubicBezTo>
              </a:path>
              <a:path w="8336" h="1837">
                <a:moveTo>
                  <a:pt x="11485" y="7813"/>
                </a:moveTo>
                <a:cubicBezTo>
                  <a:pt x="11460" y="7881"/>
                  <a:pt x="11401" y="7973"/>
                  <a:pt x="11385" y="8037"/>
                </a:cubicBezTo>
                <a:cubicBezTo>
                  <a:pt x="11364" y="8118"/>
                  <a:pt x="11327" y="8157"/>
                  <a:pt x="11435" y="8186"/>
                </a:cubicBezTo>
                <a:cubicBezTo>
                  <a:pt x="11537" y="8213"/>
                  <a:pt x="11684" y="8186"/>
                  <a:pt x="11782" y="8161"/>
                </a:cubicBezTo>
              </a:path>
              <a:path w="8336" h="1837">
                <a:moveTo>
                  <a:pt x="11757" y="7789"/>
                </a:moveTo>
                <a:cubicBezTo>
                  <a:pt x="11757" y="7974"/>
                  <a:pt x="11738" y="8151"/>
                  <a:pt x="11733" y="8334"/>
                </a:cubicBezTo>
                <a:cubicBezTo>
                  <a:pt x="11730" y="8457"/>
                  <a:pt x="11715" y="8849"/>
                  <a:pt x="11757" y="8806"/>
                </a:cubicBezTo>
              </a:path>
              <a:path w="8336" h="1837">
                <a:moveTo>
                  <a:pt x="12129" y="7838"/>
                </a:moveTo>
                <a:cubicBezTo>
                  <a:pt x="12120" y="7955"/>
                  <a:pt x="12106" y="8070"/>
                  <a:pt x="12080" y="8186"/>
                </a:cubicBezTo>
                <a:cubicBezTo>
                  <a:pt x="12051" y="8314"/>
                  <a:pt x="12021" y="8380"/>
                  <a:pt x="12030" y="8508"/>
                </a:cubicBezTo>
                <a:cubicBezTo>
                  <a:pt x="12035" y="8578"/>
                  <a:pt x="12084" y="8736"/>
                  <a:pt x="12154" y="8781"/>
                </a:cubicBezTo>
                <a:cubicBezTo>
                  <a:pt x="12196" y="8808"/>
                  <a:pt x="12316" y="8787"/>
                  <a:pt x="12353" y="8781"/>
                </a:cubicBezTo>
                <a:cubicBezTo>
                  <a:pt x="12414" y="8772"/>
                  <a:pt x="12467" y="8643"/>
                  <a:pt x="12477" y="8582"/>
                </a:cubicBezTo>
                <a:cubicBezTo>
                  <a:pt x="12489" y="8505"/>
                  <a:pt x="12475" y="8428"/>
                  <a:pt x="12452" y="8359"/>
                </a:cubicBezTo>
                <a:cubicBezTo>
                  <a:pt x="12378" y="8334"/>
                  <a:pt x="12355" y="8368"/>
                  <a:pt x="12303" y="8409"/>
                </a:cubicBezTo>
                <a:cubicBezTo>
                  <a:pt x="12260" y="8442"/>
                  <a:pt x="12254" y="8517"/>
                  <a:pt x="12278" y="8558"/>
                </a:cubicBezTo>
                <a:cubicBezTo>
                  <a:pt x="12302" y="8599"/>
                  <a:pt x="12320" y="8566"/>
                  <a:pt x="12353" y="8558"/>
                </a:cubicBezTo>
              </a:path>
              <a:path w="8336" h="1837">
                <a:moveTo>
                  <a:pt x="12626" y="7938"/>
                </a:moveTo>
                <a:cubicBezTo>
                  <a:pt x="12636" y="8020"/>
                  <a:pt x="12646" y="8106"/>
                  <a:pt x="12675" y="8186"/>
                </a:cubicBezTo>
                <a:cubicBezTo>
                  <a:pt x="12710" y="8281"/>
                  <a:pt x="12805" y="8317"/>
                  <a:pt x="12898" y="8334"/>
                </a:cubicBezTo>
                <a:cubicBezTo>
                  <a:pt x="12956" y="8344"/>
                  <a:pt x="12995" y="8329"/>
                  <a:pt x="13047" y="8310"/>
                </a:cubicBezTo>
              </a:path>
              <a:path w="8336" h="1837">
                <a:moveTo>
                  <a:pt x="12948" y="7689"/>
                </a:moveTo>
                <a:cubicBezTo>
                  <a:pt x="12928" y="7961"/>
                  <a:pt x="12879" y="8237"/>
                  <a:pt x="12874" y="8508"/>
                </a:cubicBezTo>
                <a:cubicBezTo>
                  <a:pt x="12870" y="8685"/>
                  <a:pt x="12894" y="8854"/>
                  <a:pt x="12898" y="9029"/>
                </a:cubicBezTo>
                <a:cubicBezTo>
                  <a:pt x="12898" y="9070"/>
                  <a:pt x="12898" y="9112"/>
                  <a:pt x="12898" y="91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Ink 7"/>
          <p:cNvSpPr/>
          <p:nvPr/>
        </p:nvSpPr>
        <p:spPr>
          <a:xfrm>
            <a:off x="5919840" y="2919240"/>
            <a:ext cx="2724120" cy="885960"/>
          </a:xfrm>
          <a:custGeom>
            <a:avLst/>
            <a:gdLst/>
            <a:ahLst/>
            <a:rect l="l" t="t" r="r" b="b"/>
            <a:pathLst>
              <a:path w="7566" h="2457">
                <a:moveTo>
                  <a:pt x="18033" y="8111"/>
                </a:moveTo>
                <a:cubicBezTo>
                  <a:pt x="17959" y="8231"/>
                  <a:pt x="17907" y="8365"/>
                  <a:pt x="17835" y="8483"/>
                </a:cubicBezTo>
                <a:cubicBezTo>
                  <a:pt x="17756" y="8613"/>
                  <a:pt x="17658" y="8745"/>
                  <a:pt x="17587" y="8880"/>
                </a:cubicBezTo>
                <a:cubicBezTo>
                  <a:pt x="17528" y="8992"/>
                  <a:pt x="17481" y="9088"/>
                  <a:pt x="17413" y="9178"/>
                </a:cubicBezTo>
                <a:cubicBezTo>
                  <a:pt x="17405" y="9194"/>
                  <a:pt x="17396" y="9211"/>
                  <a:pt x="17388" y="9227"/>
                </a:cubicBezTo>
              </a:path>
              <a:path w="7566" h="2457">
                <a:moveTo>
                  <a:pt x="17909" y="8186"/>
                </a:moveTo>
                <a:cubicBezTo>
                  <a:pt x="18004" y="8273"/>
                  <a:pt x="18102" y="8335"/>
                  <a:pt x="18182" y="8434"/>
                </a:cubicBezTo>
                <a:cubicBezTo>
                  <a:pt x="18285" y="8562"/>
                  <a:pt x="18391" y="8688"/>
                  <a:pt x="18529" y="8781"/>
                </a:cubicBezTo>
                <a:cubicBezTo>
                  <a:pt x="18644" y="8858"/>
                  <a:pt x="18775" y="8917"/>
                  <a:pt x="18876" y="9004"/>
                </a:cubicBezTo>
                <a:cubicBezTo>
                  <a:pt x="18906" y="9034"/>
                  <a:pt x="18917" y="9048"/>
                  <a:pt x="18926" y="9079"/>
                </a:cubicBezTo>
              </a:path>
              <a:path w="7566" h="2457">
                <a:moveTo>
                  <a:pt x="17041" y="9227"/>
                </a:moveTo>
                <a:cubicBezTo>
                  <a:pt x="17125" y="9227"/>
                  <a:pt x="17211" y="9214"/>
                  <a:pt x="17289" y="9252"/>
                </a:cubicBezTo>
                <a:cubicBezTo>
                  <a:pt x="17368" y="9291"/>
                  <a:pt x="17434" y="9367"/>
                  <a:pt x="17438" y="9451"/>
                </a:cubicBezTo>
                <a:cubicBezTo>
                  <a:pt x="17444" y="9575"/>
                  <a:pt x="17380" y="9649"/>
                  <a:pt x="17314" y="9748"/>
                </a:cubicBezTo>
                <a:cubicBezTo>
                  <a:pt x="17273" y="9810"/>
                  <a:pt x="17164" y="9971"/>
                  <a:pt x="17239" y="10046"/>
                </a:cubicBezTo>
                <a:cubicBezTo>
                  <a:pt x="17295" y="10102"/>
                  <a:pt x="17491" y="10011"/>
                  <a:pt x="17537" y="9996"/>
                </a:cubicBezTo>
                <a:cubicBezTo>
                  <a:pt x="17570" y="9988"/>
                  <a:pt x="17603" y="9979"/>
                  <a:pt x="17636" y="9971"/>
                </a:cubicBezTo>
              </a:path>
              <a:path w="7566" h="2457">
                <a:moveTo>
                  <a:pt x="18604" y="9252"/>
                </a:moveTo>
                <a:cubicBezTo>
                  <a:pt x="18699" y="9300"/>
                  <a:pt x="18859" y="9324"/>
                  <a:pt x="18802" y="9475"/>
                </a:cubicBezTo>
                <a:cubicBezTo>
                  <a:pt x="18764" y="9577"/>
                  <a:pt x="18646" y="9604"/>
                  <a:pt x="18579" y="9674"/>
                </a:cubicBezTo>
                <a:cubicBezTo>
                  <a:pt x="18515" y="9741"/>
                  <a:pt x="18463" y="9808"/>
                  <a:pt x="18504" y="9897"/>
                </a:cubicBezTo>
                <a:cubicBezTo>
                  <a:pt x="18546" y="9987"/>
                  <a:pt x="18685" y="10001"/>
                  <a:pt x="18777" y="9996"/>
                </a:cubicBezTo>
                <a:cubicBezTo>
                  <a:pt x="19003" y="9984"/>
                  <a:pt x="19116" y="9913"/>
                  <a:pt x="19348" y="9823"/>
                </a:cubicBezTo>
              </a:path>
              <a:path w="7566" h="2457">
                <a:moveTo>
                  <a:pt x="20886" y="8310"/>
                </a:moveTo>
                <a:cubicBezTo>
                  <a:pt x="20837" y="8444"/>
                  <a:pt x="20795" y="8573"/>
                  <a:pt x="20737" y="8706"/>
                </a:cubicBezTo>
                <a:cubicBezTo>
                  <a:pt x="20679" y="8838"/>
                  <a:pt x="20632" y="8966"/>
                  <a:pt x="20588" y="9103"/>
                </a:cubicBezTo>
                <a:cubicBezTo>
                  <a:pt x="20573" y="9150"/>
                  <a:pt x="20509" y="9358"/>
                  <a:pt x="20588" y="9252"/>
                </a:cubicBezTo>
              </a:path>
              <a:path w="7566" h="2457">
                <a:moveTo>
                  <a:pt x="20737" y="8558"/>
                </a:moveTo>
                <a:cubicBezTo>
                  <a:pt x="20782" y="8439"/>
                  <a:pt x="20801" y="8372"/>
                  <a:pt x="20886" y="8285"/>
                </a:cubicBezTo>
                <a:cubicBezTo>
                  <a:pt x="20894" y="8277"/>
                  <a:pt x="20902" y="8268"/>
                  <a:pt x="20910" y="8260"/>
                </a:cubicBezTo>
                <a:cubicBezTo>
                  <a:pt x="20956" y="8306"/>
                  <a:pt x="20981" y="8350"/>
                  <a:pt x="21010" y="8409"/>
                </a:cubicBezTo>
                <a:cubicBezTo>
                  <a:pt x="21075" y="8541"/>
                  <a:pt x="21148" y="8681"/>
                  <a:pt x="21258" y="8781"/>
                </a:cubicBezTo>
                <a:cubicBezTo>
                  <a:pt x="21399" y="8909"/>
                  <a:pt x="21528" y="9041"/>
                  <a:pt x="21679" y="9153"/>
                </a:cubicBezTo>
                <a:cubicBezTo>
                  <a:pt x="21774" y="9223"/>
                  <a:pt x="21803" y="9243"/>
                  <a:pt x="21853" y="9302"/>
                </a:cubicBezTo>
              </a:path>
              <a:path w="7566" h="2457">
                <a:moveTo>
                  <a:pt x="20315" y="9550"/>
                </a:moveTo>
                <a:cubicBezTo>
                  <a:pt x="20429" y="9550"/>
                  <a:pt x="20514" y="9536"/>
                  <a:pt x="20613" y="9599"/>
                </a:cubicBezTo>
                <a:cubicBezTo>
                  <a:pt x="20687" y="9647"/>
                  <a:pt x="20669" y="9757"/>
                  <a:pt x="20638" y="9823"/>
                </a:cubicBezTo>
                <a:cubicBezTo>
                  <a:pt x="20598" y="9908"/>
                  <a:pt x="20462" y="9993"/>
                  <a:pt x="20389" y="10046"/>
                </a:cubicBezTo>
                <a:cubicBezTo>
                  <a:pt x="20310" y="10103"/>
                  <a:pt x="20329" y="10164"/>
                  <a:pt x="20414" y="10195"/>
                </a:cubicBezTo>
                <a:cubicBezTo>
                  <a:pt x="20546" y="10243"/>
                  <a:pt x="20621" y="10269"/>
                  <a:pt x="20762" y="10269"/>
                </a:cubicBezTo>
                <a:cubicBezTo>
                  <a:pt x="20795" y="10269"/>
                  <a:pt x="20828" y="10269"/>
                  <a:pt x="20861" y="10269"/>
                </a:cubicBezTo>
              </a:path>
              <a:path w="7566" h="2457">
                <a:moveTo>
                  <a:pt x="21853" y="9599"/>
                </a:moveTo>
                <a:cubicBezTo>
                  <a:pt x="21971" y="9552"/>
                  <a:pt x="21939" y="9571"/>
                  <a:pt x="22051" y="9599"/>
                </a:cubicBezTo>
                <a:cubicBezTo>
                  <a:pt x="22179" y="9631"/>
                  <a:pt x="22157" y="9654"/>
                  <a:pt x="22076" y="9748"/>
                </a:cubicBezTo>
                <a:cubicBezTo>
                  <a:pt x="22032" y="9799"/>
                  <a:pt x="21992" y="9844"/>
                  <a:pt x="21952" y="9897"/>
                </a:cubicBezTo>
                <a:cubicBezTo>
                  <a:pt x="21902" y="9963"/>
                  <a:pt x="21940" y="10006"/>
                  <a:pt x="21977" y="10071"/>
                </a:cubicBezTo>
                <a:cubicBezTo>
                  <a:pt x="22021" y="10147"/>
                  <a:pt x="22137" y="10166"/>
                  <a:pt x="22225" y="10145"/>
                </a:cubicBezTo>
                <a:cubicBezTo>
                  <a:pt x="22242" y="10137"/>
                  <a:pt x="22258" y="10128"/>
                  <a:pt x="22275" y="10120"/>
                </a:cubicBezTo>
              </a:path>
              <a:path w="7566" h="2457">
                <a:moveTo>
                  <a:pt x="21109" y="8136"/>
                </a:moveTo>
                <a:cubicBezTo>
                  <a:pt x="21267" y="8185"/>
                  <a:pt x="21421" y="8239"/>
                  <a:pt x="21580" y="8285"/>
                </a:cubicBezTo>
                <a:cubicBezTo>
                  <a:pt x="21832" y="8359"/>
                  <a:pt x="22080" y="8460"/>
                  <a:pt x="22324" y="8558"/>
                </a:cubicBezTo>
                <a:cubicBezTo>
                  <a:pt x="22493" y="8626"/>
                  <a:pt x="22652" y="8664"/>
                  <a:pt x="22820" y="8731"/>
                </a:cubicBezTo>
              </a:path>
              <a:path w="7566" h="2457">
                <a:moveTo>
                  <a:pt x="22969" y="9327"/>
                </a:moveTo>
                <a:cubicBezTo>
                  <a:pt x="23036" y="9279"/>
                  <a:pt x="23052" y="9231"/>
                  <a:pt x="23143" y="9227"/>
                </a:cubicBezTo>
                <a:cubicBezTo>
                  <a:pt x="23232" y="9223"/>
                  <a:pt x="23300" y="9212"/>
                  <a:pt x="23341" y="9302"/>
                </a:cubicBezTo>
                <a:cubicBezTo>
                  <a:pt x="23374" y="9373"/>
                  <a:pt x="23341" y="9436"/>
                  <a:pt x="23292" y="9500"/>
                </a:cubicBezTo>
                <a:cubicBezTo>
                  <a:pt x="23234" y="9575"/>
                  <a:pt x="23168" y="9595"/>
                  <a:pt x="23143" y="9674"/>
                </a:cubicBezTo>
                <a:cubicBezTo>
                  <a:pt x="23118" y="9752"/>
                  <a:pt x="23146" y="9855"/>
                  <a:pt x="23242" y="9897"/>
                </a:cubicBezTo>
                <a:cubicBezTo>
                  <a:pt x="23277" y="9913"/>
                  <a:pt x="23401" y="9897"/>
                  <a:pt x="23440" y="9897"/>
                </a:cubicBezTo>
              </a:path>
              <a:path w="7566" h="2457">
                <a:moveTo>
                  <a:pt x="23887" y="9227"/>
                </a:moveTo>
                <a:cubicBezTo>
                  <a:pt x="23746" y="9227"/>
                  <a:pt x="23730" y="9228"/>
                  <a:pt x="23614" y="9302"/>
                </a:cubicBezTo>
                <a:cubicBezTo>
                  <a:pt x="23518" y="9363"/>
                  <a:pt x="23573" y="9412"/>
                  <a:pt x="23639" y="9451"/>
                </a:cubicBezTo>
                <a:cubicBezTo>
                  <a:pt x="23732" y="9505"/>
                  <a:pt x="23787" y="9521"/>
                  <a:pt x="23887" y="9475"/>
                </a:cubicBezTo>
                <a:cubicBezTo>
                  <a:pt x="23944" y="9449"/>
                  <a:pt x="23949" y="9451"/>
                  <a:pt x="24011" y="9451"/>
                </a:cubicBezTo>
                <a:cubicBezTo>
                  <a:pt x="24011" y="9585"/>
                  <a:pt x="23988" y="9709"/>
                  <a:pt x="23986" y="9847"/>
                </a:cubicBezTo>
                <a:cubicBezTo>
                  <a:pt x="23984" y="9946"/>
                  <a:pt x="24003" y="10024"/>
                  <a:pt x="24011" y="10120"/>
                </a:cubicBezTo>
              </a:path>
              <a:path w="7566" h="2457">
                <a:moveTo>
                  <a:pt x="19000" y="9302"/>
                </a:moveTo>
                <a:cubicBezTo>
                  <a:pt x="18952" y="9184"/>
                  <a:pt x="18880" y="9080"/>
                  <a:pt x="18752" y="9029"/>
                </a:cubicBezTo>
                <a:cubicBezTo>
                  <a:pt x="18569" y="8956"/>
                  <a:pt x="18352" y="8898"/>
                  <a:pt x="18157" y="8880"/>
                </a:cubicBezTo>
                <a:cubicBezTo>
                  <a:pt x="17934" y="8859"/>
                  <a:pt x="17635" y="8913"/>
                  <a:pt x="17413" y="8954"/>
                </a:cubicBezTo>
                <a:cubicBezTo>
                  <a:pt x="17184" y="8996"/>
                  <a:pt x="16904" y="9111"/>
                  <a:pt x="16718" y="9252"/>
                </a:cubicBezTo>
                <a:cubicBezTo>
                  <a:pt x="16572" y="9363"/>
                  <a:pt x="16472" y="9493"/>
                  <a:pt x="16446" y="9674"/>
                </a:cubicBezTo>
                <a:cubicBezTo>
                  <a:pt x="16429" y="9792"/>
                  <a:pt x="16491" y="9933"/>
                  <a:pt x="16594" y="9996"/>
                </a:cubicBezTo>
                <a:cubicBezTo>
                  <a:pt x="16801" y="10123"/>
                  <a:pt x="17008" y="10169"/>
                  <a:pt x="17239" y="10195"/>
                </a:cubicBezTo>
                <a:cubicBezTo>
                  <a:pt x="17543" y="10229"/>
                  <a:pt x="17758" y="10245"/>
                  <a:pt x="18058" y="10220"/>
                </a:cubicBezTo>
                <a:cubicBezTo>
                  <a:pt x="18313" y="10199"/>
                  <a:pt x="18548" y="10166"/>
                  <a:pt x="18752" y="9996"/>
                </a:cubicBezTo>
                <a:cubicBezTo>
                  <a:pt x="18886" y="9884"/>
                  <a:pt x="18934" y="9790"/>
                  <a:pt x="18976" y="9624"/>
                </a:cubicBezTo>
                <a:cubicBezTo>
                  <a:pt x="19006" y="9504"/>
                  <a:pt x="19021" y="9371"/>
                  <a:pt x="18976" y="9252"/>
                </a:cubicBezTo>
                <a:cubicBezTo>
                  <a:pt x="18929" y="9128"/>
                  <a:pt x="18805" y="8998"/>
                  <a:pt x="18678" y="8954"/>
                </a:cubicBezTo>
                <a:cubicBezTo>
                  <a:pt x="18554" y="8911"/>
                  <a:pt x="18394" y="8904"/>
                  <a:pt x="18306" y="8930"/>
                </a:cubicBezTo>
                <a:cubicBezTo>
                  <a:pt x="18254" y="8930"/>
                  <a:pt x="18236" y="8931"/>
                  <a:pt x="18207" y="8954"/>
                </a:cubicBezTo>
              </a:path>
              <a:path w="7566" h="2457">
                <a:moveTo>
                  <a:pt x="22002" y="9599"/>
                </a:moveTo>
                <a:cubicBezTo>
                  <a:pt x="21994" y="9451"/>
                  <a:pt x="22023" y="9387"/>
                  <a:pt x="21828" y="9327"/>
                </a:cubicBezTo>
                <a:cubicBezTo>
                  <a:pt x="21641" y="9269"/>
                  <a:pt x="21405" y="9221"/>
                  <a:pt x="21208" y="9227"/>
                </a:cubicBezTo>
                <a:cubicBezTo>
                  <a:pt x="20966" y="9234"/>
                  <a:pt x="20685" y="9292"/>
                  <a:pt x="20464" y="9376"/>
                </a:cubicBezTo>
                <a:cubicBezTo>
                  <a:pt x="20236" y="9463"/>
                  <a:pt x="20101" y="9508"/>
                  <a:pt x="19918" y="9674"/>
                </a:cubicBezTo>
                <a:cubicBezTo>
                  <a:pt x="19816" y="9766"/>
                  <a:pt x="19734" y="9909"/>
                  <a:pt x="19819" y="10046"/>
                </a:cubicBezTo>
                <a:cubicBezTo>
                  <a:pt x="19912" y="10197"/>
                  <a:pt x="20109" y="10301"/>
                  <a:pt x="20265" y="10368"/>
                </a:cubicBezTo>
                <a:cubicBezTo>
                  <a:pt x="20588" y="10507"/>
                  <a:pt x="20934" y="10554"/>
                  <a:pt x="21282" y="10567"/>
                </a:cubicBezTo>
                <a:cubicBezTo>
                  <a:pt x="21531" y="10576"/>
                  <a:pt x="21756" y="10592"/>
                  <a:pt x="21977" y="10492"/>
                </a:cubicBezTo>
                <a:cubicBezTo>
                  <a:pt x="22130" y="10423"/>
                  <a:pt x="22206" y="10372"/>
                  <a:pt x="22250" y="10195"/>
                </a:cubicBezTo>
                <a:cubicBezTo>
                  <a:pt x="22289" y="10039"/>
                  <a:pt x="22175" y="9827"/>
                  <a:pt x="22101" y="9699"/>
                </a:cubicBezTo>
                <a:cubicBezTo>
                  <a:pt x="21969" y="9473"/>
                  <a:pt x="21769" y="9355"/>
                  <a:pt x="21555" y="9227"/>
                </a:cubicBezTo>
                <a:cubicBezTo>
                  <a:pt x="21366" y="9109"/>
                  <a:pt x="21311" y="9069"/>
                  <a:pt x="21158" y="90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Ink 8"/>
          <p:cNvSpPr/>
          <p:nvPr/>
        </p:nvSpPr>
        <p:spPr>
          <a:xfrm>
            <a:off x="731880" y="3384720"/>
            <a:ext cx="2465280" cy="1438200"/>
          </a:xfrm>
          <a:custGeom>
            <a:avLst/>
            <a:gdLst/>
            <a:ahLst/>
            <a:rect l="l" t="t" r="r" b="b"/>
            <a:pathLst>
              <a:path w="6847" h="3995">
                <a:moveTo>
                  <a:pt x="3175" y="10046"/>
                </a:moveTo>
                <a:cubicBezTo>
                  <a:pt x="3162" y="10123"/>
                  <a:pt x="3158" y="10177"/>
                  <a:pt x="3101" y="10269"/>
                </a:cubicBezTo>
                <a:cubicBezTo>
                  <a:pt x="3024" y="10393"/>
                  <a:pt x="2906" y="10467"/>
                  <a:pt x="2803" y="10567"/>
                </a:cubicBezTo>
                <a:cubicBezTo>
                  <a:pt x="2689" y="10678"/>
                  <a:pt x="2574" y="10783"/>
                  <a:pt x="2456" y="10889"/>
                </a:cubicBezTo>
                <a:cubicBezTo>
                  <a:pt x="2360" y="10976"/>
                  <a:pt x="2254" y="11051"/>
                  <a:pt x="2158" y="11137"/>
                </a:cubicBezTo>
                <a:cubicBezTo>
                  <a:pt x="2113" y="11177"/>
                  <a:pt x="2080" y="11216"/>
                  <a:pt x="2034" y="11261"/>
                </a:cubicBezTo>
                <a:cubicBezTo>
                  <a:pt x="2063" y="11315"/>
                  <a:pt x="2083" y="11385"/>
                  <a:pt x="2108" y="11435"/>
                </a:cubicBezTo>
                <a:cubicBezTo>
                  <a:pt x="2156" y="11531"/>
                  <a:pt x="2200" y="11642"/>
                  <a:pt x="2257" y="11733"/>
                </a:cubicBezTo>
                <a:cubicBezTo>
                  <a:pt x="2420" y="11991"/>
                  <a:pt x="2580" y="12235"/>
                  <a:pt x="2729" y="12502"/>
                </a:cubicBezTo>
                <a:cubicBezTo>
                  <a:pt x="2813" y="12652"/>
                  <a:pt x="2869" y="12830"/>
                  <a:pt x="2952" y="12973"/>
                </a:cubicBezTo>
                <a:cubicBezTo>
                  <a:pt x="2972" y="13013"/>
                  <a:pt x="2970" y="13029"/>
                  <a:pt x="3001" y="13022"/>
                </a:cubicBezTo>
              </a:path>
              <a:path w="6847" h="3995">
                <a:moveTo>
                  <a:pt x="3770" y="10567"/>
                </a:moveTo>
                <a:cubicBezTo>
                  <a:pt x="3628" y="10475"/>
                  <a:pt x="3645" y="10498"/>
                  <a:pt x="3497" y="10517"/>
                </a:cubicBezTo>
                <a:cubicBezTo>
                  <a:pt x="3437" y="10525"/>
                  <a:pt x="3297" y="10548"/>
                  <a:pt x="3249" y="10592"/>
                </a:cubicBezTo>
                <a:cubicBezTo>
                  <a:pt x="3190" y="10646"/>
                  <a:pt x="3176" y="10751"/>
                  <a:pt x="3200" y="10815"/>
                </a:cubicBezTo>
                <a:cubicBezTo>
                  <a:pt x="3238" y="10917"/>
                  <a:pt x="3323" y="10989"/>
                  <a:pt x="3398" y="11063"/>
                </a:cubicBezTo>
                <a:cubicBezTo>
                  <a:pt x="3495" y="11160"/>
                  <a:pt x="3577" y="11263"/>
                  <a:pt x="3671" y="11361"/>
                </a:cubicBezTo>
                <a:cubicBezTo>
                  <a:pt x="3728" y="11420"/>
                  <a:pt x="3736" y="11432"/>
                  <a:pt x="3746" y="11509"/>
                </a:cubicBezTo>
                <a:cubicBezTo>
                  <a:pt x="3684" y="11546"/>
                  <a:pt x="3636" y="11529"/>
                  <a:pt x="3572" y="11485"/>
                </a:cubicBezTo>
                <a:cubicBezTo>
                  <a:pt x="3500" y="11436"/>
                  <a:pt x="3457" y="11403"/>
                  <a:pt x="3448" y="11311"/>
                </a:cubicBezTo>
                <a:cubicBezTo>
                  <a:pt x="3438" y="11219"/>
                  <a:pt x="3474" y="11164"/>
                  <a:pt x="3522" y="11088"/>
                </a:cubicBezTo>
                <a:cubicBezTo>
                  <a:pt x="3585" y="10988"/>
                  <a:pt x="3687" y="10911"/>
                  <a:pt x="3746" y="10815"/>
                </a:cubicBezTo>
                <a:cubicBezTo>
                  <a:pt x="3768" y="10779"/>
                  <a:pt x="3874" y="10639"/>
                  <a:pt x="3870" y="10592"/>
                </a:cubicBezTo>
                <a:cubicBezTo>
                  <a:pt x="3870" y="10567"/>
                  <a:pt x="3870" y="10559"/>
                  <a:pt x="3845" y="10567"/>
                </a:cubicBezTo>
              </a:path>
              <a:path w="6847" h="3995">
                <a:moveTo>
                  <a:pt x="2877" y="11733"/>
                </a:moveTo>
                <a:cubicBezTo>
                  <a:pt x="3039" y="11689"/>
                  <a:pt x="3181" y="11662"/>
                  <a:pt x="3349" y="11658"/>
                </a:cubicBezTo>
                <a:cubicBezTo>
                  <a:pt x="3515" y="11654"/>
                  <a:pt x="3677" y="11633"/>
                  <a:pt x="3845" y="11633"/>
                </a:cubicBezTo>
                <a:cubicBezTo>
                  <a:pt x="3979" y="11633"/>
                  <a:pt x="4107" y="11609"/>
                  <a:pt x="4242" y="11609"/>
                </a:cubicBezTo>
                <a:cubicBezTo>
                  <a:pt x="4303" y="11609"/>
                  <a:pt x="4364" y="11623"/>
                  <a:pt x="4390" y="11584"/>
                </a:cubicBezTo>
              </a:path>
              <a:path w="6847" h="3995">
                <a:moveTo>
                  <a:pt x="3249" y="12005"/>
                </a:moveTo>
                <a:cubicBezTo>
                  <a:pt x="3242" y="12080"/>
                  <a:pt x="3213" y="12141"/>
                  <a:pt x="3200" y="12204"/>
                </a:cubicBezTo>
                <a:cubicBezTo>
                  <a:pt x="3192" y="12245"/>
                  <a:pt x="3122" y="12344"/>
                  <a:pt x="3125" y="12378"/>
                </a:cubicBezTo>
                <a:cubicBezTo>
                  <a:pt x="3129" y="12430"/>
                  <a:pt x="3223" y="12443"/>
                  <a:pt x="3249" y="12452"/>
                </a:cubicBezTo>
                <a:cubicBezTo>
                  <a:pt x="3343" y="12485"/>
                  <a:pt x="3396" y="12502"/>
                  <a:pt x="3497" y="12502"/>
                </a:cubicBezTo>
                <a:cubicBezTo>
                  <a:pt x="3547" y="12502"/>
                  <a:pt x="3564" y="12502"/>
                  <a:pt x="3597" y="12502"/>
                </a:cubicBezTo>
              </a:path>
              <a:path w="6847" h="3995">
                <a:moveTo>
                  <a:pt x="3572" y="11931"/>
                </a:moveTo>
                <a:cubicBezTo>
                  <a:pt x="3542" y="12049"/>
                  <a:pt x="3541" y="12158"/>
                  <a:pt x="3522" y="12278"/>
                </a:cubicBezTo>
                <a:cubicBezTo>
                  <a:pt x="3500" y="12417"/>
                  <a:pt x="3484" y="12560"/>
                  <a:pt x="3473" y="12700"/>
                </a:cubicBezTo>
                <a:cubicBezTo>
                  <a:pt x="3465" y="12801"/>
                  <a:pt x="3448" y="12962"/>
                  <a:pt x="3497" y="13047"/>
                </a:cubicBezTo>
              </a:path>
              <a:path w="6847" h="3995">
                <a:moveTo>
                  <a:pt x="3770" y="12229"/>
                </a:moveTo>
                <a:cubicBezTo>
                  <a:pt x="3770" y="12377"/>
                  <a:pt x="3737" y="12558"/>
                  <a:pt x="3746" y="12700"/>
                </a:cubicBezTo>
                <a:cubicBezTo>
                  <a:pt x="3751" y="12778"/>
                  <a:pt x="3771" y="12898"/>
                  <a:pt x="3795" y="12973"/>
                </a:cubicBezTo>
                <a:cubicBezTo>
                  <a:pt x="3828" y="13076"/>
                  <a:pt x="3820" y="13086"/>
                  <a:pt x="3820" y="12973"/>
                </a:cubicBezTo>
                <a:cubicBezTo>
                  <a:pt x="3820" y="12836"/>
                  <a:pt x="3833" y="12710"/>
                  <a:pt x="3845" y="12576"/>
                </a:cubicBezTo>
                <a:cubicBezTo>
                  <a:pt x="3856" y="12451"/>
                  <a:pt x="3862" y="12326"/>
                  <a:pt x="3894" y="12204"/>
                </a:cubicBezTo>
                <a:cubicBezTo>
                  <a:pt x="3918" y="12112"/>
                  <a:pt x="3926" y="12041"/>
                  <a:pt x="3969" y="11956"/>
                </a:cubicBezTo>
                <a:cubicBezTo>
                  <a:pt x="4011" y="11873"/>
                  <a:pt x="4029" y="11881"/>
                  <a:pt x="4118" y="11881"/>
                </a:cubicBezTo>
                <a:cubicBezTo>
                  <a:pt x="4244" y="11881"/>
                  <a:pt x="4325" y="11898"/>
                  <a:pt x="4415" y="11981"/>
                </a:cubicBezTo>
                <a:cubicBezTo>
                  <a:pt x="4423" y="11989"/>
                  <a:pt x="4432" y="11997"/>
                  <a:pt x="4440" y="12005"/>
                </a:cubicBezTo>
              </a:path>
              <a:path w="6847" h="3995">
                <a:moveTo>
                  <a:pt x="4093" y="12328"/>
                </a:moveTo>
                <a:cubicBezTo>
                  <a:pt x="4192" y="12291"/>
                  <a:pt x="4339" y="12205"/>
                  <a:pt x="4440" y="12254"/>
                </a:cubicBezTo>
                <a:cubicBezTo>
                  <a:pt x="4518" y="12292"/>
                  <a:pt x="4438" y="12405"/>
                  <a:pt x="4415" y="12452"/>
                </a:cubicBezTo>
                <a:cubicBezTo>
                  <a:pt x="4368" y="12546"/>
                  <a:pt x="4296" y="12612"/>
                  <a:pt x="4242" y="12700"/>
                </a:cubicBezTo>
                <a:cubicBezTo>
                  <a:pt x="4198" y="12772"/>
                  <a:pt x="4147" y="12810"/>
                  <a:pt x="4142" y="12898"/>
                </a:cubicBezTo>
                <a:cubicBezTo>
                  <a:pt x="4138" y="12961"/>
                  <a:pt x="4134" y="13010"/>
                  <a:pt x="4192" y="13047"/>
                </a:cubicBezTo>
                <a:cubicBezTo>
                  <a:pt x="4251" y="13085"/>
                  <a:pt x="4319" y="13113"/>
                  <a:pt x="4390" y="13097"/>
                </a:cubicBezTo>
                <a:cubicBezTo>
                  <a:pt x="4462" y="13073"/>
                  <a:pt x="4485" y="13067"/>
                  <a:pt x="4514" y="13022"/>
                </a:cubicBezTo>
              </a:path>
              <a:path w="6847" h="3995">
                <a:moveTo>
                  <a:pt x="4911" y="12526"/>
                </a:moveTo>
                <a:cubicBezTo>
                  <a:pt x="4903" y="12468"/>
                  <a:pt x="4895" y="12411"/>
                  <a:pt x="4887" y="12353"/>
                </a:cubicBezTo>
                <a:cubicBezTo>
                  <a:pt x="4805" y="12363"/>
                  <a:pt x="4732" y="12374"/>
                  <a:pt x="4663" y="12427"/>
                </a:cubicBezTo>
                <a:cubicBezTo>
                  <a:pt x="4608" y="12469"/>
                  <a:pt x="4540" y="12550"/>
                  <a:pt x="4564" y="12626"/>
                </a:cubicBezTo>
                <a:cubicBezTo>
                  <a:pt x="4586" y="12696"/>
                  <a:pt x="4657" y="12805"/>
                  <a:pt x="4738" y="12824"/>
                </a:cubicBezTo>
                <a:cubicBezTo>
                  <a:pt x="4815" y="12842"/>
                  <a:pt x="4879" y="12821"/>
                  <a:pt x="4911" y="12750"/>
                </a:cubicBezTo>
                <a:cubicBezTo>
                  <a:pt x="4944" y="12677"/>
                  <a:pt x="4950" y="12454"/>
                  <a:pt x="4986" y="12526"/>
                </a:cubicBezTo>
                <a:cubicBezTo>
                  <a:pt x="5034" y="12623"/>
                  <a:pt x="5002" y="12889"/>
                  <a:pt x="5011" y="12998"/>
                </a:cubicBezTo>
                <a:cubicBezTo>
                  <a:pt x="5021" y="13117"/>
                  <a:pt x="5055" y="13228"/>
                  <a:pt x="5060" y="13345"/>
                </a:cubicBezTo>
                <a:cubicBezTo>
                  <a:pt x="5060" y="13387"/>
                  <a:pt x="5060" y="13412"/>
                  <a:pt x="5060" y="13370"/>
                </a:cubicBezTo>
              </a:path>
              <a:path w="6847" h="3995">
                <a:moveTo>
                  <a:pt x="5011" y="11509"/>
                </a:moveTo>
                <a:cubicBezTo>
                  <a:pt x="5064" y="11674"/>
                  <a:pt x="5106" y="11840"/>
                  <a:pt x="5159" y="12005"/>
                </a:cubicBezTo>
                <a:cubicBezTo>
                  <a:pt x="5181" y="12072"/>
                  <a:pt x="5215" y="12133"/>
                  <a:pt x="5135" y="12154"/>
                </a:cubicBezTo>
              </a:path>
              <a:path w="6847" h="3995">
                <a:moveTo>
                  <a:pt x="5308" y="10939"/>
                </a:moveTo>
                <a:cubicBezTo>
                  <a:pt x="5425" y="10939"/>
                  <a:pt x="5547" y="10955"/>
                  <a:pt x="5655" y="10914"/>
                </a:cubicBezTo>
              </a:path>
              <a:path w="6847" h="3995">
                <a:moveTo>
                  <a:pt x="5829" y="10641"/>
                </a:moveTo>
                <a:cubicBezTo>
                  <a:pt x="5897" y="10582"/>
                  <a:pt x="5955" y="10541"/>
                  <a:pt x="6052" y="10567"/>
                </a:cubicBezTo>
                <a:cubicBezTo>
                  <a:pt x="6129" y="10587"/>
                  <a:pt x="6142" y="10672"/>
                  <a:pt x="6127" y="10740"/>
                </a:cubicBezTo>
                <a:cubicBezTo>
                  <a:pt x="6103" y="10849"/>
                  <a:pt x="6072" y="10974"/>
                  <a:pt x="6003" y="11063"/>
                </a:cubicBezTo>
                <a:cubicBezTo>
                  <a:pt x="5945" y="11138"/>
                  <a:pt x="5885" y="11208"/>
                  <a:pt x="5829" y="11286"/>
                </a:cubicBezTo>
                <a:cubicBezTo>
                  <a:pt x="5794" y="11334"/>
                  <a:pt x="5787" y="11350"/>
                  <a:pt x="5779" y="11410"/>
                </a:cubicBezTo>
                <a:cubicBezTo>
                  <a:pt x="5839" y="11446"/>
                  <a:pt x="5903" y="11435"/>
                  <a:pt x="5978" y="11435"/>
                </a:cubicBezTo>
                <a:cubicBezTo>
                  <a:pt x="6061" y="11435"/>
                  <a:pt x="6122" y="11456"/>
                  <a:pt x="6201" y="11460"/>
                </a:cubicBezTo>
                <a:cubicBezTo>
                  <a:pt x="6262" y="11463"/>
                  <a:pt x="6297" y="11436"/>
                  <a:pt x="6350" y="11410"/>
                </a:cubicBezTo>
              </a:path>
              <a:path w="6847" h="3995">
                <a:moveTo>
                  <a:pt x="6598" y="10716"/>
                </a:moveTo>
                <a:cubicBezTo>
                  <a:pt x="6510" y="10728"/>
                  <a:pt x="6473" y="10784"/>
                  <a:pt x="6424" y="10864"/>
                </a:cubicBezTo>
                <a:cubicBezTo>
                  <a:pt x="6375" y="10945"/>
                  <a:pt x="6351" y="11029"/>
                  <a:pt x="6375" y="11112"/>
                </a:cubicBezTo>
                <a:cubicBezTo>
                  <a:pt x="6405" y="11215"/>
                  <a:pt x="6447" y="11286"/>
                  <a:pt x="6548" y="11336"/>
                </a:cubicBezTo>
                <a:cubicBezTo>
                  <a:pt x="6615" y="11370"/>
                  <a:pt x="6729" y="11402"/>
                  <a:pt x="6796" y="11361"/>
                </a:cubicBezTo>
                <a:cubicBezTo>
                  <a:pt x="6888" y="11304"/>
                  <a:pt x="6935" y="11158"/>
                  <a:pt x="6945" y="11063"/>
                </a:cubicBezTo>
                <a:cubicBezTo>
                  <a:pt x="6956" y="10960"/>
                  <a:pt x="6908" y="10845"/>
                  <a:pt x="6846" y="10765"/>
                </a:cubicBezTo>
                <a:cubicBezTo>
                  <a:pt x="6760" y="10655"/>
                  <a:pt x="6693" y="10618"/>
                  <a:pt x="6548" y="10592"/>
                </a:cubicBezTo>
                <a:cubicBezTo>
                  <a:pt x="6523" y="10592"/>
                  <a:pt x="6499" y="10592"/>
                  <a:pt x="6474" y="10592"/>
                </a:cubicBezTo>
              </a:path>
              <a:path w="6847" h="3995">
                <a:moveTo>
                  <a:pt x="5556" y="11633"/>
                </a:moveTo>
                <a:cubicBezTo>
                  <a:pt x="5729" y="11633"/>
                  <a:pt x="5906" y="11630"/>
                  <a:pt x="6077" y="11609"/>
                </a:cubicBezTo>
                <a:cubicBezTo>
                  <a:pt x="6252" y="11587"/>
                  <a:pt x="6425" y="11540"/>
                  <a:pt x="6598" y="11509"/>
                </a:cubicBezTo>
                <a:cubicBezTo>
                  <a:pt x="6748" y="11482"/>
                  <a:pt x="6900" y="11469"/>
                  <a:pt x="7045" y="11435"/>
                </a:cubicBezTo>
                <a:cubicBezTo>
                  <a:pt x="7134" y="11414"/>
                  <a:pt x="7261" y="11439"/>
                  <a:pt x="7342" y="11410"/>
                </a:cubicBezTo>
                <a:cubicBezTo>
                  <a:pt x="7372" y="11380"/>
                  <a:pt x="7374" y="11369"/>
                  <a:pt x="7317" y="11361"/>
                </a:cubicBezTo>
              </a:path>
              <a:path w="6847" h="3995">
                <a:moveTo>
                  <a:pt x="6127" y="11757"/>
                </a:moveTo>
                <a:cubicBezTo>
                  <a:pt x="6067" y="11813"/>
                  <a:pt x="5899" y="11920"/>
                  <a:pt x="5904" y="12030"/>
                </a:cubicBezTo>
                <a:cubicBezTo>
                  <a:pt x="5907" y="12106"/>
                  <a:pt x="6019" y="12156"/>
                  <a:pt x="6077" y="12179"/>
                </a:cubicBezTo>
                <a:cubicBezTo>
                  <a:pt x="6191" y="12224"/>
                  <a:pt x="6239" y="12232"/>
                  <a:pt x="6350" y="12179"/>
                </a:cubicBezTo>
                <a:cubicBezTo>
                  <a:pt x="6367" y="12171"/>
                  <a:pt x="6383" y="12162"/>
                  <a:pt x="6400" y="12154"/>
                </a:cubicBezTo>
              </a:path>
              <a:path w="6847" h="3995">
                <a:moveTo>
                  <a:pt x="6251" y="11733"/>
                </a:moveTo>
                <a:cubicBezTo>
                  <a:pt x="6238" y="11939"/>
                  <a:pt x="6261" y="12078"/>
                  <a:pt x="6276" y="12278"/>
                </a:cubicBezTo>
                <a:cubicBezTo>
                  <a:pt x="6286" y="12404"/>
                  <a:pt x="6312" y="12527"/>
                  <a:pt x="6325" y="12650"/>
                </a:cubicBezTo>
                <a:cubicBezTo>
                  <a:pt x="6332" y="12717"/>
                  <a:pt x="6305" y="12794"/>
                  <a:pt x="6350" y="12824"/>
                </a:cubicBezTo>
              </a:path>
              <a:path w="6847" h="3995">
                <a:moveTo>
                  <a:pt x="6722" y="12080"/>
                </a:moveTo>
                <a:cubicBezTo>
                  <a:pt x="6746" y="12230"/>
                  <a:pt x="6727" y="12377"/>
                  <a:pt x="6747" y="12526"/>
                </a:cubicBezTo>
                <a:cubicBezTo>
                  <a:pt x="6764" y="12653"/>
                  <a:pt x="6772" y="12769"/>
                  <a:pt x="6772" y="12898"/>
                </a:cubicBezTo>
                <a:cubicBezTo>
                  <a:pt x="6772" y="12956"/>
                  <a:pt x="6772" y="13014"/>
                  <a:pt x="6772" y="13072"/>
                </a:cubicBezTo>
                <a:cubicBezTo>
                  <a:pt x="6772" y="12838"/>
                  <a:pt x="6770" y="12608"/>
                  <a:pt x="6747" y="12378"/>
                </a:cubicBezTo>
                <a:cubicBezTo>
                  <a:pt x="6728" y="12190"/>
                  <a:pt x="6735" y="11959"/>
                  <a:pt x="6796" y="11782"/>
                </a:cubicBezTo>
                <a:cubicBezTo>
                  <a:pt x="6807" y="11749"/>
                  <a:pt x="6891" y="11690"/>
                  <a:pt x="6921" y="11683"/>
                </a:cubicBezTo>
                <a:cubicBezTo>
                  <a:pt x="7005" y="11663"/>
                  <a:pt x="7090" y="11699"/>
                  <a:pt x="7169" y="11708"/>
                </a:cubicBezTo>
                <a:cubicBezTo>
                  <a:pt x="7284" y="11721"/>
                  <a:pt x="7380" y="11773"/>
                  <a:pt x="7491" y="11733"/>
                </a:cubicBezTo>
              </a:path>
              <a:path w="6847" h="3995">
                <a:moveTo>
                  <a:pt x="6970" y="12055"/>
                </a:moveTo>
                <a:cubicBezTo>
                  <a:pt x="7047" y="12047"/>
                  <a:pt x="7081" y="12038"/>
                  <a:pt x="7144" y="12005"/>
                </a:cubicBezTo>
                <a:cubicBezTo>
                  <a:pt x="7204" y="11973"/>
                  <a:pt x="7325" y="11940"/>
                  <a:pt x="7392" y="11956"/>
                </a:cubicBezTo>
                <a:cubicBezTo>
                  <a:pt x="7467" y="11974"/>
                  <a:pt x="7428" y="12110"/>
                  <a:pt x="7417" y="12154"/>
                </a:cubicBezTo>
                <a:cubicBezTo>
                  <a:pt x="7389" y="12263"/>
                  <a:pt x="7319" y="12326"/>
                  <a:pt x="7243" y="12402"/>
                </a:cubicBezTo>
                <a:cubicBezTo>
                  <a:pt x="7161" y="12484"/>
                  <a:pt x="7116" y="12467"/>
                  <a:pt x="7020" y="12502"/>
                </a:cubicBezTo>
                <a:cubicBezTo>
                  <a:pt x="6978" y="12517"/>
                  <a:pt x="6940" y="12540"/>
                  <a:pt x="6896" y="12551"/>
                </a:cubicBezTo>
                <a:cubicBezTo>
                  <a:pt x="6956" y="12491"/>
                  <a:pt x="6976" y="12477"/>
                  <a:pt x="7045" y="12452"/>
                </a:cubicBezTo>
                <a:cubicBezTo>
                  <a:pt x="7137" y="12419"/>
                  <a:pt x="7217" y="12415"/>
                  <a:pt x="7317" y="12452"/>
                </a:cubicBezTo>
                <a:cubicBezTo>
                  <a:pt x="7379" y="12475"/>
                  <a:pt x="7428" y="12577"/>
                  <a:pt x="7491" y="12601"/>
                </a:cubicBezTo>
                <a:cubicBezTo>
                  <a:pt x="7508" y="12601"/>
                  <a:pt x="7524" y="12601"/>
                  <a:pt x="7541" y="12601"/>
                </a:cubicBezTo>
              </a:path>
              <a:path w="6847" h="3995">
                <a:moveTo>
                  <a:pt x="7863" y="12055"/>
                </a:moveTo>
                <a:cubicBezTo>
                  <a:pt x="7769" y="12031"/>
                  <a:pt x="7705" y="12015"/>
                  <a:pt x="7615" y="12055"/>
                </a:cubicBezTo>
                <a:cubicBezTo>
                  <a:pt x="7541" y="12088"/>
                  <a:pt x="7545" y="12173"/>
                  <a:pt x="7590" y="12229"/>
                </a:cubicBezTo>
                <a:cubicBezTo>
                  <a:pt x="7618" y="12265"/>
                  <a:pt x="7663" y="12320"/>
                  <a:pt x="7714" y="12303"/>
                </a:cubicBezTo>
                <a:cubicBezTo>
                  <a:pt x="7747" y="12292"/>
                  <a:pt x="7812" y="12228"/>
                  <a:pt x="7838" y="12204"/>
                </a:cubicBezTo>
                <a:cubicBezTo>
                  <a:pt x="7870" y="12175"/>
                  <a:pt x="7886" y="12138"/>
                  <a:pt x="7913" y="12105"/>
                </a:cubicBezTo>
                <a:cubicBezTo>
                  <a:pt x="7879" y="12180"/>
                  <a:pt x="7833" y="12296"/>
                  <a:pt x="7838" y="12378"/>
                </a:cubicBezTo>
                <a:cubicBezTo>
                  <a:pt x="7848" y="12531"/>
                  <a:pt x="7891" y="12678"/>
                  <a:pt x="7938" y="12824"/>
                </a:cubicBezTo>
                <a:cubicBezTo>
                  <a:pt x="7958" y="12885"/>
                  <a:pt x="7958" y="12925"/>
                  <a:pt x="7987" y="12973"/>
                </a:cubicBezTo>
              </a:path>
              <a:path w="6847" h="3995">
                <a:moveTo>
                  <a:pt x="7367" y="10220"/>
                </a:moveTo>
                <a:cubicBezTo>
                  <a:pt x="7422" y="10340"/>
                  <a:pt x="7502" y="10415"/>
                  <a:pt x="7615" y="10492"/>
                </a:cubicBezTo>
                <a:cubicBezTo>
                  <a:pt x="7795" y="10614"/>
                  <a:pt x="7963" y="10754"/>
                  <a:pt x="8136" y="10889"/>
                </a:cubicBezTo>
                <a:cubicBezTo>
                  <a:pt x="8285" y="11005"/>
                  <a:pt x="8431" y="11124"/>
                  <a:pt x="8582" y="11237"/>
                </a:cubicBezTo>
                <a:cubicBezTo>
                  <a:pt x="8652" y="11289"/>
                  <a:pt x="8838" y="11408"/>
                  <a:pt x="8880" y="11485"/>
                </a:cubicBezTo>
                <a:cubicBezTo>
                  <a:pt x="8924" y="11567"/>
                  <a:pt x="8785" y="11741"/>
                  <a:pt x="8756" y="11807"/>
                </a:cubicBezTo>
                <a:cubicBezTo>
                  <a:pt x="8659" y="12026"/>
                  <a:pt x="8590" y="12252"/>
                  <a:pt x="8508" y="12477"/>
                </a:cubicBezTo>
                <a:cubicBezTo>
                  <a:pt x="8434" y="12675"/>
                  <a:pt x="8409" y="12742"/>
                  <a:pt x="8359" y="12874"/>
                </a:cubicBezTo>
              </a:path>
              <a:path w="6847" h="3995">
                <a:moveTo>
                  <a:pt x="3646" y="11906"/>
                </a:moveTo>
                <a:cubicBezTo>
                  <a:pt x="3728" y="11953"/>
                  <a:pt x="3756" y="11957"/>
                  <a:pt x="3721" y="12055"/>
                </a:cubicBezTo>
                <a:cubicBezTo>
                  <a:pt x="3692" y="12139"/>
                  <a:pt x="3633" y="12193"/>
                  <a:pt x="3572" y="12254"/>
                </a:cubicBezTo>
                <a:cubicBezTo>
                  <a:pt x="3501" y="12325"/>
                  <a:pt x="3420" y="12380"/>
                  <a:pt x="3349" y="12452"/>
                </a:cubicBezTo>
                <a:cubicBezTo>
                  <a:pt x="3292" y="12510"/>
                  <a:pt x="3222" y="12583"/>
                  <a:pt x="3175" y="12650"/>
                </a:cubicBezTo>
                <a:cubicBezTo>
                  <a:pt x="3133" y="12709"/>
                  <a:pt x="3123" y="12918"/>
                  <a:pt x="3101" y="12849"/>
                </a:cubicBezTo>
                <a:cubicBezTo>
                  <a:pt x="3101" y="12807"/>
                  <a:pt x="3101" y="12799"/>
                  <a:pt x="3101" y="12774"/>
                </a:cubicBezTo>
              </a:path>
              <a:path w="6847" h="3995">
                <a:moveTo>
                  <a:pt x="3969" y="10443"/>
                </a:moveTo>
                <a:cubicBezTo>
                  <a:pt x="3887" y="10499"/>
                  <a:pt x="3809" y="10563"/>
                  <a:pt x="3746" y="10641"/>
                </a:cubicBezTo>
                <a:cubicBezTo>
                  <a:pt x="3653" y="10757"/>
                  <a:pt x="3556" y="10863"/>
                  <a:pt x="3473" y="10988"/>
                </a:cubicBezTo>
                <a:cubicBezTo>
                  <a:pt x="3416" y="11074"/>
                  <a:pt x="3351" y="11192"/>
                  <a:pt x="3274" y="11261"/>
                </a:cubicBezTo>
                <a:cubicBezTo>
                  <a:pt x="3266" y="11269"/>
                  <a:pt x="3161" y="11387"/>
                  <a:pt x="3150" y="11385"/>
                </a:cubicBezTo>
                <a:cubicBezTo>
                  <a:pt x="3150" y="11377"/>
                  <a:pt x="3150" y="11369"/>
                  <a:pt x="3150" y="11361"/>
                </a:cubicBezTo>
              </a:path>
              <a:path w="6847" h="3995">
                <a:moveTo>
                  <a:pt x="3597" y="9674"/>
                </a:moveTo>
                <a:cubicBezTo>
                  <a:pt x="3623" y="9602"/>
                  <a:pt x="3644" y="9532"/>
                  <a:pt x="3696" y="9475"/>
                </a:cubicBezTo>
                <a:cubicBezTo>
                  <a:pt x="3742" y="9424"/>
                  <a:pt x="3725" y="9471"/>
                  <a:pt x="3770" y="9401"/>
                </a:cubicBezTo>
                <a:cubicBezTo>
                  <a:pt x="3845" y="9422"/>
                  <a:pt x="3871" y="9452"/>
                  <a:pt x="3894" y="9525"/>
                </a:cubicBezTo>
                <a:cubicBezTo>
                  <a:pt x="3932" y="9643"/>
                  <a:pt x="3908" y="9708"/>
                  <a:pt x="3870" y="9823"/>
                </a:cubicBezTo>
                <a:cubicBezTo>
                  <a:pt x="3844" y="9901"/>
                  <a:pt x="3802" y="10012"/>
                  <a:pt x="3746" y="10046"/>
                </a:cubicBezTo>
                <a:cubicBezTo>
                  <a:pt x="3717" y="10063"/>
                  <a:pt x="3609" y="10086"/>
                  <a:pt x="3572" y="10071"/>
                </a:cubicBezTo>
                <a:cubicBezTo>
                  <a:pt x="3468" y="10031"/>
                  <a:pt x="3590" y="9906"/>
                  <a:pt x="3646" y="9897"/>
                </a:cubicBezTo>
                <a:cubicBezTo>
                  <a:pt x="3699" y="9888"/>
                  <a:pt x="3757" y="9887"/>
                  <a:pt x="3795" y="9922"/>
                </a:cubicBezTo>
                <a:cubicBezTo>
                  <a:pt x="3850" y="9973"/>
                  <a:pt x="3888" y="9990"/>
                  <a:pt x="3944" y="10046"/>
                </a:cubicBezTo>
                <a:cubicBezTo>
                  <a:pt x="4013" y="10115"/>
                  <a:pt x="4104" y="10175"/>
                  <a:pt x="4118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Ink 9"/>
          <p:cNvSpPr/>
          <p:nvPr/>
        </p:nvSpPr>
        <p:spPr>
          <a:xfrm>
            <a:off x="3902040" y="3589200"/>
            <a:ext cx="884160" cy="581040"/>
          </a:xfrm>
          <a:custGeom>
            <a:avLst/>
            <a:gdLst/>
            <a:ahLst/>
            <a:rect l="l" t="t" r="r" b="b"/>
            <a:pathLst>
              <a:path w="2456" h="1614">
                <a:moveTo>
                  <a:pt x="11063" y="10046"/>
                </a:moveTo>
                <a:cubicBezTo>
                  <a:pt x="11013" y="10152"/>
                  <a:pt x="10983" y="10260"/>
                  <a:pt x="10939" y="10368"/>
                </a:cubicBezTo>
                <a:cubicBezTo>
                  <a:pt x="10910" y="10440"/>
                  <a:pt x="10877" y="10501"/>
                  <a:pt x="10840" y="10567"/>
                </a:cubicBezTo>
                <a:cubicBezTo>
                  <a:pt x="10913" y="10604"/>
                  <a:pt x="10988" y="10563"/>
                  <a:pt x="11063" y="10592"/>
                </a:cubicBezTo>
                <a:cubicBezTo>
                  <a:pt x="11162" y="10630"/>
                  <a:pt x="11295" y="10602"/>
                  <a:pt x="11385" y="10641"/>
                </a:cubicBezTo>
                <a:cubicBezTo>
                  <a:pt x="11506" y="10694"/>
                  <a:pt x="11473" y="10673"/>
                  <a:pt x="11584" y="10641"/>
                </a:cubicBezTo>
              </a:path>
              <a:path w="2456" h="1614">
                <a:moveTo>
                  <a:pt x="11460" y="10046"/>
                </a:moveTo>
                <a:cubicBezTo>
                  <a:pt x="11421" y="10212"/>
                  <a:pt x="11413" y="10396"/>
                  <a:pt x="11410" y="10567"/>
                </a:cubicBezTo>
                <a:cubicBezTo>
                  <a:pt x="11407" y="10739"/>
                  <a:pt x="11400" y="10917"/>
                  <a:pt x="11385" y="11088"/>
                </a:cubicBezTo>
                <a:cubicBezTo>
                  <a:pt x="11375" y="11196"/>
                  <a:pt x="11361" y="11419"/>
                  <a:pt x="11361" y="11311"/>
                </a:cubicBezTo>
              </a:path>
              <a:path w="2456" h="1614">
                <a:moveTo>
                  <a:pt x="11757" y="10492"/>
                </a:moveTo>
                <a:cubicBezTo>
                  <a:pt x="11738" y="10692"/>
                  <a:pt x="11742" y="10844"/>
                  <a:pt x="11757" y="11038"/>
                </a:cubicBezTo>
                <a:cubicBezTo>
                  <a:pt x="11764" y="11132"/>
                  <a:pt x="11777" y="11221"/>
                  <a:pt x="11782" y="11311"/>
                </a:cubicBezTo>
                <a:cubicBezTo>
                  <a:pt x="11782" y="11328"/>
                  <a:pt x="11782" y="11344"/>
                  <a:pt x="11782" y="11361"/>
                </a:cubicBezTo>
                <a:cubicBezTo>
                  <a:pt x="11801" y="11250"/>
                  <a:pt x="11807" y="11115"/>
                  <a:pt x="11807" y="10988"/>
                </a:cubicBezTo>
                <a:cubicBezTo>
                  <a:pt x="11807" y="10827"/>
                  <a:pt x="11820" y="10675"/>
                  <a:pt x="11832" y="10517"/>
                </a:cubicBezTo>
                <a:cubicBezTo>
                  <a:pt x="11842" y="10381"/>
                  <a:pt x="11839" y="10253"/>
                  <a:pt x="11857" y="10120"/>
                </a:cubicBezTo>
                <a:cubicBezTo>
                  <a:pt x="11866" y="10054"/>
                  <a:pt x="11902" y="9988"/>
                  <a:pt x="11981" y="9971"/>
                </a:cubicBezTo>
                <a:cubicBezTo>
                  <a:pt x="12243" y="9914"/>
                  <a:pt x="12589" y="9971"/>
                  <a:pt x="12849" y="9996"/>
                </a:cubicBezTo>
                <a:cubicBezTo>
                  <a:pt x="12928" y="9996"/>
                  <a:pt x="12958" y="9999"/>
                  <a:pt x="12998" y="10046"/>
                </a:cubicBezTo>
              </a:path>
              <a:path w="2456" h="1614">
                <a:moveTo>
                  <a:pt x="12080" y="10418"/>
                </a:moveTo>
                <a:cubicBezTo>
                  <a:pt x="12164" y="10372"/>
                  <a:pt x="12229" y="10348"/>
                  <a:pt x="12328" y="10344"/>
                </a:cubicBezTo>
                <a:cubicBezTo>
                  <a:pt x="12401" y="10344"/>
                  <a:pt x="12425" y="10345"/>
                  <a:pt x="12452" y="10294"/>
                </a:cubicBezTo>
                <a:cubicBezTo>
                  <a:pt x="12529" y="10371"/>
                  <a:pt x="12537" y="10385"/>
                  <a:pt x="12502" y="10492"/>
                </a:cubicBezTo>
                <a:cubicBezTo>
                  <a:pt x="12459" y="10621"/>
                  <a:pt x="12367" y="10704"/>
                  <a:pt x="12303" y="10815"/>
                </a:cubicBezTo>
                <a:cubicBezTo>
                  <a:pt x="12268" y="10877"/>
                  <a:pt x="12195" y="10965"/>
                  <a:pt x="12179" y="11038"/>
                </a:cubicBezTo>
                <a:cubicBezTo>
                  <a:pt x="12162" y="11114"/>
                  <a:pt x="12178" y="11161"/>
                  <a:pt x="12229" y="11212"/>
                </a:cubicBezTo>
                <a:cubicBezTo>
                  <a:pt x="12291" y="11274"/>
                  <a:pt x="12406" y="11282"/>
                  <a:pt x="12477" y="11261"/>
                </a:cubicBezTo>
                <a:cubicBezTo>
                  <a:pt x="12502" y="11253"/>
                  <a:pt x="12526" y="11245"/>
                  <a:pt x="12551" y="11237"/>
                </a:cubicBezTo>
              </a:path>
              <a:path w="2456" h="1614">
                <a:moveTo>
                  <a:pt x="13196" y="10418"/>
                </a:moveTo>
                <a:cubicBezTo>
                  <a:pt x="13055" y="10358"/>
                  <a:pt x="12934" y="10289"/>
                  <a:pt x="12799" y="10418"/>
                </a:cubicBezTo>
                <a:cubicBezTo>
                  <a:pt x="12738" y="10477"/>
                  <a:pt x="12657" y="10545"/>
                  <a:pt x="12675" y="10641"/>
                </a:cubicBezTo>
                <a:cubicBezTo>
                  <a:pt x="12686" y="10700"/>
                  <a:pt x="12769" y="10775"/>
                  <a:pt x="12824" y="10790"/>
                </a:cubicBezTo>
                <a:cubicBezTo>
                  <a:pt x="12901" y="10811"/>
                  <a:pt x="13004" y="10828"/>
                  <a:pt x="13072" y="10765"/>
                </a:cubicBezTo>
                <a:cubicBezTo>
                  <a:pt x="13113" y="10727"/>
                  <a:pt x="13161" y="10590"/>
                  <a:pt x="13196" y="10567"/>
                </a:cubicBezTo>
                <a:cubicBezTo>
                  <a:pt x="13204" y="10575"/>
                  <a:pt x="13213" y="10584"/>
                  <a:pt x="13221" y="10592"/>
                </a:cubicBezTo>
                <a:cubicBezTo>
                  <a:pt x="13209" y="10706"/>
                  <a:pt x="13180" y="10821"/>
                  <a:pt x="13196" y="10939"/>
                </a:cubicBezTo>
                <a:cubicBezTo>
                  <a:pt x="13217" y="11089"/>
                  <a:pt x="13282" y="11233"/>
                  <a:pt x="13295" y="11385"/>
                </a:cubicBezTo>
                <a:cubicBezTo>
                  <a:pt x="13295" y="11494"/>
                  <a:pt x="13300" y="11521"/>
                  <a:pt x="13271" y="115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Ink 10"/>
          <p:cNvSpPr/>
          <p:nvPr/>
        </p:nvSpPr>
        <p:spPr>
          <a:xfrm>
            <a:off x="1009800" y="4894200"/>
            <a:ext cx="1106280" cy="1017720"/>
          </a:xfrm>
          <a:custGeom>
            <a:avLst/>
            <a:gdLst/>
            <a:ahLst/>
            <a:rect l="l" t="t" r="r" b="b"/>
            <a:pathLst>
              <a:path w="3077" h="2829">
                <a:moveTo>
                  <a:pt x="3448" y="14114"/>
                </a:moveTo>
                <a:cubicBezTo>
                  <a:pt x="3358" y="14203"/>
                  <a:pt x="3256" y="14295"/>
                  <a:pt x="3175" y="14387"/>
                </a:cubicBezTo>
                <a:cubicBezTo>
                  <a:pt x="3107" y="14464"/>
                  <a:pt x="3035" y="14545"/>
                  <a:pt x="2952" y="14610"/>
                </a:cubicBezTo>
                <a:cubicBezTo>
                  <a:pt x="2913" y="14640"/>
                  <a:pt x="2854" y="14664"/>
                  <a:pt x="2828" y="14709"/>
                </a:cubicBezTo>
                <a:cubicBezTo>
                  <a:pt x="2774" y="14800"/>
                  <a:pt x="2835" y="14803"/>
                  <a:pt x="2877" y="14883"/>
                </a:cubicBezTo>
                <a:cubicBezTo>
                  <a:pt x="2939" y="15002"/>
                  <a:pt x="3017" y="15119"/>
                  <a:pt x="3101" y="15230"/>
                </a:cubicBezTo>
                <a:cubicBezTo>
                  <a:pt x="3230" y="15401"/>
                  <a:pt x="3341" y="15582"/>
                  <a:pt x="3473" y="15751"/>
                </a:cubicBezTo>
                <a:cubicBezTo>
                  <a:pt x="3613" y="15929"/>
                  <a:pt x="3737" y="16119"/>
                  <a:pt x="3870" y="16297"/>
                </a:cubicBezTo>
                <a:cubicBezTo>
                  <a:pt x="3898" y="16334"/>
                  <a:pt x="4002" y="16482"/>
                  <a:pt x="4068" y="16396"/>
                </a:cubicBezTo>
                <a:cubicBezTo>
                  <a:pt x="4076" y="16371"/>
                  <a:pt x="4085" y="16346"/>
                  <a:pt x="4093" y="16321"/>
                </a:cubicBezTo>
              </a:path>
              <a:path w="3077" h="2829">
                <a:moveTo>
                  <a:pt x="3994" y="13816"/>
                </a:moveTo>
                <a:cubicBezTo>
                  <a:pt x="3976" y="13871"/>
                  <a:pt x="3968" y="13918"/>
                  <a:pt x="3944" y="13965"/>
                </a:cubicBezTo>
                <a:cubicBezTo>
                  <a:pt x="3944" y="13880"/>
                  <a:pt x="3953" y="13880"/>
                  <a:pt x="3994" y="13816"/>
                </a:cubicBezTo>
                <a:cubicBezTo>
                  <a:pt x="4032" y="13756"/>
                  <a:pt x="4047" y="13711"/>
                  <a:pt x="4118" y="13767"/>
                </a:cubicBezTo>
                <a:cubicBezTo>
                  <a:pt x="4200" y="13832"/>
                  <a:pt x="4188" y="13885"/>
                  <a:pt x="4192" y="13990"/>
                </a:cubicBezTo>
                <a:cubicBezTo>
                  <a:pt x="4196" y="14097"/>
                  <a:pt x="4172" y="14185"/>
                  <a:pt x="4142" y="14288"/>
                </a:cubicBezTo>
                <a:cubicBezTo>
                  <a:pt x="4105" y="14412"/>
                  <a:pt x="4053" y="14503"/>
                  <a:pt x="3994" y="14610"/>
                </a:cubicBezTo>
                <a:cubicBezTo>
                  <a:pt x="3971" y="14651"/>
                  <a:pt x="3899" y="14748"/>
                  <a:pt x="3845" y="14660"/>
                </a:cubicBezTo>
                <a:cubicBezTo>
                  <a:pt x="3817" y="14615"/>
                  <a:pt x="3852" y="14502"/>
                  <a:pt x="3870" y="14461"/>
                </a:cubicBezTo>
                <a:cubicBezTo>
                  <a:pt x="3896" y="14401"/>
                  <a:pt x="3923" y="14358"/>
                  <a:pt x="3969" y="14312"/>
                </a:cubicBezTo>
                <a:cubicBezTo>
                  <a:pt x="4033" y="14376"/>
                  <a:pt x="4057" y="14405"/>
                  <a:pt x="4093" y="14486"/>
                </a:cubicBezTo>
                <a:cubicBezTo>
                  <a:pt x="4131" y="14570"/>
                  <a:pt x="4173" y="14631"/>
                  <a:pt x="4217" y="14709"/>
                </a:cubicBezTo>
                <a:cubicBezTo>
                  <a:pt x="4237" y="14749"/>
                  <a:pt x="4235" y="14766"/>
                  <a:pt x="4266" y="14759"/>
                </a:cubicBezTo>
              </a:path>
              <a:path w="3077" h="2829">
                <a:moveTo>
                  <a:pt x="4390" y="13990"/>
                </a:moveTo>
                <a:cubicBezTo>
                  <a:pt x="4400" y="14067"/>
                  <a:pt x="4415" y="14131"/>
                  <a:pt x="4415" y="14213"/>
                </a:cubicBezTo>
                <a:cubicBezTo>
                  <a:pt x="4415" y="14316"/>
                  <a:pt x="4435" y="14410"/>
                  <a:pt x="4440" y="14511"/>
                </a:cubicBezTo>
                <a:cubicBezTo>
                  <a:pt x="4443" y="14577"/>
                  <a:pt x="4447" y="14632"/>
                  <a:pt x="4415" y="14684"/>
                </a:cubicBezTo>
                <a:cubicBezTo>
                  <a:pt x="4370" y="14551"/>
                  <a:pt x="4390" y="14406"/>
                  <a:pt x="4390" y="14263"/>
                </a:cubicBezTo>
                <a:cubicBezTo>
                  <a:pt x="4390" y="14142"/>
                  <a:pt x="4370" y="14035"/>
                  <a:pt x="4366" y="13915"/>
                </a:cubicBezTo>
                <a:cubicBezTo>
                  <a:pt x="4363" y="13826"/>
                  <a:pt x="4363" y="13750"/>
                  <a:pt x="4390" y="13667"/>
                </a:cubicBezTo>
                <a:cubicBezTo>
                  <a:pt x="4494" y="13667"/>
                  <a:pt x="4591" y="13680"/>
                  <a:pt x="4688" y="13692"/>
                </a:cubicBezTo>
                <a:cubicBezTo>
                  <a:pt x="4742" y="13699"/>
                  <a:pt x="4856" y="13682"/>
                  <a:pt x="4911" y="13667"/>
                </a:cubicBezTo>
                <a:cubicBezTo>
                  <a:pt x="4958" y="13654"/>
                  <a:pt x="4999" y="13623"/>
                  <a:pt x="5035" y="13593"/>
                </a:cubicBezTo>
              </a:path>
              <a:path w="3077" h="2829">
                <a:moveTo>
                  <a:pt x="4614" y="13915"/>
                </a:moveTo>
                <a:cubicBezTo>
                  <a:pt x="4630" y="13932"/>
                  <a:pt x="4647" y="13948"/>
                  <a:pt x="4663" y="13965"/>
                </a:cubicBezTo>
                <a:cubicBezTo>
                  <a:pt x="4704" y="13924"/>
                  <a:pt x="4753" y="13879"/>
                  <a:pt x="4812" y="13866"/>
                </a:cubicBezTo>
                <a:cubicBezTo>
                  <a:pt x="4829" y="13866"/>
                  <a:pt x="4845" y="13866"/>
                  <a:pt x="4862" y="13866"/>
                </a:cubicBezTo>
                <a:cubicBezTo>
                  <a:pt x="4892" y="13954"/>
                  <a:pt x="4892" y="14003"/>
                  <a:pt x="4862" y="14089"/>
                </a:cubicBezTo>
                <a:cubicBezTo>
                  <a:pt x="4832" y="14175"/>
                  <a:pt x="4802" y="14255"/>
                  <a:pt x="4762" y="14337"/>
                </a:cubicBezTo>
                <a:cubicBezTo>
                  <a:pt x="4718" y="14426"/>
                  <a:pt x="4698" y="14487"/>
                  <a:pt x="4614" y="14536"/>
                </a:cubicBezTo>
                <a:cubicBezTo>
                  <a:pt x="4623" y="14459"/>
                  <a:pt x="4652" y="14429"/>
                  <a:pt x="4688" y="14362"/>
                </a:cubicBezTo>
                <a:cubicBezTo>
                  <a:pt x="4713" y="14312"/>
                  <a:pt x="4721" y="14296"/>
                  <a:pt x="4762" y="14288"/>
                </a:cubicBezTo>
                <a:cubicBezTo>
                  <a:pt x="4807" y="14343"/>
                  <a:pt x="4839" y="14407"/>
                  <a:pt x="4887" y="14461"/>
                </a:cubicBezTo>
                <a:cubicBezTo>
                  <a:pt x="4915" y="14490"/>
                  <a:pt x="4928" y="14498"/>
                  <a:pt x="4961" y="14486"/>
                </a:cubicBezTo>
              </a:path>
              <a:path w="3077" h="2829">
                <a:moveTo>
                  <a:pt x="5209" y="14064"/>
                </a:moveTo>
                <a:cubicBezTo>
                  <a:pt x="5225" y="13998"/>
                  <a:pt x="5290" y="13868"/>
                  <a:pt x="5209" y="13816"/>
                </a:cubicBezTo>
                <a:cubicBezTo>
                  <a:pt x="5127" y="13764"/>
                  <a:pt x="5057" y="13821"/>
                  <a:pt x="5011" y="13891"/>
                </a:cubicBezTo>
                <a:cubicBezTo>
                  <a:pt x="4959" y="13968"/>
                  <a:pt x="4999" y="14038"/>
                  <a:pt x="5035" y="14114"/>
                </a:cubicBezTo>
                <a:cubicBezTo>
                  <a:pt x="5067" y="14181"/>
                  <a:pt x="5095" y="14214"/>
                  <a:pt x="5159" y="14163"/>
                </a:cubicBezTo>
                <a:cubicBezTo>
                  <a:pt x="5242" y="14098"/>
                  <a:pt x="5189" y="14071"/>
                  <a:pt x="5184" y="14188"/>
                </a:cubicBezTo>
                <a:cubicBezTo>
                  <a:pt x="5180" y="14283"/>
                  <a:pt x="5159" y="14362"/>
                  <a:pt x="5159" y="14461"/>
                </a:cubicBezTo>
                <a:cubicBezTo>
                  <a:pt x="5159" y="14525"/>
                  <a:pt x="5171" y="14557"/>
                  <a:pt x="5184" y="14610"/>
                </a:cubicBezTo>
              </a:path>
              <a:path w="3077" h="2829">
                <a:moveTo>
                  <a:pt x="5407" y="14709"/>
                </a:moveTo>
                <a:cubicBezTo>
                  <a:pt x="5273" y="14728"/>
                  <a:pt x="5142" y="14729"/>
                  <a:pt x="5011" y="14759"/>
                </a:cubicBezTo>
                <a:cubicBezTo>
                  <a:pt x="4872" y="14791"/>
                  <a:pt x="4745" y="14818"/>
                  <a:pt x="4614" y="14858"/>
                </a:cubicBezTo>
                <a:cubicBezTo>
                  <a:pt x="4501" y="14893"/>
                  <a:pt x="4370" y="14898"/>
                  <a:pt x="4266" y="14957"/>
                </a:cubicBezTo>
                <a:cubicBezTo>
                  <a:pt x="4261" y="14960"/>
                  <a:pt x="4083" y="15063"/>
                  <a:pt x="4068" y="15032"/>
                </a:cubicBezTo>
                <a:cubicBezTo>
                  <a:pt x="4076" y="15024"/>
                  <a:pt x="4085" y="15015"/>
                  <a:pt x="4093" y="15007"/>
                </a:cubicBezTo>
              </a:path>
              <a:path w="3077" h="2829">
                <a:moveTo>
                  <a:pt x="4490" y="15032"/>
                </a:moveTo>
                <a:cubicBezTo>
                  <a:pt x="4563" y="15086"/>
                  <a:pt x="4580" y="15084"/>
                  <a:pt x="4663" y="15056"/>
                </a:cubicBezTo>
                <a:cubicBezTo>
                  <a:pt x="4719" y="15037"/>
                  <a:pt x="4798" y="15006"/>
                  <a:pt x="4837" y="15081"/>
                </a:cubicBezTo>
                <a:cubicBezTo>
                  <a:pt x="4888" y="15178"/>
                  <a:pt x="4844" y="15237"/>
                  <a:pt x="4812" y="15329"/>
                </a:cubicBezTo>
                <a:cubicBezTo>
                  <a:pt x="4775" y="15435"/>
                  <a:pt x="4733" y="15527"/>
                  <a:pt x="4688" y="15627"/>
                </a:cubicBezTo>
                <a:cubicBezTo>
                  <a:pt x="4651" y="15710"/>
                  <a:pt x="4627" y="15810"/>
                  <a:pt x="4539" y="15850"/>
                </a:cubicBezTo>
                <a:cubicBezTo>
                  <a:pt x="4514" y="15858"/>
                  <a:pt x="4490" y="15867"/>
                  <a:pt x="4465" y="15875"/>
                </a:cubicBezTo>
                <a:cubicBezTo>
                  <a:pt x="4465" y="15798"/>
                  <a:pt x="4450" y="15687"/>
                  <a:pt x="4514" y="15627"/>
                </a:cubicBezTo>
                <a:cubicBezTo>
                  <a:pt x="4553" y="15591"/>
                  <a:pt x="4622" y="15549"/>
                  <a:pt x="4663" y="15602"/>
                </a:cubicBezTo>
                <a:cubicBezTo>
                  <a:pt x="4735" y="15696"/>
                  <a:pt x="4755" y="15811"/>
                  <a:pt x="4837" y="15900"/>
                </a:cubicBezTo>
                <a:cubicBezTo>
                  <a:pt x="4860" y="15923"/>
                  <a:pt x="4864" y="15931"/>
                  <a:pt x="4887" y="15925"/>
                </a:cubicBezTo>
              </a:path>
              <a:path w="3077" h="2829">
                <a:moveTo>
                  <a:pt x="5283" y="15404"/>
                </a:moveTo>
                <a:cubicBezTo>
                  <a:pt x="5283" y="15243"/>
                  <a:pt x="5328" y="15213"/>
                  <a:pt x="5259" y="15156"/>
                </a:cubicBezTo>
                <a:cubicBezTo>
                  <a:pt x="5169" y="15156"/>
                  <a:pt x="5153" y="15148"/>
                  <a:pt x="5110" y="15230"/>
                </a:cubicBezTo>
                <a:cubicBezTo>
                  <a:pt x="5076" y="15295"/>
                  <a:pt x="5085" y="15357"/>
                  <a:pt x="5085" y="15429"/>
                </a:cubicBezTo>
                <a:cubicBezTo>
                  <a:pt x="5085" y="15488"/>
                  <a:pt x="5099" y="15508"/>
                  <a:pt x="5135" y="15553"/>
                </a:cubicBezTo>
                <a:cubicBezTo>
                  <a:pt x="5204" y="15518"/>
                  <a:pt x="5243" y="15495"/>
                  <a:pt x="5283" y="15429"/>
                </a:cubicBezTo>
                <a:cubicBezTo>
                  <a:pt x="5305" y="15385"/>
                  <a:pt x="5308" y="15373"/>
                  <a:pt x="5333" y="15354"/>
                </a:cubicBezTo>
                <a:cubicBezTo>
                  <a:pt x="5301" y="15480"/>
                  <a:pt x="5322" y="15551"/>
                  <a:pt x="5333" y="15677"/>
                </a:cubicBezTo>
                <a:cubicBezTo>
                  <a:pt x="5344" y="15803"/>
                  <a:pt x="5334" y="15950"/>
                  <a:pt x="5358" y="16073"/>
                </a:cubicBezTo>
                <a:cubicBezTo>
                  <a:pt x="5371" y="16143"/>
                  <a:pt x="5385" y="16158"/>
                  <a:pt x="5432" y="16197"/>
                </a:cubicBezTo>
              </a:path>
              <a:path w="3077" h="2829">
                <a:moveTo>
                  <a:pt x="5879" y="14784"/>
                </a:moveTo>
                <a:cubicBezTo>
                  <a:pt x="5879" y="14989"/>
                  <a:pt x="5900" y="15204"/>
                  <a:pt x="5854" y="15404"/>
                </a:cubicBezTo>
                <a:cubicBezTo>
                  <a:pt x="5846" y="15429"/>
                  <a:pt x="5837" y="15453"/>
                  <a:pt x="5829" y="154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Ink 11"/>
          <p:cNvSpPr/>
          <p:nvPr/>
        </p:nvSpPr>
        <p:spPr>
          <a:xfrm>
            <a:off x="2108160" y="3456000"/>
            <a:ext cx="303120" cy="1089000"/>
          </a:xfrm>
          <a:custGeom>
            <a:avLst/>
            <a:gdLst/>
            <a:ahLst/>
            <a:rect l="l" t="t" r="r" b="b"/>
            <a:pathLst>
              <a:path w="844" h="3028">
                <a:moveTo>
                  <a:pt x="6499" y="11609"/>
                </a:moveTo>
                <a:cubicBezTo>
                  <a:pt x="6487" y="11700"/>
                  <a:pt x="6448" y="11711"/>
                  <a:pt x="6400" y="11782"/>
                </a:cubicBezTo>
                <a:cubicBezTo>
                  <a:pt x="6336" y="11876"/>
                  <a:pt x="6264" y="11960"/>
                  <a:pt x="6201" y="12055"/>
                </a:cubicBezTo>
                <a:cubicBezTo>
                  <a:pt x="6119" y="12178"/>
                  <a:pt x="6039" y="12294"/>
                  <a:pt x="5978" y="12427"/>
                </a:cubicBezTo>
                <a:cubicBezTo>
                  <a:pt x="5945" y="12499"/>
                  <a:pt x="5890" y="12553"/>
                  <a:pt x="5854" y="12626"/>
                </a:cubicBezTo>
                <a:cubicBezTo>
                  <a:pt x="5904" y="12527"/>
                  <a:pt x="5937" y="12461"/>
                  <a:pt x="5978" y="12378"/>
                </a:cubicBezTo>
              </a:path>
              <a:path w="844" h="3028">
                <a:moveTo>
                  <a:pt x="6697" y="10443"/>
                </a:moveTo>
                <a:cubicBezTo>
                  <a:pt x="6647" y="10502"/>
                  <a:pt x="6590" y="10504"/>
                  <a:pt x="6524" y="10567"/>
                </a:cubicBezTo>
                <a:cubicBezTo>
                  <a:pt x="6433" y="10654"/>
                  <a:pt x="6370" y="10759"/>
                  <a:pt x="6300" y="10864"/>
                </a:cubicBezTo>
                <a:cubicBezTo>
                  <a:pt x="6237" y="10959"/>
                  <a:pt x="6169" y="11047"/>
                  <a:pt x="6102" y="11137"/>
                </a:cubicBezTo>
                <a:cubicBezTo>
                  <a:pt x="6044" y="11214"/>
                  <a:pt x="5993" y="11291"/>
                  <a:pt x="5928" y="11361"/>
                </a:cubicBezTo>
                <a:cubicBezTo>
                  <a:pt x="5900" y="11389"/>
                  <a:pt x="5892" y="11392"/>
                  <a:pt x="5904" y="11336"/>
                </a:cubicBezTo>
              </a:path>
              <a:path w="844" h="3028">
                <a:moveTo>
                  <a:pt x="6152" y="9748"/>
                </a:moveTo>
                <a:cubicBezTo>
                  <a:pt x="6273" y="9714"/>
                  <a:pt x="6386" y="9729"/>
                  <a:pt x="6499" y="9699"/>
                </a:cubicBezTo>
                <a:cubicBezTo>
                  <a:pt x="6602" y="9672"/>
                  <a:pt x="6584" y="9697"/>
                  <a:pt x="6573" y="9599"/>
                </a:cubicBezTo>
              </a:path>
              <a:path w="844" h="3028">
                <a:moveTo>
                  <a:pt x="6201" y="9674"/>
                </a:moveTo>
                <a:cubicBezTo>
                  <a:pt x="6149" y="9778"/>
                  <a:pt x="6119" y="9821"/>
                  <a:pt x="6152" y="9897"/>
                </a:cubicBezTo>
                <a:cubicBezTo>
                  <a:pt x="6197" y="10000"/>
                  <a:pt x="6188" y="9996"/>
                  <a:pt x="6300" y="9996"/>
                </a:cubicBezTo>
                <a:cubicBezTo>
                  <a:pt x="6372" y="9996"/>
                  <a:pt x="6423" y="10001"/>
                  <a:pt x="6474" y="10046"/>
                </a:cubicBezTo>
                <a:cubicBezTo>
                  <a:pt x="6597" y="10155"/>
                  <a:pt x="6587" y="10200"/>
                  <a:pt x="6623" y="10344"/>
                </a:cubicBezTo>
                <a:cubicBezTo>
                  <a:pt x="6556" y="10360"/>
                  <a:pt x="6574" y="10413"/>
                  <a:pt x="6499" y="10418"/>
                </a:cubicBezTo>
                <a:cubicBezTo>
                  <a:pt x="6361" y="10427"/>
                  <a:pt x="6236" y="10409"/>
                  <a:pt x="6102" y="104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Ink 12"/>
          <p:cNvSpPr/>
          <p:nvPr/>
        </p:nvSpPr>
        <p:spPr>
          <a:xfrm>
            <a:off x="2178000" y="4813200"/>
            <a:ext cx="1233360" cy="973080"/>
          </a:xfrm>
          <a:custGeom>
            <a:avLst/>
            <a:gdLst/>
            <a:ahLst/>
            <a:rect l="l" t="t" r="r" b="b"/>
            <a:pathLst>
              <a:path w="3424" h="2704">
                <a:moveTo>
                  <a:pt x="6052" y="14039"/>
                </a:moveTo>
                <a:cubicBezTo>
                  <a:pt x="6108" y="14012"/>
                  <a:pt x="6183" y="13994"/>
                  <a:pt x="6251" y="13990"/>
                </a:cubicBezTo>
                <a:cubicBezTo>
                  <a:pt x="6302" y="13990"/>
                  <a:pt x="6321" y="13989"/>
                  <a:pt x="6350" y="13965"/>
                </a:cubicBezTo>
              </a:path>
              <a:path w="3424" h="2704">
                <a:moveTo>
                  <a:pt x="6648" y="13643"/>
                </a:moveTo>
                <a:cubicBezTo>
                  <a:pt x="6727" y="13657"/>
                  <a:pt x="6837" y="13685"/>
                  <a:pt x="6921" y="13667"/>
                </a:cubicBezTo>
                <a:cubicBezTo>
                  <a:pt x="6946" y="13659"/>
                  <a:pt x="6970" y="13651"/>
                  <a:pt x="6995" y="13643"/>
                </a:cubicBezTo>
              </a:path>
              <a:path w="3424" h="2704">
                <a:moveTo>
                  <a:pt x="6772" y="13593"/>
                </a:moveTo>
                <a:cubicBezTo>
                  <a:pt x="6659" y="13628"/>
                  <a:pt x="6655" y="13649"/>
                  <a:pt x="6573" y="13717"/>
                </a:cubicBezTo>
                <a:cubicBezTo>
                  <a:pt x="6521" y="13760"/>
                  <a:pt x="6507" y="13815"/>
                  <a:pt x="6548" y="13866"/>
                </a:cubicBezTo>
                <a:cubicBezTo>
                  <a:pt x="6574" y="13899"/>
                  <a:pt x="6683" y="13908"/>
                  <a:pt x="6722" y="13915"/>
                </a:cubicBezTo>
                <a:cubicBezTo>
                  <a:pt x="6799" y="13930"/>
                  <a:pt x="6889" y="13982"/>
                  <a:pt x="6921" y="14064"/>
                </a:cubicBezTo>
                <a:cubicBezTo>
                  <a:pt x="6949" y="14135"/>
                  <a:pt x="6945" y="14234"/>
                  <a:pt x="6945" y="14312"/>
                </a:cubicBezTo>
                <a:cubicBezTo>
                  <a:pt x="6945" y="14379"/>
                  <a:pt x="6932" y="14447"/>
                  <a:pt x="6871" y="14486"/>
                </a:cubicBezTo>
                <a:cubicBezTo>
                  <a:pt x="6794" y="14536"/>
                  <a:pt x="6725" y="14494"/>
                  <a:pt x="6648" y="14461"/>
                </a:cubicBezTo>
                <a:cubicBezTo>
                  <a:pt x="6566" y="14426"/>
                  <a:pt x="6515" y="14324"/>
                  <a:pt x="6499" y="14238"/>
                </a:cubicBezTo>
                <a:cubicBezTo>
                  <a:pt x="6499" y="14221"/>
                  <a:pt x="6499" y="14205"/>
                  <a:pt x="6499" y="14188"/>
                </a:cubicBezTo>
              </a:path>
              <a:path w="3424" h="2704">
                <a:moveTo>
                  <a:pt x="7193" y="13940"/>
                </a:moveTo>
                <a:cubicBezTo>
                  <a:pt x="7212" y="14108"/>
                  <a:pt x="7260" y="14292"/>
                  <a:pt x="7268" y="14461"/>
                </a:cubicBezTo>
                <a:cubicBezTo>
                  <a:pt x="7268" y="14478"/>
                  <a:pt x="7268" y="14494"/>
                  <a:pt x="7268" y="14511"/>
                </a:cubicBezTo>
                <a:cubicBezTo>
                  <a:pt x="7258" y="14430"/>
                  <a:pt x="7256" y="14346"/>
                  <a:pt x="7243" y="14263"/>
                </a:cubicBezTo>
                <a:cubicBezTo>
                  <a:pt x="7221" y="14122"/>
                  <a:pt x="7237" y="13981"/>
                  <a:pt x="7218" y="13841"/>
                </a:cubicBezTo>
                <a:cubicBezTo>
                  <a:pt x="7202" y="13722"/>
                  <a:pt x="7193" y="13616"/>
                  <a:pt x="7193" y="13494"/>
                </a:cubicBezTo>
                <a:cubicBezTo>
                  <a:pt x="7193" y="13419"/>
                  <a:pt x="7222" y="13399"/>
                  <a:pt x="7293" y="13395"/>
                </a:cubicBezTo>
                <a:cubicBezTo>
                  <a:pt x="7392" y="13389"/>
                  <a:pt x="7496" y="13443"/>
                  <a:pt x="7590" y="13469"/>
                </a:cubicBezTo>
                <a:cubicBezTo>
                  <a:pt x="7685" y="13495"/>
                  <a:pt x="7767" y="13494"/>
                  <a:pt x="7863" y="13494"/>
                </a:cubicBezTo>
              </a:path>
              <a:path w="3424" h="2704">
                <a:moveTo>
                  <a:pt x="7466" y="13667"/>
                </a:moveTo>
                <a:cubicBezTo>
                  <a:pt x="7525" y="13690"/>
                  <a:pt x="7539" y="13660"/>
                  <a:pt x="7590" y="13618"/>
                </a:cubicBezTo>
                <a:cubicBezTo>
                  <a:pt x="7647" y="13571"/>
                  <a:pt x="7677" y="13597"/>
                  <a:pt x="7739" y="13618"/>
                </a:cubicBezTo>
                <a:cubicBezTo>
                  <a:pt x="7739" y="13701"/>
                  <a:pt x="7739" y="13761"/>
                  <a:pt x="7714" y="13841"/>
                </a:cubicBezTo>
                <a:cubicBezTo>
                  <a:pt x="7675" y="13968"/>
                  <a:pt x="7633" y="14029"/>
                  <a:pt x="7565" y="14139"/>
                </a:cubicBezTo>
                <a:cubicBezTo>
                  <a:pt x="7525" y="14203"/>
                  <a:pt x="7475" y="14216"/>
                  <a:pt x="7417" y="14263"/>
                </a:cubicBezTo>
                <a:cubicBezTo>
                  <a:pt x="7322" y="14181"/>
                  <a:pt x="7353" y="14151"/>
                  <a:pt x="7367" y="14039"/>
                </a:cubicBezTo>
                <a:cubicBezTo>
                  <a:pt x="7378" y="13950"/>
                  <a:pt x="7377" y="13907"/>
                  <a:pt x="7441" y="13841"/>
                </a:cubicBezTo>
                <a:cubicBezTo>
                  <a:pt x="7501" y="13901"/>
                  <a:pt x="7501" y="13966"/>
                  <a:pt x="7541" y="14039"/>
                </a:cubicBezTo>
                <a:cubicBezTo>
                  <a:pt x="7581" y="14111"/>
                  <a:pt x="7603" y="14209"/>
                  <a:pt x="7689" y="14238"/>
                </a:cubicBezTo>
                <a:cubicBezTo>
                  <a:pt x="7697" y="14238"/>
                  <a:pt x="7706" y="14238"/>
                  <a:pt x="7714" y="14238"/>
                </a:cubicBezTo>
              </a:path>
              <a:path w="3424" h="2704">
                <a:moveTo>
                  <a:pt x="8136" y="13841"/>
                </a:moveTo>
                <a:cubicBezTo>
                  <a:pt x="8136" y="13763"/>
                  <a:pt x="8151" y="13745"/>
                  <a:pt x="8111" y="13717"/>
                </a:cubicBezTo>
                <a:cubicBezTo>
                  <a:pt x="8054" y="13717"/>
                  <a:pt x="7958" y="13697"/>
                  <a:pt x="7913" y="13742"/>
                </a:cubicBezTo>
                <a:cubicBezTo>
                  <a:pt x="7852" y="13803"/>
                  <a:pt x="7855" y="13903"/>
                  <a:pt x="7888" y="13965"/>
                </a:cubicBezTo>
                <a:cubicBezTo>
                  <a:pt x="7943" y="14067"/>
                  <a:pt x="7980" y="14031"/>
                  <a:pt x="8062" y="13965"/>
                </a:cubicBezTo>
                <a:cubicBezTo>
                  <a:pt x="8091" y="13935"/>
                  <a:pt x="8102" y="13921"/>
                  <a:pt x="8111" y="13891"/>
                </a:cubicBezTo>
                <a:cubicBezTo>
                  <a:pt x="8119" y="13883"/>
                  <a:pt x="8128" y="13874"/>
                  <a:pt x="8136" y="13866"/>
                </a:cubicBezTo>
                <a:cubicBezTo>
                  <a:pt x="8124" y="13961"/>
                  <a:pt x="8125" y="13993"/>
                  <a:pt x="8136" y="14089"/>
                </a:cubicBezTo>
                <a:cubicBezTo>
                  <a:pt x="8147" y="14182"/>
                  <a:pt x="8138" y="14272"/>
                  <a:pt x="8161" y="14362"/>
                </a:cubicBezTo>
                <a:cubicBezTo>
                  <a:pt x="8180" y="14419"/>
                  <a:pt x="8171" y="14444"/>
                  <a:pt x="8210" y="14436"/>
                </a:cubicBezTo>
              </a:path>
              <a:path w="3424" h="2704">
                <a:moveTo>
                  <a:pt x="8558" y="14461"/>
                </a:moveTo>
                <a:cubicBezTo>
                  <a:pt x="8342" y="14461"/>
                  <a:pt x="8125" y="14448"/>
                  <a:pt x="7913" y="14486"/>
                </a:cubicBezTo>
                <a:cubicBezTo>
                  <a:pt x="7727" y="14519"/>
                  <a:pt x="7567" y="14565"/>
                  <a:pt x="7392" y="14635"/>
                </a:cubicBezTo>
                <a:cubicBezTo>
                  <a:pt x="7212" y="14707"/>
                  <a:pt x="7052" y="14815"/>
                  <a:pt x="6871" y="14883"/>
                </a:cubicBezTo>
                <a:cubicBezTo>
                  <a:pt x="6745" y="14931"/>
                  <a:pt x="6622" y="14977"/>
                  <a:pt x="6499" y="15032"/>
                </a:cubicBezTo>
                <a:cubicBezTo>
                  <a:pt x="6474" y="15056"/>
                  <a:pt x="6466" y="15064"/>
                  <a:pt x="6499" y="15032"/>
                </a:cubicBezTo>
              </a:path>
              <a:path w="3424" h="2704">
                <a:moveTo>
                  <a:pt x="7565" y="15032"/>
                </a:moveTo>
                <a:cubicBezTo>
                  <a:pt x="7707" y="15039"/>
                  <a:pt x="7750" y="15012"/>
                  <a:pt x="7813" y="15131"/>
                </a:cubicBezTo>
                <a:cubicBezTo>
                  <a:pt x="7857" y="15214"/>
                  <a:pt x="7832" y="15299"/>
                  <a:pt x="7789" y="15379"/>
                </a:cubicBezTo>
                <a:cubicBezTo>
                  <a:pt x="7741" y="15468"/>
                  <a:pt x="7645" y="15567"/>
                  <a:pt x="7565" y="15627"/>
                </a:cubicBezTo>
                <a:cubicBezTo>
                  <a:pt x="7505" y="15671"/>
                  <a:pt x="7406" y="15711"/>
                  <a:pt x="7342" y="15677"/>
                </a:cubicBezTo>
                <a:cubicBezTo>
                  <a:pt x="7317" y="15652"/>
                  <a:pt x="7309" y="15644"/>
                  <a:pt x="7293" y="15627"/>
                </a:cubicBezTo>
                <a:cubicBezTo>
                  <a:pt x="7350" y="15521"/>
                  <a:pt x="7363" y="15462"/>
                  <a:pt x="7466" y="15553"/>
                </a:cubicBezTo>
                <a:cubicBezTo>
                  <a:pt x="7575" y="15650"/>
                  <a:pt x="7585" y="15800"/>
                  <a:pt x="7714" y="15900"/>
                </a:cubicBezTo>
                <a:cubicBezTo>
                  <a:pt x="7731" y="15900"/>
                  <a:pt x="7747" y="15900"/>
                  <a:pt x="7764" y="15900"/>
                </a:cubicBezTo>
              </a:path>
              <a:path w="3424" h="2704">
                <a:moveTo>
                  <a:pt x="8235" y="15180"/>
                </a:moveTo>
                <a:cubicBezTo>
                  <a:pt x="8218" y="15156"/>
                  <a:pt x="8113" y="14940"/>
                  <a:pt x="8037" y="15056"/>
                </a:cubicBezTo>
                <a:cubicBezTo>
                  <a:pt x="7973" y="15153"/>
                  <a:pt x="7979" y="15249"/>
                  <a:pt x="8012" y="15354"/>
                </a:cubicBezTo>
                <a:cubicBezTo>
                  <a:pt x="8027" y="15403"/>
                  <a:pt x="8076" y="15472"/>
                  <a:pt x="8136" y="15453"/>
                </a:cubicBezTo>
                <a:cubicBezTo>
                  <a:pt x="8187" y="15437"/>
                  <a:pt x="8237" y="15345"/>
                  <a:pt x="8260" y="15304"/>
                </a:cubicBezTo>
                <a:cubicBezTo>
                  <a:pt x="8290" y="15250"/>
                  <a:pt x="8285" y="15216"/>
                  <a:pt x="8285" y="15156"/>
                </a:cubicBezTo>
                <a:cubicBezTo>
                  <a:pt x="8250" y="15260"/>
                  <a:pt x="8269" y="15368"/>
                  <a:pt x="8285" y="15478"/>
                </a:cubicBezTo>
                <a:cubicBezTo>
                  <a:pt x="8308" y="15633"/>
                  <a:pt x="8321" y="15799"/>
                  <a:pt x="8359" y="15949"/>
                </a:cubicBezTo>
                <a:cubicBezTo>
                  <a:pt x="8381" y="16016"/>
                  <a:pt x="8386" y="16034"/>
                  <a:pt x="8409" y="16073"/>
                </a:cubicBezTo>
              </a:path>
              <a:path w="3424" h="2704">
                <a:moveTo>
                  <a:pt x="8558" y="13494"/>
                </a:moveTo>
                <a:cubicBezTo>
                  <a:pt x="8558" y="13453"/>
                  <a:pt x="8558" y="13411"/>
                  <a:pt x="8558" y="13370"/>
                </a:cubicBezTo>
                <a:cubicBezTo>
                  <a:pt x="8670" y="13451"/>
                  <a:pt x="8737" y="13542"/>
                  <a:pt x="8830" y="13643"/>
                </a:cubicBezTo>
                <a:cubicBezTo>
                  <a:pt x="8945" y="13769"/>
                  <a:pt x="9057" y="13922"/>
                  <a:pt x="9178" y="14039"/>
                </a:cubicBezTo>
                <a:cubicBezTo>
                  <a:pt x="9246" y="14104"/>
                  <a:pt x="9340" y="14200"/>
                  <a:pt x="9426" y="14238"/>
                </a:cubicBezTo>
                <a:cubicBezTo>
                  <a:pt x="9442" y="14238"/>
                  <a:pt x="9459" y="14238"/>
                  <a:pt x="9475" y="14238"/>
                </a:cubicBezTo>
                <a:cubicBezTo>
                  <a:pt x="9427" y="14314"/>
                  <a:pt x="9395" y="14367"/>
                  <a:pt x="9376" y="14461"/>
                </a:cubicBezTo>
                <a:cubicBezTo>
                  <a:pt x="9316" y="14751"/>
                  <a:pt x="9222" y="15023"/>
                  <a:pt x="9128" y="15304"/>
                </a:cubicBezTo>
                <a:cubicBezTo>
                  <a:pt x="9027" y="15608"/>
                  <a:pt x="8991" y="15713"/>
                  <a:pt x="8880" y="159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Ink 13"/>
          <p:cNvSpPr/>
          <p:nvPr/>
        </p:nvSpPr>
        <p:spPr>
          <a:xfrm>
            <a:off x="6473880" y="1330200"/>
            <a:ext cx="223920" cy="258840"/>
          </a:xfrm>
          <a:custGeom>
            <a:avLst/>
            <a:gdLst/>
            <a:ahLst/>
            <a:rect l="l" t="t" r="r" b="b"/>
            <a:pathLst>
              <a:path w="622" h="720">
                <a:moveTo>
                  <a:pt x="18331" y="3696"/>
                </a:moveTo>
                <a:cubicBezTo>
                  <a:pt x="18323" y="3797"/>
                  <a:pt x="18293" y="3911"/>
                  <a:pt x="18231" y="3994"/>
                </a:cubicBezTo>
                <a:cubicBezTo>
                  <a:pt x="18165" y="4083"/>
                  <a:pt x="18098" y="4175"/>
                  <a:pt x="18033" y="4266"/>
                </a:cubicBezTo>
                <a:cubicBezTo>
                  <a:pt x="18003" y="4308"/>
                  <a:pt x="17942" y="4340"/>
                  <a:pt x="18008" y="4390"/>
                </a:cubicBezTo>
                <a:cubicBezTo>
                  <a:pt x="18072" y="4439"/>
                  <a:pt x="18211" y="4404"/>
                  <a:pt x="18281" y="4390"/>
                </a:cubicBezTo>
                <a:cubicBezTo>
                  <a:pt x="18399" y="4366"/>
                  <a:pt x="18496" y="4311"/>
                  <a:pt x="18604" y="42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Ink 14"/>
          <p:cNvSpPr/>
          <p:nvPr/>
        </p:nvSpPr>
        <p:spPr>
          <a:xfrm>
            <a:off x="6653160" y="1295280"/>
            <a:ext cx="61920" cy="446040"/>
          </a:xfrm>
          <a:custGeom>
            <a:avLst/>
            <a:gdLst/>
            <a:ahLst/>
            <a:rect l="l" t="t" r="r" b="b"/>
            <a:pathLst>
              <a:path w="175" h="1241">
                <a:moveTo>
                  <a:pt x="18653" y="3597"/>
                </a:moveTo>
                <a:cubicBezTo>
                  <a:pt x="18575" y="3698"/>
                  <a:pt x="18556" y="3791"/>
                  <a:pt x="18529" y="3919"/>
                </a:cubicBezTo>
                <a:cubicBezTo>
                  <a:pt x="18495" y="4080"/>
                  <a:pt x="18482" y="4251"/>
                  <a:pt x="18479" y="4415"/>
                </a:cubicBezTo>
                <a:cubicBezTo>
                  <a:pt x="18477" y="4559"/>
                  <a:pt x="18360" y="4837"/>
                  <a:pt x="18504" y="4837"/>
                </a:cubicBezTo>
                <a:cubicBezTo>
                  <a:pt x="18504" y="4829"/>
                  <a:pt x="18504" y="4820"/>
                  <a:pt x="18504" y="48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Ink 15"/>
          <p:cNvSpPr/>
          <p:nvPr/>
        </p:nvSpPr>
        <p:spPr>
          <a:xfrm>
            <a:off x="6786720" y="1393920"/>
            <a:ext cx="187200" cy="357120"/>
          </a:xfrm>
          <a:custGeom>
            <a:avLst/>
            <a:gdLst/>
            <a:ahLst/>
            <a:rect l="l" t="t" r="r" b="b"/>
            <a:pathLst>
              <a:path w="521" h="993">
                <a:moveTo>
                  <a:pt x="18951" y="3870"/>
                </a:moveTo>
                <a:cubicBezTo>
                  <a:pt x="18914" y="4067"/>
                  <a:pt x="18865" y="4265"/>
                  <a:pt x="18852" y="4465"/>
                </a:cubicBezTo>
                <a:cubicBezTo>
                  <a:pt x="18846" y="4557"/>
                  <a:pt x="18825" y="4736"/>
                  <a:pt x="18901" y="4812"/>
                </a:cubicBezTo>
                <a:cubicBezTo>
                  <a:pt x="18952" y="4863"/>
                  <a:pt x="19058" y="4875"/>
                  <a:pt x="19124" y="4862"/>
                </a:cubicBezTo>
                <a:cubicBezTo>
                  <a:pt x="19228" y="4842"/>
                  <a:pt x="19281" y="4771"/>
                  <a:pt x="19323" y="4688"/>
                </a:cubicBezTo>
                <a:cubicBezTo>
                  <a:pt x="19352" y="4631"/>
                  <a:pt x="19397" y="4558"/>
                  <a:pt x="19372" y="4490"/>
                </a:cubicBezTo>
                <a:cubicBezTo>
                  <a:pt x="19364" y="4482"/>
                  <a:pt x="19356" y="4473"/>
                  <a:pt x="19348" y="4465"/>
                </a:cubicBezTo>
                <a:cubicBezTo>
                  <a:pt x="19288" y="4499"/>
                  <a:pt x="19232" y="4552"/>
                  <a:pt x="19199" y="4614"/>
                </a:cubicBezTo>
                <a:cubicBezTo>
                  <a:pt x="19173" y="4664"/>
                  <a:pt x="19130" y="4753"/>
                  <a:pt x="19149" y="47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Ink 16"/>
          <p:cNvSpPr/>
          <p:nvPr/>
        </p:nvSpPr>
        <p:spPr>
          <a:xfrm>
            <a:off x="7010280" y="1384200"/>
            <a:ext cx="125640" cy="142920"/>
          </a:xfrm>
          <a:custGeom>
            <a:avLst/>
            <a:gdLst/>
            <a:ahLst/>
            <a:rect l="l" t="t" r="r" b="b"/>
            <a:pathLst>
              <a:path w="348" h="398">
                <a:moveTo>
                  <a:pt x="19472" y="3845"/>
                </a:moveTo>
                <a:cubicBezTo>
                  <a:pt x="19482" y="3938"/>
                  <a:pt x="19496" y="4022"/>
                  <a:pt x="19496" y="4118"/>
                </a:cubicBezTo>
                <a:cubicBezTo>
                  <a:pt x="19496" y="4210"/>
                  <a:pt x="19547" y="4258"/>
                  <a:pt x="19645" y="4242"/>
                </a:cubicBezTo>
                <a:cubicBezTo>
                  <a:pt x="19706" y="4232"/>
                  <a:pt x="19764" y="4195"/>
                  <a:pt x="19819" y="41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17"/>
          <p:cNvSpPr/>
          <p:nvPr/>
        </p:nvSpPr>
        <p:spPr>
          <a:xfrm>
            <a:off x="7126200" y="1276200"/>
            <a:ext cx="44640" cy="455760"/>
          </a:xfrm>
          <a:custGeom>
            <a:avLst/>
            <a:gdLst/>
            <a:ahLst/>
            <a:rect l="l" t="t" r="r" b="b"/>
            <a:pathLst>
              <a:path w="125" h="1266">
                <a:moveTo>
                  <a:pt x="19918" y="3547"/>
                </a:moveTo>
                <a:cubicBezTo>
                  <a:pt x="19909" y="3688"/>
                  <a:pt x="19886" y="3829"/>
                  <a:pt x="19869" y="3969"/>
                </a:cubicBezTo>
                <a:cubicBezTo>
                  <a:pt x="19847" y="4147"/>
                  <a:pt x="19799" y="4311"/>
                  <a:pt x="19794" y="4490"/>
                </a:cubicBezTo>
                <a:cubicBezTo>
                  <a:pt x="19791" y="4597"/>
                  <a:pt x="19794" y="4705"/>
                  <a:pt x="19794" y="48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18"/>
          <p:cNvSpPr/>
          <p:nvPr/>
        </p:nvSpPr>
        <p:spPr>
          <a:xfrm>
            <a:off x="6599160" y="1830240"/>
            <a:ext cx="347760" cy="598680"/>
          </a:xfrm>
          <a:custGeom>
            <a:avLst/>
            <a:gdLst/>
            <a:ahLst/>
            <a:rect l="l" t="t" r="r" b="b"/>
            <a:pathLst>
              <a:path w="968" h="1663">
                <a:moveTo>
                  <a:pt x="19298" y="5085"/>
                </a:moveTo>
                <a:cubicBezTo>
                  <a:pt x="19193" y="5115"/>
                  <a:pt x="19187" y="5235"/>
                  <a:pt x="19124" y="5333"/>
                </a:cubicBezTo>
                <a:cubicBezTo>
                  <a:pt x="19021" y="5494"/>
                  <a:pt x="18919" y="5660"/>
                  <a:pt x="18827" y="5829"/>
                </a:cubicBezTo>
                <a:cubicBezTo>
                  <a:pt x="18726" y="6016"/>
                  <a:pt x="18618" y="6207"/>
                  <a:pt x="18529" y="6400"/>
                </a:cubicBezTo>
                <a:cubicBezTo>
                  <a:pt x="18474" y="6519"/>
                  <a:pt x="18433" y="6618"/>
                  <a:pt x="18355" y="6722"/>
                </a:cubicBezTo>
                <a:cubicBezTo>
                  <a:pt x="18347" y="6730"/>
                  <a:pt x="18339" y="6739"/>
                  <a:pt x="18331" y="67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Ink 19"/>
          <p:cNvSpPr/>
          <p:nvPr/>
        </p:nvSpPr>
        <p:spPr>
          <a:xfrm>
            <a:off x="6929280" y="1857240"/>
            <a:ext cx="455760" cy="527040"/>
          </a:xfrm>
          <a:custGeom>
            <a:avLst/>
            <a:gdLst/>
            <a:ahLst/>
            <a:rect l="l" t="t" r="r" b="b"/>
            <a:pathLst>
              <a:path w="1266" h="1465">
                <a:moveTo>
                  <a:pt x="19248" y="5159"/>
                </a:moveTo>
                <a:cubicBezTo>
                  <a:pt x="19299" y="5225"/>
                  <a:pt x="19321" y="5275"/>
                  <a:pt x="19348" y="5358"/>
                </a:cubicBezTo>
                <a:cubicBezTo>
                  <a:pt x="19404" y="5528"/>
                  <a:pt x="19504" y="5718"/>
                  <a:pt x="19621" y="5854"/>
                </a:cubicBezTo>
                <a:cubicBezTo>
                  <a:pt x="19746" y="5999"/>
                  <a:pt x="19895" y="6131"/>
                  <a:pt x="20042" y="6251"/>
                </a:cubicBezTo>
                <a:cubicBezTo>
                  <a:pt x="20197" y="6378"/>
                  <a:pt x="20358" y="6496"/>
                  <a:pt x="20513" y="66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Ink 20"/>
          <p:cNvSpPr/>
          <p:nvPr/>
        </p:nvSpPr>
        <p:spPr>
          <a:xfrm>
            <a:off x="6384960" y="2500200"/>
            <a:ext cx="152280" cy="179640"/>
          </a:xfrm>
          <a:custGeom>
            <a:avLst/>
            <a:gdLst/>
            <a:ahLst/>
            <a:rect l="l" t="t" r="r" b="b"/>
            <a:pathLst>
              <a:path w="423" h="497">
                <a:moveTo>
                  <a:pt x="17934" y="6945"/>
                </a:moveTo>
                <a:cubicBezTo>
                  <a:pt x="17924" y="7014"/>
                  <a:pt x="17891" y="7075"/>
                  <a:pt x="17859" y="7144"/>
                </a:cubicBezTo>
                <a:cubicBezTo>
                  <a:pt x="17828" y="7211"/>
                  <a:pt x="17753" y="7301"/>
                  <a:pt x="17735" y="7367"/>
                </a:cubicBezTo>
                <a:cubicBezTo>
                  <a:pt x="17710" y="7462"/>
                  <a:pt x="17851" y="7453"/>
                  <a:pt x="17909" y="7441"/>
                </a:cubicBezTo>
                <a:cubicBezTo>
                  <a:pt x="17996" y="7423"/>
                  <a:pt x="18075" y="7404"/>
                  <a:pt x="18157" y="73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Ink 21"/>
          <p:cNvSpPr/>
          <p:nvPr/>
        </p:nvSpPr>
        <p:spPr>
          <a:xfrm>
            <a:off x="6510240" y="2509920"/>
            <a:ext cx="54000" cy="320760"/>
          </a:xfrm>
          <a:custGeom>
            <a:avLst/>
            <a:gdLst/>
            <a:ahLst/>
            <a:rect l="l" t="t" r="r" b="b"/>
            <a:pathLst>
              <a:path w="149" h="894">
                <a:moveTo>
                  <a:pt x="18231" y="6970"/>
                </a:moveTo>
                <a:cubicBezTo>
                  <a:pt x="18155" y="7207"/>
                  <a:pt x="18136" y="7351"/>
                  <a:pt x="18107" y="7590"/>
                </a:cubicBezTo>
                <a:cubicBezTo>
                  <a:pt x="18092" y="7715"/>
                  <a:pt x="18076" y="7750"/>
                  <a:pt x="18132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Ink 22"/>
          <p:cNvSpPr/>
          <p:nvPr/>
        </p:nvSpPr>
        <p:spPr>
          <a:xfrm>
            <a:off x="7269120" y="2517840"/>
            <a:ext cx="34920" cy="357120"/>
          </a:xfrm>
          <a:custGeom>
            <a:avLst/>
            <a:gdLst/>
            <a:ahLst/>
            <a:rect l="l" t="t" r="r" b="b"/>
            <a:pathLst>
              <a:path w="100" h="993">
                <a:moveTo>
                  <a:pt x="20290" y="6995"/>
                </a:moveTo>
                <a:cubicBezTo>
                  <a:pt x="20290" y="7129"/>
                  <a:pt x="20270" y="7236"/>
                  <a:pt x="20241" y="7367"/>
                </a:cubicBezTo>
                <a:cubicBezTo>
                  <a:pt x="20214" y="7489"/>
                  <a:pt x="20207" y="7618"/>
                  <a:pt x="20191" y="7739"/>
                </a:cubicBezTo>
                <a:cubicBezTo>
                  <a:pt x="20182" y="7809"/>
                  <a:pt x="20173" y="7959"/>
                  <a:pt x="20216" y="79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23"/>
          <p:cNvSpPr/>
          <p:nvPr/>
        </p:nvSpPr>
        <p:spPr>
          <a:xfrm>
            <a:off x="7491240" y="2536920"/>
            <a:ext cx="46080" cy="338040"/>
          </a:xfrm>
          <a:custGeom>
            <a:avLst/>
            <a:gdLst/>
            <a:ahLst/>
            <a:rect l="l" t="t" r="r" b="b"/>
            <a:pathLst>
              <a:path w="125" h="943">
                <a:moveTo>
                  <a:pt x="20935" y="7045"/>
                </a:moveTo>
                <a:cubicBezTo>
                  <a:pt x="20935" y="7135"/>
                  <a:pt x="20925" y="7229"/>
                  <a:pt x="20910" y="7317"/>
                </a:cubicBezTo>
                <a:cubicBezTo>
                  <a:pt x="20889" y="7442"/>
                  <a:pt x="20852" y="7565"/>
                  <a:pt x="20836" y="7689"/>
                </a:cubicBezTo>
                <a:cubicBezTo>
                  <a:pt x="20826" y="7764"/>
                  <a:pt x="20815" y="7840"/>
                  <a:pt x="20811" y="7913"/>
                </a:cubicBezTo>
                <a:cubicBezTo>
                  <a:pt x="20811" y="7954"/>
                  <a:pt x="20811" y="7962"/>
                  <a:pt x="20811" y="79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24"/>
          <p:cNvSpPr/>
          <p:nvPr/>
        </p:nvSpPr>
        <p:spPr>
          <a:xfrm>
            <a:off x="7634160" y="2517840"/>
            <a:ext cx="189000" cy="393480"/>
          </a:xfrm>
          <a:custGeom>
            <a:avLst/>
            <a:gdLst/>
            <a:ahLst/>
            <a:rect l="l" t="t" r="r" b="b"/>
            <a:pathLst>
              <a:path w="522" h="1092">
                <a:moveTo>
                  <a:pt x="21307" y="6995"/>
                </a:moveTo>
                <a:cubicBezTo>
                  <a:pt x="21307" y="7109"/>
                  <a:pt x="21288" y="7184"/>
                  <a:pt x="21258" y="7293"/>
                </a:cubicBezTo>
                <a:cubicBezTo>
                  <a:pt x="21227" y="7404"/>
                  <a:pt x="21213" y="7526"/>
                  <a:pt x="21208" y="7640"/>
                </a:cubicBezTo>
                <a:cubicBezTo>
                  <a:pt x="21203" y="7738"/>
                  <a:pt x="21253" y="7796"/>
                  <a:pt x="21332" y="7838"/>
                </a:cubicBezTo>
                <a:cubicBezTo>
                  <a:pt x="21402" y="7875"/>
                  <a:pt x="21473" y="7910"/>
                  <a:pt x="21555" y="7888"/>
                </a:cubicBezTo>
                <a:cubicBezTo>
                  <a:pt x="21612" y="7873"/>
                  <a:pt x="21676" y="7787"/>
                  <a:pt x="21704" y="7739"/>
                </a:cubicBezTo>
                <a:cubicBezTo>
                  <a:pt x="21751" y="7659"/>
                  <a:pt x="21729" y="7656"/>
                  <a:pt x="21679" y="7590"/>
                </a:cubicBezTo>
                <a:cubicBezTo>
                  <a:pt x="21618" y="7639"/>
                  <a:pt x="21534" y="7681"/>
                  <a:pt x="21481" y="7739"/>
                </a:cubicBezTo>
                <a:cubicBezTo>
                  <a:pt x="21423" y="7802"/>
                  <a:pt x="21358" y="7896"/>
                  <a:pt x="21382" y="7987"/>
                </a:cubicBezTo>
                <a:cubicBezTo>
                  <a:pt x="21406" y="8037"/>
                  <a:pt x="21414" y="8053"/>
                  <a:pt x="21431" y="80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d293"/>
                </a:solidFill>
                <a:latin typeface="Arial"/>
              </a:rPr>
              <a:t>Lesson 6.3</a:t>
            </a:r>
            <a:br>
              <a:rPr sz="8500"/>
            </a:br>
            <a:r>
              <a:rPr b="0" lang="en-US" sz="8500" spc="-1" strike="noStrike">
                <a:solidFill>
                  <a:srgbClr val="dfd293"/>
                </a:solidFill>
                <a:latin typeface="Arial"/>
              </a:rPr>
              <a:t>part three</a:t>
            </a:r>
            <a:endParaRPr b="0" lang="en-US" sz="85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fd293"/>
                </a:solidFill>
                <a:latin typeface="Arial"/>
              </a:rPr>
              <a:t>Unit vectors </a:t>
            </a:r>
            <a:r>
              <a:rPr b="1" lang="en-US" sz="75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0" lang="en-US" sz="7500" spc="-1" strike="noStrike">
                <a:solidFill>
                  <a:srgbClr val="dfd293"/>
                </a:solidFill>
                <a:latin typeface="Arial"/>
              </a:rPr>
              <a:t> and</a:t>
            </a:r>
            <a:r>
              <a:rPr b="1" lang="en-US" sz="7500" spc="-1" strike="noStrike">
                <a:solidFill>
                  <a:srgbClr val="dfd293"/>
                </a:solidFill>
                <a:latin typeface="Arial"/>
              </a:rPr>
              <a:t> j</a:t>
            </a:r>
            <a:endParaRPr b="0" lang="en-US" sz="75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here are two unit vectors              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= &lt;1, 0&gt; and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= &lt;0, 1&gt; which represent the horizontal and vertical component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" name="Ink 5"/>
          <p:cNvSpPr/>
          <p:nvPr/>
        </p:nvSpPr>
        <p:spPr>
          <a:xfrm>
            <a:off x="768240" y="3911760"/>
            <a:ext cx="561960" cy="536400"/>
          </a:xfrm>
          <a:custGeom>
            <a:avLst/>
            <a:gdLst/>
            <a:ahLst/>
            <a:rect l="l" t="t" r="r" b="b"/>
            <a:pathLst>
              <a:path w="1564" h="1490">
                <a:moveTo>
                  <a:pt x="2133" y="11212"/>
                </a:moveTo>
                <a:cubicBezTo>
                  <a:pt x="2188" y="11179"/>
                  <a:pt x="2239" y="11187"/>
                  <a:pt x="2307" y="11187"/>
                </a:cubicBezTo>
                <a:cubicBezTo>
                  <a:pt x="2419" y="11187"/>
                  <a:pt x="2567" y="11191"/>
                  <a:pt x="2679" y="11212"/>
                </a:cubicBezTo>
                <a:cubicBezTo>
                  <a:pt x="2790" y="11233"/>
                  <a:pt x="2912" y="11254"/>
                  <a:pt x="3026" y="11261"/>
                </a:cubicBezTo>
                <a:cubicBezTo>
                  <a:pt x="3129" y="11268"/>
                  <a:pt x="3271" y="11259"/>
                  <a:pt x="3373" y="11286"/>
                </a:cubicBezTo>
                <a:cubicBezTo>
                  <a:pt x="3390" y="11291"/>
                  <a:pt x="3548" y="11353"/>
                  <a:pt x="3547" y="11286"/>
                </a:cubicBezTo>
                <a:cubicBezTo>
                  <a:pt x="3539" y="11286"/>
                  <a:pt x="3530" y="11286"/>
                  <a:pt x="3522" y="11286"/>
                </a:cubicBezTo>
              </a:path>
              <a:path w="1564" h="1490">
                <a:moveTo>
                  <a:pt x="3200" y="10864"/>
                </a:moveTo>
                <a:cubicBezTo>
                  <a:pt x="3249" y="10914"/>
                  <a:pt x="3295" y="10947"/>
                  <a:pt x="3349" y="10988"/>
                </a:cubicBezTo>
                <a:cubicBezTo>
                  <a:pt x="3403" y="11028"/>
                  <a:pt x="3466" y="11050"/>
                  <a:pt x="3522" y="11088"/>
                </a:cubicBezTo>
                <a:cubicBezTo>
                  <a:pt x="3551" y="11108"/>
                  <a:pt x="3633" y="11190"/>
                  <a:pt x="3671" y="11187"/>
                </a:cubicBezTo>
                <a:cubicBezTo>
                  <a:pt x="3679" y="11179"/>
                  <a:pt x="3688" y="11170"/>
                  <a:pt x="3696" y="11162"/>
                </a:cubicBezTo>
                <a:cubicBezTo>
                  <a:pt x="3656" y="11194"/>
                  <a:pt x="3601" y="11216"/>
                  <a:pt x="3572" y="11261"/>
                </a:cubicBezTo>
                <a:cubicBezTo>
                  <a:pt x="3533" y="11321"/>
                  <a:pt x="3517" y="11376"/>
                  <a:pt x="3497" y="11435"/>
                </a:cubicBezTo>
                <a:cubicBezTo>
                  <a:pt x="3489" y="11452"/>
                  <a:pt x="3481" y="11468"/>
                  <a:pt x="3473" y="11485"/>
                </a:cubicBezTo>
              </a:path>
              <a:path w="1564" h="1490">
                <a:moveTo>
                  <a:pt x="2902" y="11782"/>
                </a:moveTo>
                <a:cubicBezTo>
                  <a:pt x="2938" y="11842"/>
                  <a:pt x="2927" y="11907"/>
                  <a:pt x="2927" y="11981"/>
                </a:cubicBezTo>
                <a:cubicBezTo>
                  <a:pt x="2927" y="12055"/>
                  <a:pt x="2948" y="12109"/>
                  <a:pt x="2952" y="12179"/>
                </a:cubicBezTo>
                <a:cubicBezTo>
                  <a:pt x="2953" y="12202"/>
                  <a:pt x="2957" y="12346"/>
                  <a:pt x="2977" y="12353"/>
                </a:cubicBezTo>
                <a:cubicBezTo>
                  <a:pt x="2985" y="12345"/>
                  <a:pt x="2993" y="12336"/>
                  <a:pt x="3001" y="12328"/>
                </a:cubicBezTo>
              </a:path>
              <a:path w="1564" h="1490">
                <a:moveTo>
                  <a:pt x="2877" y="11534"/>
                </a:moveTo>
                <a:cubicBezTo>
                  <a:pt x="2849" y="11583"/>
                  <a:pt x="2836" y="11654"/>
                  <a:pt x="2927" y="11633"/>
                </a:cubicBezTo>
                <a:cubicBezTo>
                  <a:pt x="2944" y="11625"/>
                  <a:pt x="2960" y="11617"/>
                  <a:pt x="2977" y="11609"/>
                </a:cubicBezTo>
                <a:cubicBezTo>
                  <a:pt x="2945" y="11533"/>
                  <a:pt x="2920" y="11534"/>
                  <a:pt x="2828" y="115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Ink 6"/>
          <p:cNvSpPr/>
          <p:nvPr/>
        </p:nvSpPr>
        <p:spPr>
          <a:xfrm>
            <a:off x="1652760" y="3625920"/>
            <a:ext cx="231480" cy="1071360"/>
          </a:xfrm>
          <a:custGeom>
            <a:avLst/>
            <a:gdLst/>
            <a:ahLst/>
            <a:rect l="l" t="t" r="r" b="b"/>
            <a:pathLst>
              <a:path w="646" h="2977">
                <a:moveTo>
                  <a:pt x="4911" y="10220"/>
                </a:moveTo>
                <a:cubicBezTo>
                  <a:pt x="4944" y="10316"/>
                  <a:pt x="4958" y="10413"/>
                  <a:pt x="4961" y="10517"/>
                </a:cubicBezTo>
                <a:cubicBezTo>
                  <a:pt x="4968" y="10727"/>
                  <a:pt x="4958" y="10932"/>
                  <a:pt x="4986" y="11137"/>
                </a:cubicBezTo>
                <a:cubicBezTo>
                  <a:pt x="4999" y="11232"/>
                  <a:pt x="4986" y="11339"/>
                  <a:pt x="4986" y="11435"/>
                </a:cubicBezTo>
              </a:path>
              <a:path w="646" h="2977">
                <a:moveTo>
                  <a:pt x="4589" y="10418"/>
                </a:moveTo>
                <a:cubicBezTo>
                  <a:pt x="4617" y="10369"/>
                  <a:pt x="4671" y="10301"/>
                  <a:pt x="4713" y="10269"/>
                </a:cubicBezTo>
                <a:cubicBezTo>
                  <a:pt x="4753" y="10239"/>
                  <a:pt x="4775" y="10191"/>
                  <a:pt x="4812" y="10145"/>
                </a:cubicBezTo>
                <a:cubicBezTo>
                  <a:pt x="4895" y="10043"/>
                  <a:pt x="4857" y="10086"/>
                  <a:pt x="4961" y="10120"/>
                </a:cubicBezTo>
                <a:cubicBezTo>
                  <a:pt x="5029" y="10142"/>
                  <a:pt x="5057" y="10168"/>
                  <a:pt x="5110" y="10195"/>
                </a:cubicBezTo>
                <a:cubicBezTo>
                  <a:pt x="5166" y="10224"/>
                  <a:pt x="5188" y="10259"/>
                  <a:pt x="5234" y="10294"/>
                </a:cubicBezTo>
              </a:path>
              <a:path w="646" h="2977">
                <a:moveTo>
                  <a:pt x="5159" y="12030"/>
                </a:moveTo>
                <a:cubicBezTo>
                  <a:pt x="5169" y="12109"/>
                  <a:pt x="5184" y="12170"/>
                  <a:pt x="5184" y="12254"/>
                </a:cubicBezTo>
                <a:cubicBezTo>
                  <a:pt x="5184" y="12373"/>
                  <a:pt x="5222" y="12484"/>
                  <a:pt x="5234" y="12601"/>
                </a:cubicBezTo>
                <a:cubicBezTo>
                  <a:pt x="5244" y="12699"/>
                  <a:pt x="5232" y="12805"/>
                  <a:pt x="5209" y="12898"/>
                </a:cubicBezTo>
                <a:cubicBezTo>
                  <a:pt x="5197" y="12944"/>
                  <a:pt x="5127" y="13050"/>
                  <a:pt x="5060" y="13047"/>
                </a:cubicBezTo>
                <a:cubicBezTo>
                  <a:pt x="4980" y="13043"/>
                  <a:pt x="4916" y="12965"/>
                  <a:pt x="4887" y="12898"/>
                </a:cubicBezTo>
                <a:cubicBezTo>
                  <a:pt x="4840" y="12789"/>
                  <a:pt x="4843" y="12722"/>
                  <a:pt x="4837" y="12601"/>
                </a:cubicBezTo>
              </a:path>
              <a:path w="646" h="2977">
                <a:moveTo>
                  <a:pt x="5085" y="11683"/>
                </a:moveTo>
                <a:cubicBezTo>
                  <a:pt x="5052" y="11741"/>
                  <a:pt x="5044" y="11745"/>
                  <a:pt x="5035" y="11807"/>
                </a:cubicBezTo>
                <a:cubicBezTo>
                  <a:pt x="5103" y="11848"/>
                  <a:pt x="5142" y="11827"/>
                  <a:pt x="5209" y="11782"/>
                </a:cubicBezTo>
                <a:cubicBezTo>
                  <a:pt x="5150" y="11742"/>
                  <a:pt x="5107" y="11733"/>
                  <a:pt x="5035" y="117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2:53:30Z</dcterms:created>
  <dc:creator>jnewman</dc:creator>
  <dc:description/>
  <dc:language>en-US</dc:language>
  <cp:lastModifiedBy>abeason</cp:lastModifiedBy>
  <dcterms:modified xsi:type="dcterms:W3CDTF">2010-02-03T15:32:46Z</dcterms:modified>
  <cp:revision>10</cp:revision>
  <dc:subject/>
  <dc:title>Lesson 6.3 part three</dc:title>
</cp:coreProperties>
</file>